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4AA-D107-4AE9-AF8F-D4AFC511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596-44A7-4539-8399-0B63A117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B24-90BE-4F4F-84FD-3FA7EC63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23A-27FA-4E60-B325-6B8BA5A3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419E-A3BA-402F-AB48-0AC8C485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F4A3-DCAB-4DFB-AD8F-905B2D81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6975-53F1-4C99-8F87-62BBEE6C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C488-FBF1-4AE1-88B8-4EDCB2BF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B27E-5160-4313-A23A-7E4F8CE9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51B6-A59E-4150-91A3-9B9A22C7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D139-AA29-444C-A1FA-BA1687D3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41E-110D-43FD-A004-05E441ED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1CF8-D2F3-4B5D-8495-70589A10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405E-59F2-4461-A9C1-3FC5BDF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C973-DCCC-49EB-AB34-328DBB64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3E43-19E2-4AA3-A9A2-3FF761CC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1397-1CE2-436D-97E5-C0A4E52A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7B8-A2FB-4DBA-98DE-E7A4C321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AF0-A9D7-45CA-8DCB-FF6B9BEA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BF5-D7DE-46BD-938A-4169CF42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567-56E1-408E-85FE-930EF46C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BC0-0F75-4F1D-A0F3-0AC68263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F0E-8F93-4FA3-8400-337B12FC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C38-743E-4B31-B9ED-D18D18D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1AB7-9ADD-4E8E-A5FC-B5AA8717D47C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2850-9F71-4E3E-9C5B-ABE0E2EE0EFD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1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방법론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Multi-level Morphology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표층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| &lt;---- 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변형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중간층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| &lt;---- 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변형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중간층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.....     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| &lt;---- 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변형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1DE-D57A-4C82-B7D9-BD4DD19BCB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방법론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변형 생성 문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Two-level morpholog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Syllable-based morpholog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Multi-level morpholog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28A-9F9E-4364-A721-937DEBBE64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변형 생성 문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휘형 </a:t>
            </a:r>
            <a:r>
              <a:rPr b="0" lang="ko-KR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변형규칙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1 </a:t>
            </a:r>
            <a:r>
              <a:rPr b="0" lang="ko-KR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변형규칙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2 </a:t>
            </a:r>
            <a:r>
              <a:rPr b="0" lang="ko-KR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...... </a:t>
            </a:r>
            <a:r>
              <a:rPr b="0" lang="ko-KR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변형규칙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n </a:t>
            </a:r>
            <a:r>
              <a:rPr b="0" lang="ko-KR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표층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|            |            |         |            |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|            |            |         |            |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어휘층       중간층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1 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중간층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2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중간층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n-1     </a:t>
            </a:r>
            <a:r>
              <a:rPr b="0" lang="ko-KR" sz="1800" spc="-1" strike="noStrike">
                <a:solidFill>
                  <a:srgbClr val="000099"/>
                </a:solidFill>
                <a:latin typeface="굴림체"/>
                <a:ea typeface="굴림체"/>
              </a:rPr>
              <a:t>표면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6E9-9DD3-4851-B87D-20CC164BD3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신명조"/>
                <a:ea typeface="신명조"/>
              </a:rPr>
              <a:t>‘</a:t>
            </a:r>
            <a:r>
              <a:rPr b="1" i="1" lang="zh-CN" sz="3600" spc="-1" strike="noStrike">
                <a:solidFill>
                  <a:srgbClr val="cd0355"/>
                </a:solidFill>
                <a:latin typeface="신명조"/>
                <a:ea typeface="신명조"/>
              </a:rPr>
              <a:t>봄비’의 음운론적 변형 과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봄비  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pom # p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pom + pi    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경계 약화 규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pom t pi     t-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삽입 규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pomt&gt;pi     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애음 불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pomt&gt;p'i    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장애음 불파 후의 경음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pomp'i      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자음군 단순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[pomp'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9C6-77F2-42E2-9418-593CC3FD80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Two-level Model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lvl="2" marL="99864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 합성규칙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 표층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어휘층                  표면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M = (R, F, 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R : Two-level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F : Finite State Transduc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D : trie 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구조의 형태소 사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D99-0A49-4AE3-98BB-9923F298C8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‘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studies’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분석 과정 예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4000"/>
          </a:bodyPr>
          <a:p>
            <a:pPr marL="311760" indent="-31176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동사의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3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인칭 단수형을 처리하는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FST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를 이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1760" indent="-31176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입력 문자열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studies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를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trie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사전과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s, t, u, d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까지 왼쪽에서부터 순서대로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string mat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1760" indent="-31176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i, e, s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라는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string context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에서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FST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는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y, +, s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로 변환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study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라는 형태소와 동사의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3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인칭 단수형 접미사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s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를 인식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'+'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기호는 형태소의 경계 표시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1760" indent="-31176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입력 문자열에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two-level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규칙을 병렬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-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하향식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top-down and parallel)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으로 적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1760" indent="-31176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가능한 분석 후보들을 생성하여 어휘형과 표층형이 일치되는 어휘형을 분석 결과로 선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1760" indent="-31176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Two-level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규칙을 처리하는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rule-based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시스템의 효율성 문제를 해결 </a:t>
            </a:r>
            <a:r>
              <a:rPr b="0" lang="ko-K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two-level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규칙을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FST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로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사전을 트라이 구조로 구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D94-1EB7-4652-ADAD-4AEC641531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Syllable-based Morphology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독일어의 움라우트와 같이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string match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만으로 기술하기 어려운 형태론적 현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Two-level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형태론을 기반으로 하나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단지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two-level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규칙을 기술할 때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string context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대신에 음절 특성 집합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(feature set)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으로 기술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String context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로 기술하기 어려운 비선형적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(non-linear)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인 음운 현상 처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BD4-DB35-45C8-9FF0-2FE632AAE1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규칙 기술 방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명조"/>
              </a:rPr>
              <a:t>[ L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명조"/>
              </a:rPr>
              <a:t>  R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 : C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&lt;stem, +1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단어의 첫번째 음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&lt;rhyme, -1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마지막 음절의 각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&lt;coda, +1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첫번째 음절의 종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&lt;coda, +1&gt;  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신명조"/>
              </a:rPr>
              <a:t>&lt;coda, +1&gt;  [voiced, +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0A9-53AC-478B-9B9A-9F029C98E0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굴림체"/>
                <a:ea typeface="굴림체"/>
              </a:rPr>
              <a:t>‘</a:t>
            </a:r>
            <a:r>
              <a:rPr b="1" i="1" lang="zh-CN" sz="3600" spc="-1" strike="noStrike">
                <a:solidFill>
                  <a:srgbClr val="cd0355"/>
                </a:solidFill>
                <a:latin typeface="굴림체"/>
                <a:ea typeface="굴림체"/>
              </a:rPr>
              <a:t>ㅂ’ 불규칙 현상의 이층 규칙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lvl="2" marL="998640" indent="0" algn="just">
              <a:lnSpc>
                <a:spcPct val="100000"/>
              </a:lnSpc>
              <a:spcBef>
                <a:spcPts val="825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운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   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 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ㅂ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ㄴ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우니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 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ㅂ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으니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워서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 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ㅂ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서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워서는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ㅂ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서는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워지고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ㅂ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지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고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워져서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ㅂ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지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서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워졌다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 -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ㅂ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어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지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었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 algn="just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체"/>
                <a:ea typeface="굴림체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85D-0636-45BA-8A13-5A74C3AF56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2T14:30:55Z</dcterms:modified>
  <cp:revision>28</cp:revision>
  <dc:subject/>
  <dc:title>한국어 정보처리 개요</dc:title>
</cp:coreProperties>
</file>