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2AA-96B7-4BFD-B9A8-16439CE7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60B-8A6D-4769-ABAF-68BC8795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031-4259-4A61-A4FD-3D906B01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263-B656-4D54-ABD8-50A65803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0584-9389-4F3D-82AD-1AA38C1D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06FD-1F42-443B-BAF6-DE67EB8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0E18-C8B9-4E2F-9A15-869126E3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44F1-3808-424E-946E-03D230B7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FB72-C46C-4EF6-BFB5-22E49B9C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2766-4AA2-4C75-A1F8-1E16057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A8EB-7A30-4E6E-87CD-75567F8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9F4-3988-43D3-AEC7-8B6CCB4C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EFA0-A396-4183-A647-B237703C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AF0D-A8F3-47E0-AABD-E9F3DB4B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5F1F-7100-4146-8DF6-D1A39380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B0C-4FFA-4728-8A50-F687DF14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40D-1F28-48DF-977C-309EFAB1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C1F-12AD-4ECD-8256-8C22D625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D8C-65BA-42EC-9198-C7EEE399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0F0-58FE-406E-BD30-DEAAABE6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EC7-99CE-42F8-8DE1-F9E3527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897-1001-497A-A465-8E6B2F1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C3-948D-4138-A885-B58F314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920-715B-4E18-87B9-C863B60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C51-1AE7-4581-B9A0-C8DBD239D6EF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47C1-3E08-4535-B37E-ECB15E674968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8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한국어의 음절 특성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불규칙 용언의 음절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ㄷ’ 불규칙 용언의 끝음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10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달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불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ㅅ’ 불규칙 용언의 끝음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10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자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ㅎ’ 불규칙 용언의 끝음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10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간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단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먼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대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때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매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ㅂ’ 불규칙 용언의 끝음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46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갑 겁 겹 곱 굽 깁 깝 껍 꼽 납 냅 눕 답 덥 돕 둡 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떱 랍 럽 렵 롭 립 맙 맵 밉 볍 섧 섭 쉽 습 쑵 업 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옵 잡 접 줍 짭 쩝 쫍 쭙 춥 탑 텁 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DCB-3930-44BC-9044-8F805E31B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기타 음절 특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용언의 활용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모음 ‘ㅡ’로 끝나는 용언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‘으’ 탈락 용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그 끄 느 뜨 르 쁘 쓰 으 크 트 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르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러’ 불규칙 용언 </a:t>
            </a:r>
            <a:r>
              <a:rPr b="0" lang="ko-K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 ‘르’로 끝나는 용언 중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 불규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8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 불규칙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193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러’ 모두 적용되는 용언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르다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르’로 끝나는 용언 중 ‘으’ 탈락 해당 용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다르다 뒤따르다 들르다 따르다 붙따르다 우러르다 잇따르다 치르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ㄹ’ 탈락 용언의 끝음절 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60</a:t>
            </a: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개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BAF-EBE0-4C38-AC50-FD2FC8E05E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기타 음절 특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‘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아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/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’ 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모음 ‘ㅏ’로 끝나는 용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바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빠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아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카’로 끝나는 것은 없음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모음 ‘ㅓ’로 끝나는 용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너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서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써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건너서’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건너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서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이르러서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 ‘이르러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서’ 가능성 배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우’ 불규칙 용언 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: ‘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푸다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ㅐ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ㅔ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ㅗ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ㅜ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ㅣ’로 끝나는 용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해’로 끝나는 용언 없음 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~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해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가능성 배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께’ 로 끝나는 용언 없음 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: ‘~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에</a:t>
            </a:r>
            <a:r>
              <a:rPr b="0" lang="en-US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-’ + ‘-</a:t>
            </a:r>
            <a:r>
              <a:rPr b="0" lang="zh-CN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’ 가능성 배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08B-2729-4E72-9ED6-B127F25927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의 음절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형태소 분석을 위한 음절 특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 algn="just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미의 첫 음절 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조사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어미의 두 번째 이하 음절 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 algn="just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각 불규칙 용언의 끝음절 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5E9-E502-4A2E-B578-1CE47039A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의 음절 특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단위 음절 특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음절 자체에 부여되는 특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어떤 음절이 문법형태소에 사용될 수 있다거나 용언의 표층형으로만 사용되는 것과 같은 특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부분 음절 특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단위 음절 특성의 하위 특성으로 음절을 구성하는 초성이나 중성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종성에 대하여 부여되는 특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ㄴ데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-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ㅂ니다’ 등과 같이 음절을 분할해야 하거나 ‘ㅏ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ㅓ’에 따라 모음조화를 검사해야 할 때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연속 음절 특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체"/>
                <a:ea typeface="굴림체"/>
              </a:rPr>
              <a:t>두 개 이상의 연속된 음절에 대하여 부여되는 특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4F6-870D-45F5-A7A1-EC1428E56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굴림체"/>
                <a:ea typeface="굴림체"/>
              </a:rPr>
              <a:t>음절 특성 함수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음절 특성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를 갖는 음절 집합을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s</a:t>
            </a:r>
            <a:r>
              <a:rPr b="0" i="1" lang="ko-KR" sz="2800" spc="-1" strike="noStrike" baseline="-25000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라 할 때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	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s</a:t>
            </a:r>
            <a:r>
              <a:rPr b="0" i="1" lang="ko-KR" sz="2800" spc="-1" strike="noStrike" baseline="-25000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 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= {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x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 |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x</a:t>
            </a: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는 음절 특성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r>
              <a:rPr b="0" lang="ko-KR" sz="2800" spc="-1" strike="noStrike">
                <a:solidFill>
                  <a:srgbClr val="000099"/>
                </a:solidFill>
                <a:latin typeface="신명조"/>
                <a:ea typeface="신명조"/>
              </a:rPr>
              <a:t>를 갖는 음절 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	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C</a:t>
            </a:r>
            <a:r>
              <a:rPr b="0" i="1" lang="ko-KR" sz="2800" spc="-1" strike="noStrike" baseline="-25000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 (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x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)  =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신명조"/>
              </a:rPr>
              <a:t>	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1,  if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x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 </a:t>
            </a:r>
            <a:r>
              <a:rPr b="0" lang="ko-KR" sz="2800" spc="-1" strike="noStrike">
                <a:solidFill>
                  <a:srgbClr val="000099"/>
                </a:solidFill>
                <a:latin typeface="명조"/>
                <a:ea typeface="명조"/>
              </a:rPr>
              <a:t>∈ </a:t>
            </a:r>
            <a:r>
              <a:rPr b="0" i="1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s</a:t>
            </a:r>
            <a:r>
              <a:rPr b="0" i="1" lang="ko-KR" sz="2800" spc="-1" strike="noStrike" baseline="-25000">
                <a:solidFill>
                  <a:srgbClr val="000099"/>
                </a:solidFill>
                <a:latin typeface="½Å¸íÁ¶"/>
                <a:ea typeface="신명조"/>
              </a:rPr>
              <a:t>i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	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	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	</a:t>
            </a:r>
            <a:r>
              <a:rPr b="0" lang="ko-KR" sz="2800" spc="-1" strike="noStrike">
                <a:solidFill>
                  <a:srgbClr val="000099"/>
                </a:solidFill>
                <a:latin typeface="½Å¸íÁ¶"/>
                <a:ea typeface="명조"/>
              </a:rPr>
              <a:t>0,  otherwi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CF4-A5E4-491F-966D-29F24725C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휘 형태소의 음절 길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국어 사전 표제어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101,601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44.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36.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13.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2.8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이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0.0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87B-F5BD-4BB2-ADEA-7A847A075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의 음절 길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국어 사전 표제어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84,647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49.5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36.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10.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2.0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이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0.0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E48-CC29-478A-BFB4-DF61954A7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용언의 음절 길이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국어 사전 표제어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11,139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3.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20.5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41.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25.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9.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음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0.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84D-B8CF-46D2-9826-D549F8498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의 음절 특성 예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조사 분리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체언은 조사 ‘은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는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을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를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/…’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과 결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108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를’로 끝나는 체언은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?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없음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108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을’로 끝나는 체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30000"/>
              </a:lnSpc>
              <a:spcBef>
                <a:spcPts val="108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갑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넨장맞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노갑이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노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30000"/>
              </a:lnSpc>
              <a:spcBef>
                <a:spcPts val="108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리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빌어먹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젠장맞을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900" spc="-1" strike="noStrike">
                <a:solidFill>
                  <a:srgbClr val="000000"/>
                </a:solidFill>
                <a:latin typeface="굴림체"/>
                <a:ea typeface="굴림체"/>
              </a:rPr>
              <a:t>태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108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714-3BF3-442E-8307-3879D1982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용언의 음절 특성 예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미 분리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용언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+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어말어미의 경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음절 분해 ‘ㄴ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ㄹ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ㅁ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ㄹ’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가’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+ 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ㅂ니다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‘</a:t>
            </a:r>
            <a:r>
              <a:rPr b="0" lang="ko-KR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ㄴ’으로 끝나는 용언의 끝음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안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논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신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문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거머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곧추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그러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껴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끌어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논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덧신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문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부둥켜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붙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신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얼싸안다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체"/>
                <a:ea typeface="굴림체"/>
              </a:rPr>
              <a:t>지르신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196-E350-4003-AC84-9B6E18D6A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12:58:04Z</dcterms:modified>
  <cp:revision>27</cp:revision>
  <dc:subject/>
  <dc:title>한국어 정보처리 개요</dc:title>
</cp:coreProperties>
</file>