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D9A-0919-4EC7-A9D7-B1178F7F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D3C-E5F6-4780-B89D-D829F816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9B3-FF2E-45FE-9866-DFC14B5A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67C-ED23-4199-83D4-E50907BA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DE8A-B0D7-43B5-9216-AB3DFB1C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5C8A-B64C-4199-A5F2-6306C272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6A9D-E789-42D6-96A9-989C974F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53B0-5C3E-4F69-81F6-DFC62F88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7DA5-90A1-4426-9E1F-5EDEB875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CF69-EA22-499A-A04F-2536AFA6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6577-508F-49EF-B0C5-A3959921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F52-0431-401C-9A80-E36C8950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80A2-0684-4424-8C9B-1BA0347B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67F8-89BB-4704-A99C-667B5A49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15E3-BA40-4B3A-A7A4-2C23B0AF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EB16-68BE-42C8-A5A7-621C6DAE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CE80-CF73-48A4-8FB6-5F29E531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CA4-87B2-41D1-A632-6B3A5E99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59C-C5F3-4262-8182-49C45B3F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58B-7FF8-4E85-8785-E0D7B57F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13E-8CC7-4AB0-8BD0-066D258B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34C-B930-4EDF-BAD0-1C7125BC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765-441E-4379-BD4E-767CA008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F0C-E5C9-4435-AD45-45E4CF36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CAEF-92A1-4A3D-96EE-9A830AFCDEC9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B956-304B-4CFF-BD3A-20A9FC8A6008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10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기의 구조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자연언어의 다양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30000"/>
              </a:lnSpc>
              <a:spcBef>
                <a:spcPts val="1749"/>
              </a:spcBef>
              <a:spcAft>
                <a:spcPts val="601"/>
              </a:spcAft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우리의 일을 매듭지어 놓은 것은 </a:t>
            </a:r>
            <a:r>
              <a:rPr b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서류상으로이다</a:t>
            </a:r>
            <a:r>
              <a:rPr b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서류상으로다</a:t>
            </a:r>
            <a:r>
              <a:rPr b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30000"/>
              </a:lnSpc>
              <a:spcBef>
                <a:spcPts val="17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철수가 영희를 만난 것은 학교에 </a:t>
            </a:r>
            <a:r>
              <a:rPr b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가다가이다</a:t>
            </a:r>
            <a:r>
              <a:rPr b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가다가다</a:t>
            </a:r>
            <a:r>
              <a:rPr b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?)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30000"/>
              </a:lnSpc>
              <a:spcBef>
                <a:spcPts val="17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…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태아를 보호하기 </a:t>
            </a:r>
            <a:r>
              <a:rPr b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위해서이다</a:t>
            </a:r>
            <a:r>
              <a:rPr b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(</a:t>
            </a:r>
            <a:r>
              <a:rPr b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위해서다</a:t>
            </a:r>
            <a:r>
              <a:rPr b="1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)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30000"/>
              </a:lnSpc>
              <a:spcBef>
                <a:spcPts val="17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가까 </a:t>
            </a:r>
            <a:r>
              <a:rPr b="0" lang="ko-KR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 가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+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ㄹ까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,  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오까 </a:t>
            </a:r>
            <a:r>
              <a:rPr b="0" lang="ko-KR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 오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+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ㄹ까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A1F-1489-4AC3-B187-A486C5E329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오류 유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25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미분석 오류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분석 실패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25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과분석 오류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: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오분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25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분석 결과의 적합성 오류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접두사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접미사 분리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품사 세분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25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중의성 해결 오류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25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복합명사 분해 오류 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EDA-DA70-4C8C-B56C-6FE8F57FF3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일반적인 형태소 분석 과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533520" indent="-533520">
              <a:spcBef>
                <a:spcPts val="1049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전처리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1049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분석 후보 생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1049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결합 제약 검사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1049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분석 후보 선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1049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후처리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사전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형태론적 변형 규칙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결합 제약 규칙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2BA-2A4A-4463-B845-52C68C0D47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Two-level Model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어휘형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 합성규칙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 표층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어휘층                  표면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448B-1CBE-4D41-96AC-A90E4A14B9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Multi-level Model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7000"/>
          </a:bodyPr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표층형           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사랑스러웠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| &lt;------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 분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중간층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1            :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사랑스러웠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| &lt;------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선어말어미 분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중간층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2            :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사랑스러우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| &lt;------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불규칙 원형 복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중간층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3            :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사랑스럽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| &lt;------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접미사 분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 algn="just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형           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사랑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스럽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ㅆ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826-99CD-43B3-B279-C749E967B5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입력 어절의 유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25080" indent="-325080" algn="just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휘형태소의 유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0160" indent="-21276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유형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1.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단일 형태소인 경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유형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2.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형태소가 체언인 경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유형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3.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형태소가 용언인 경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유형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4.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형태소가 복합명사인 경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유형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5.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준말인 경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유형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6.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숫자나 영문자가 포함된 경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유형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7.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휘형태소가 사전에 수록되지 않은 경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 algn="just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문법형태소의 유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0160" indent="-21276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문법유형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1.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조사 혹은 어미만 결합된 경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문법유형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2.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선어말어미가 결합된 경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문법유형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3.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미에 변형이 일어난 경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문법유형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4.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서술격 조사가 생략된 경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문법유형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5.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접미사 또는 접두사가 결합된 경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160" indent="-212760" algn="just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문법유형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6.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보조용언을 붙여쓴 경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A69-5C02-4043-93DE-AF8948E4E1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기의 기능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5000"/>
          </a:bodyPr>
          <a:p>
            <a:pPr marL="315000" indent="-31500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조사와 어말어미의 분리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말어미의 변이체도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5000" indent="-31500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생략된 서술격 조사 복원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5000" indent="-31500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선어말어미의 분리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(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어말어미가 발견된 경우에만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5000" indent="-31500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접미사 분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5000" indent="-31500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불규칙 원형 복원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5000" indent="-31500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붙여쓰기가 허용되는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1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음절 체언과 보조용언 처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5000" indent="-31500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준말 처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5000" indent="-31500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복합어 추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5000" indent="-31500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미등록어 추정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5000" indent="-31500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영문자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숫자 처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5000" indent="-31500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수사 처리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5000" indent="-315000" algn="just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사전 탐색 기능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762-5B0F-444A-B897-4BB1B56314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결합 제약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어미 사이의 결합 제약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체언과 조사의 결합 제약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용언과 어미의 결합 제약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인명과 조사의 결합 제약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접미사의 결합 제약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매개모음이 삽입되는 조사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어미의 결합 제약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모음조화를 따르는 어미의 결합 제약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F07-266B-44AE-ABC8-4C786F101F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미등록어 추정 경험 규칙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① 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세 개 이상의 형태소로 분리된 후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② 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용언보다 체언으로 분석된 후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즉</a:t>
            </a: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조사가 분리된 후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③ 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두 음절 이상의 어미가 분리된 후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④ 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어휘형태소 부분이 길이가 짧은 것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⑤ </a:t>
            </a: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체언 후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87A-8DC5-4EF1-AAE5-542B43845D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의 어려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40000"/>
              </a:lnSpc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고유명사</a:t>
            </a:r>
            <a:r>
              <a:rPr b="0" lang="en-US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, </a:t>
            </a:r>
            <a:r>
              <a:rPr b="0" lang="zh-CN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신조어 문제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4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이름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복합명사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외래어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사전에 수록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40000"/>
              </a:lnSpc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형태론적 중의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4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 이상의 분석 결과 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: 1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개 선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40000"/>
              </a:lnSpc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접두사</a:t>
            </a:r>
            <a:r>
              <a:rPr b="0" lang="en-US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, </a:t>
            </a:r>
            <a:r>
              <a:rPr b="0" lang="zh-CN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접미사 분리 문제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4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)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전체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적’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구체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화’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형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성’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14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 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대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동강’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흥부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’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철수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6EF-E8C9-44A1-BD55-F643AA14BF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8-01T09:24:17Z</dcterms:modified>
  <cp:revision>27</cp:revision>
  <dc:subject/>
  <dc:title>한국어 정보처리 개요</dc:title>
</cp:coreProperties>
</file>