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F2F-C4DB-490E-B87F-AC498459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8BE-D9CC-4A44-A5AA-DF03B3EF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1FB-709D-42BA-AE2F-3A155729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59D-C19F-4D44-9C5F-4C13549A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E5BA-43E0-42EB-BD07-73F18E6D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5271-5D47-4D44-912E-70AC0141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FBD6-1586-4AE3-A295-106A1E7C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F41-B7E0-46DA-BB1F-E98C8249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E9D4-8C54-4DF1-894A-05B69F3F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5464-CD2F-46AB-8469-AEF83CC5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7F4B-AC19-47EE-A5D3-2035FF8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C32-52B0-4EC9-ABD6-74E385D5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ABAC-0BC5-4426-BBA1-349689CF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F13B-3C16-48DC-993D-EBBADD1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EFB1-FE1A-434A-B679-6E03730C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2573-B10C-41E0-A0FA-7E7DC2AA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66DE-949A-44A7-A32B-9AAF474D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6F7-CCD8-4935-81F3-36427778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20B-425C-4A1E-97EC-3C7FBF0E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15F-204C-4198-AE8E-6F535C16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8487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A2F-1802-4B3D-8DD3-39DF899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A59-2C8C-48F4-8CC1-20B31B40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781-F471-4E51-954C-2F16F75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588-A174-456A-A1C4-4EDFFC03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BB53-E546-48CC-8DDD-05C2798FFF86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1F8F-527F-46F5-977E-0257E5DE8C03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4000" spc="-1" strike="noStrike">
                <a:solidFill>
                  <a:srgbClr val="cd0355"/>
                </a:solidFill>
                <a:latin typeface="Arial"/>
                <a:ea typeface="굴림"/>
              </a:rPr>
              <a:t>7. </a:t>
            </a:r>
            <a:r>
              <a:rPr b="1" i="1" lang="zh-CN" sz="4000" spc="-1" strike="noStrike">
                <a:solidFill>
                  <a:srgbClr val="cd0355"/>
                </a:solidFill>
                <a:latin typeface="Arial"/>
                <a:ea typeface="굴림"/>
              </a:rPr>
              <a:t>품사 체계와 어절 유형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7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월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 강승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축약된 어절 유형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14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가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N1. PTN_N   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* N/PN/NM/XN/CN/UN/AS/HJ/ET */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N2. PTN_NJ  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N3. PTN_NSM 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N4. PTN_NSMJ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N5. PTN_NSMXM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N6. PTN_NJCM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에서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부터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에서부터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V1. PTN_VM  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V2. PTN_VMJ 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V3. PTN_VMCM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V4. PTN_VMXM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V5. PTN_VMXMJ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A1. PTN_AID 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단일어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    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부사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관형사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감탄사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A2. PTN_ADVJ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부사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*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빨리도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X1. PTN_NVM     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동사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미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* ‘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밥먹다’ </a:t>
            </a:r>
            <a:r>
              <a:rPr b="1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0A6-E147-4DF5-AA00-2BDE38B6A2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절 형성 전이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2120" y="1371600"/>
            <a:ext cx="7696080" cy="4724280"/>
            <a:chOff x="762120" y="1371600"/>
            <a:chExt cx="7696080" cy="47242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769608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762120" y="1371600"/>
              <a:ext cx="7696080" cy="47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31920" indent="-331920">
                <a:lnSpc>
                  <a:spcPct val="100000"/>
                </a:lnSpc>
                <a:spcBef>
                  <a:spcPts val="1049"/>
                </a:spcBef>
                <a:buClr>
                  <a:srgbClr val="000099"/>
                </a:buClr>
                <a:buSzPct val="70000"/>
                <a:buFont typeface="Wingdings" charset="2"/>
                <a:buChar char=""/>
                <a:tabLst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BD0-48DB-42E4-A14B-BCAD8A0746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품사 분류 기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의미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(semantics),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(function),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형식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(form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자립성 여부에 따라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체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용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부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관형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감탄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의존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3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활용 여부에 따라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불변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가변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용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술격 조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139-A8A9-4DEC-8B47-B4B50FA2D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의 품사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남기심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(1986)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체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명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대명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수사용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동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형용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수식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관형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독립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감탄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관계언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굴림"/>
              </a:rPr>
              <a:t>참고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&gt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의존 명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보조 동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보조 형용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320" indent="-210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어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접사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4A5-3E64-47D7-BA47-FC3D096B6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형태소 분석을 위한 품사 체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1143000"/>
          <a:ext cx="769644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76964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999-FF52-40BB-9C85-0D274D30FD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어절 유형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체언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. PTN_AID 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단일어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(ADV/INT/DET)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*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부사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관형사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감탄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*/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. PTN_N   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(N/PN/NM/XN/CN/UN/AN/HJ/E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3. PTN_NJ  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4. PTN_NS  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접미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5. PTN_NSJ 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6. PTN_NSM 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7. PTN_NSFM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8. PTN_NSMJ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9. PTN_NSFMJ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0. PTN_NCM 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1. PTN_NCFM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2. PTN_NCMJ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3. PTN_NCFMJ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7C5-A11D-46CB-A2AF-183AA8821B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어절 유형 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체언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4. PTN_NSCM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5. PTN_NSCFM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6. PTN_NSCMJ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7. PTN_NSCFMJ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8. PTN_NSMXM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19. PTN_NSMXFM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0. PTN_NJCM 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에서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부터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에서부터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1. PTN_NJCFM   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에서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부터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에서부터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DFA-7497-47E0-91DE-CD4CC8E30F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어절 유형 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용언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2. PTN_VM   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3. PTN_VFM  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4. PTN_VMJ  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5. PTN_VFMJ 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6. PTN_VMCM 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7. PTN_VMCFM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8. PTN_VMXM 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29. PTN_VMXFM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30. PTN_VMXMJ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31. PTN_VMXMJ   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아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어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보조용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en-US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zh-CN" sz="16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C1E-BA3A-4332-8C30-3952E242F9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어절 유형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기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724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32. PTN_ADVJ   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부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	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/*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빨리도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?*/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33. PTN_CNOUNJ 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복합명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34. PTN_CNOUNSJ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복합명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접미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35. PTN_CNOUNSM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복합명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36. PTN_CNOUNCM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복합명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37. PTN_CNOUNSCM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복합명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38. PTN_CNOUNSFM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복합명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39. PTN_ASC_J    Ascii 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0. PTN_ASC_CM   Ascii 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1. PTN_ASC_CMJ  Ascii 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2. PTN_ASC_CFM  Ascii 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기’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3. PTN_ASC_CFMJ Ascii 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이’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기’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4. PTN_ASC_SM   Ascii 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5. PTN_ASC_SMJ  Ascii 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6. PTN_ASC_SFM  Ascii 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7. PTN_ASC_SFMJ Ascii 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용언화접미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‘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ㅁ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/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기’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8. PTN_NVM    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동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49. PTN_NVFM   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체언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동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선어말어미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어말어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50. PTN_NK_J   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미등록명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51. PTN_NK_S   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미등록명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접미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21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52. PTN_NK_SJ   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미등록명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접미사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+ </a:t>
            </a:r>
            <a:r>
              <a:rPr b="0" lang="ko-KR" sz="1400" spc="-1" strike="noStrike">
                <a:solidFill>
                  <a:srgbClr val="000099"/>
                </a:solidFill>
                <a:latin typeface="바탕체"/>
                <a:ea typeface="바탕체"/>
              </a:rPr>
              <a:t>조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6EE-4B87-40F3-A230-845967C06D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8487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절 유형의 축약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533520" indent="-533520">
              <a:lnSpc>
                <a:spcPct val="16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체언에서 접두사와 체언접미사는 체언부로 포함시키고 체언부에는 해당 정보를 부여한다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lnSpc>
                <a:spcPct val="16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서술격 조사 ‘이다’는 용언화 접미사로 간주한다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lnSpc>
                <a:spcPct val="16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선어말어미와 어말어미를 어미부로 통합한다</a:t>
            </a:r>
            <a:r>
              <a:rPr b="0" lang="en-US" sz="2400" spc="-1" strike="noStrike">
                <a:solidFill>
                  <a:srgbClr val="000099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A9A-F9A2-4EF3-8336-95C76C23BD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0:06:18Z</dcterms:created>
  <dc:creator>강승식</dc:creator>
  <dc:description/>
  <dc:language>en-US</dc:language>
  <cp:lastModifiedBy>강승식</cp:lastModifiedBy>
  <dcterms:modified xsi:type="dcterms:W3CDTF">2002-07-22T12:12:32Z</dcterms:modified>
  <cp:revision>21</cp:revision>
  <dc:subject/>
  <dc:title>한국어 정보처리 개요</dc:title>
</cp:coreProperties>
</file>