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7F1-2213-42F2-943B-F039FCCE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246-A8EB-4CB1-B767-E19D63EE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D24-C0FE-4D4D-AF13-11ED867A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627-E054-433A-95EA-49D7668F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E2D1-1A48-41EC-BD43-A0DE5136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C061-DF29-4705-B9B3-18768B5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49E7-D7B8-4A58-B850-E5AFC36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62B-03CC-45C2-A88A-49BF2299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CA43-D554-45D7-940E-63AB3703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91B0-3E6D-4399-8CBE-A1C5FF52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1F14-F608-4856-9139-8FBE8E4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E3B-0CB7-495E-9A21-2CEAD589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6802-0EAD-4D1A-9A92-6154019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777-BEF1-4566-80A2-07FAD04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FD08-619E-4769-9E72-F819E776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24F-A882-4D7C-A597-180B4B72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04FD-FC0F-41B4-A499-F3208D33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0ED-D1D2-499F-9D18-CA44CD8D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365-20D2-4995-8C25-7703FE2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14B-CE55-459B-A070-63B7E9C8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052-D8E4-4C42-8DD0-3ECFAA3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B84-9AD5-49A3-BECA-E7E51F6E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956-E4D9-49A0-9E08-C195309D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798-5A20-4BEB-87E7-8AF0CBB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6CD7-E4A6-45E7-8A48-1418E86B22F6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26C7-D4B4-4368-B749-BBD6C1F691C1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9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 형태소 분석 개요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가능한 모든 분석 결과의 생성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는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N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N:20&gt; + (j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1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IgV:18&gt; + (f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갈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T:18&gt; + (f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IT:20&gt;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5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 :100&gt;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6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 :100&gt;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1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7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 :100&gt;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1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1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8.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V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시늫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 :100&gt; + (e "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")&lt;1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7BF-EA51-479E-A3BB-C581155623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가능한 모든 분석 결과의 생성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면”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</a:t>
            </a:r>
            <a:r>
              <a:rPr b="0" lang="ko-KR" sz="2000" spc="-1" strike="noStrike">
                <a:solidFill>
                  <a:srgbClr val="ff0000"/>
                </a:solidFill>
                <a:latin typeface="굴림체"/>
                <a:ea typeface="굴림체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24&gt; + (j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라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2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</a:t>
            </a:r>
            <a:r>
              <a:rPr b="0" lang="ko-KR" sz="2000" spc="-1" strike="noStrike">
                <a:solidFill>
                  <a:srgbClr val="ff0000"/>
                </a:solidFill>
                <a:latin typeface="굴림체"/>
                <a:ea typeface="굴림체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19&gt; + (c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라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5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3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라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4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5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6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랗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7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8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s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9.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김치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 :100&gt; + (c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&gt; + (e "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")&lt;15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5000" indent="0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d60093"/>
                </a:solidFill>
                <a:latin typeface="굴림체"/>
                <a:ea typeface="굴림체"/>
              </a:rPr>
              <a:t>(N "</a:t>
            </a:r>
            <a:r>
              <a:rPr b="0" lang="ko-KR" sz="2000" spc="-1" strike="noStrike">
                <a:solidFill>
                  <a:srgbClr val="d60093"/>
                </a:solidFill>
                <a:latin typeface="굴림체"/>
                <a:ea typeface="굴림체"/>
              </a:rPr>
              <a:t>김치라면</a:t>
            </a:r>
            <a:r>
              <a:rPr b="0" lang="ko-KR" sz="2000" spc="-1" strike="noStrike">
                <a:solidFill>
                  <a:srgbClr val="d60093"/>
                </a:solidFill>
                <a:latin typeface="굴림체"/>
                <a:ea typeface="굴림체"/>
              </a:rPr>
              <a:t>")&lt; :100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0BD-8B77-4FEA-AEA9-AC1D36144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방법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5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언어 독립적 방법론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5000"/>
              </a:lnSpc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wo-level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5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사전기반 형태소 분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5000"/>
              </a:lnSpc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규칙대신 사전에 많은 정보를 수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5000"/>
              </a:lnSpc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불규칙 어간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5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 u="sng">
                <a:solidFill>
                  <a:srgbClr val="0033cc"/>
                </a:solidFill>
                <a:uFillTx/>
                <a:latin typeface="굴림체"/>
                <a:ea typeface="굴림체"/>
              </a:rPr>
              <a:t>규칙기반 형태소 분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5000"/>
              </a:lnSpc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급적 규칙으로 처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사전최소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5000"/>
              </a:lnSpc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기분석 결과의 활용</a:t>
            </a: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: </a:t>
            </a:r>
            <a:r>
              <a:rPr b="0" lang="ko-KR" sz="3200" spc="-1" strike="noStrike">
                <a:solidFill>
                  <a:srgbClr val="0033cc"/>
                </a:solidFill>
                <a:latin typeface="굴림체"/>
                <a:ea typeface="굴림체"/>
              </a:rPr>
              <a:t>고빈도 어절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D5E-B026-44BF-BFC9-EC9F17898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사전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vs.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규칙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사전 구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일반사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 사전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기분석 사전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분석 규칙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모든 형태론적 현상에 대한 분석 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모음조화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불규칙 활용 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사전 </a:t>
            </a: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or </a:t>
            </a: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규칙 </a:t>
            </a: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: </a:t>
            </a:r>
            <a:r>
              <a:rPr b="0" lang="ko-KR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구현방식만 다를 뿐이다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45F-5D90-4E2E-BAA2-BCFAB5073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개요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의 정의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6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의미가 있는 최소의 단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minimally meaningful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문법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관계적인 뜻을 나타내는 단어 또는 단어의 부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일정한 범위 안에서 쓰이는 낱말의 총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(4)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떤 갈래의 낱말을 간단한 풀이를 붙여 차례대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벌여놓은 낱말의 집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리 기준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6920" indent="-3808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사전을 기준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알뜰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명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접미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알뜰하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형용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다’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굴림체"/>
                <a:ea typeface="굴림체"/>
              </a:rPr>
              <a:t>어말어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37C-367B-4258-82A6-4F08F7FB8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ko-KR" sz="3600" spc="-1" strike="noStrike">
              <a:solidFill>
                <a:srgbClr val="cd0355"/>
              </a:solidFill>
              <a:latin typeface="Arial"/>
              <a:ea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 관련 어절 특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굴림체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 분석의 처리 단위는 띄어쓰기에 의해 구별되는 문자열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절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이다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굴림체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입력 문자열은 하나 혹은 둘 이상의 형태소로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굴림체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형태소는 형태론적 변형 규칙에 따라 변형이 일어날 수 있다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굴림체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분석 알고리즘은 형태소 사전과 분석 규칙을 기반으로 한다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굴림체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중의성이 있는 어절에 대해 가능한 모든 분석 결과를 생성한다</a:t>
            </a:r>
            <a:r>
              <a:rPr b="0" lang="en-US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F54-E8F0-4F37-986F-3DAD49574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이란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?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사전과 제약규칙에 의해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03240" indent="-457200">
              <a:lnSpc>
                <a:spcPct val="155000"/>
              </a:lnSpc>
              <a:spcBef>
                <a:spcPts val="1049"/>
              </a:spcBef>
              <a:buClr>
                <a:srgbClr val="ff0000"/>
              </a:buClr>
              <a:buFont typeface="굴림체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형태소 분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55000"/>
              </a:lnSpc>
              <a:spcBef>
                <a:spcPts val="1049"/>
              </a:spcBef>
              <a:buClr>
                <a:srgbClr val="ff0000"/>
              </a:buClr>
              <a:buFont typeface="굴림체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원형 복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55000"/>
              </a:lnSpc>
              <a:spcBef>
                <a:spcPts val="1049"/>
              </a:spcBef>
              <a:buClr>
                <a:srgbClr val="ff0000"/>
              </a:buClr>
              <a:buFont typeface="굴림체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굴림체"/>
                <a:ea typeface="굴림체"/>
              </a:rPr>
              <a:t>각 형태소의 품사 인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63F-52B2-4AEB-BE0B-CAEAAEAF5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을 위한 사전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N:VI RG:VX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가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가례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가호호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ADV: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감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DEIV:DOTV: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격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격표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결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DEIV:DOIV:DOTV: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결의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DEIV:DOTV: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가경 </a:t>
            </a:r>
            <a:r>
              <a:rPr b="1" lang="ko-KR" sz="2000" spc="-1" strike="noStrike">
                <a:solidFill>
                  <a:srgbClr val="000099"/>
                </a:solidFill>
                <a:latin typeface="바탕체"/>
                <a:ea typeface="바탕체"/>
              </a:rPr>
              <a:t>DODJ: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DE1-AA87-4407-8EF3-0AF56C875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미래의 응용 소프트웨어는 사용자들의 습성과 특성을 알아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쉽게 사용될 수 있도록 개발될 것이다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미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응용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소프트웨어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는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1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사용자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 + (s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들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습성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과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특성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0&gt;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알아내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T:24&gt;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어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5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쉽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Jb:20&gt;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게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사용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9&gt; + (t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X:27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V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있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KIgVJ:20&gt;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도록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개발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N:29&gt; + (t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되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13&gt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것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X:22&gt; + (c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 + (e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(N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것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&lt;X:27&gt; + (j "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바탕체"/>
                <a:ea typeface="바탕체"/>
              </a:rPr>
              <a:t>"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12C-5912-4EB0-BC0F-862C04455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기의 기능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미 분리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아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’의 변이체 문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 ‘시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었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겠’ 분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접미사 분리 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스럽’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, 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ㅁ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기’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불규칙 원형 복원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체언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독립언 인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복합어 및 미등록어 인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준말처리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657-C1C1-4BEF-AE26-03F83A030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과정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lvl="1" marL="903240" indent="-457200">
              <a:lnSpc>
                <a:spcPct val="145000"/>
              </a:lnSpc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입력 어절           사랑스러웠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45000"/>
              </a:lnSpc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어미 분리           사랑스러웠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45000"/>
              </a:lnSpc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선어말 어미       사랑스러우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었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45000"/>
              </a:lnSpc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원형 복원           사랑스럽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었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457200">
              <a:lnSpc>
                <a:spcPct val="145000"/>
              </a:lnSpc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접미사 분리       사랑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스럽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었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+ </a:t>
            </a:r>
            <a:r>
              <a:rPr b="0" lang="ko-KR" sz="2800" spc="-1" strike="noStrike">
                <a:solidFill>
                  <a:srgbClr val="0033cc"/>
                </a:solidFill>
                <a:latin typeface="Arial"/>
                <a:ea typeface="바탕체"/>
              </a:rPr>
              <a:t>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2E2-E3DA-4AA8-B815-E0652D8E2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 결과 예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“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가시는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가시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명사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조사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가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시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선어말어미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어말어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갈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시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선어말어미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어말어미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가시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동사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+ 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3200" spc="-1" strike="noStrike" baseline="-25000">
                <a:solidFill>
                  <a:srgbClr val="000099"/>
                </a:solidFill>
                <a:latin typeface="굴림체"/>
                <a:ea typeface="굴림체"/>
              </a:rPr>
              <a:t>어말어미</a:t>
            </a:r>
            <a:r>
              <a:rPr b="0" lang="ko-KR" sz="32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B85-B1A6-4F3B-9E2B-6CFF96EC2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13:35:43Z</dcterms:modified>
  <cp:revision>31</cp:revision>
  <dc:subject/>
  <dc:title>한국어 정보처리 개요</dc:title>
</cp:coreProperties>
</file>