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244-A998-4D10-B54C-C1E36A92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92E-AE55-4B98-AC6C-C5AD4AF7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C09-58AD-43EC-A9EF-26D8F4A7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13C-B9EF-463F-A82C-75A3B691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4C15-A418-45CF-9A0E-F46A26E9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BE38-3D82-422B-9BA8-7F772FFB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36B4-A279-4047-AB44-21D83635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69FB-C8CF-4E66-A952-3FB03485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D4BD-F63F-491C-9380-09B821BD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291600"/>
            <a:ext cx="74674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2E8D-86C0-4063-9BF2-5FEB154D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66B4-2852-4B9F-806E-751AF11F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5D1-F79A-4DC5-8E10-AA66543C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4353-BEA9-4283-90BB-1417B059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179F-0174-4EB7-A91D-C4BD0126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9775-6878-45E5-B94E-F3F4B9DA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3302-6783-46E1-9556-A6E85DAE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5AB3-F6A2-4DCE-A6AA-BE6EF149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026-4280-4656-AC40-18F06B94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A8F-6EE8-4986-972F-757E33DA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5E0-5B3D-432D-88BF-E65D7216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291600"/>
            <a:ext cx="74674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180-285D-4816-9646-755161AA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774-9145-4DFB-B424-228CDF15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BBC-2AEE-49AA-B045-31E3B5E4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08F-5380-4CBE-8E0E-83A2D19D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4741-1C74-4921-A67D-22539A2AAD24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lnSpc>
                <a:spcPct val="90000"/>
              </a:lnSpc>
              <a:spcBef>
                <a:spcPts val="862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lnSpc>
                <a:spcPct val="90000"/>
              </a:lnSpc>
              <a:spcBef>
                <a:spcPts val="862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C897-6663-4D0F-9A20-624E166962BB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3600" spc="-1" strike="noStrike">
                <a:solidFill>
                  <a:srgbClr val="cd0355"/>
                </a:solidFill>
                <a:latin typeface="신명 태명조"/>
                <a:ea typeface="신명조"/>
              </a:rPr>
              <a:t>범주 대표어의 가중치 계산 방식에 의한 </a:t>
            </a:r>
            <a:r>
              <a:rPr b="0" lang="zh-CN" sz="3600" spc="-1" strike="noStrike">
                <a:solidFill>
                  <a:srgbClr val="cd0355"/>
                </a:solidFill>
                <a:latin typeface="신명 태명조"/>
                <a:ea typeface="신명 태명조"/>
              </a:rPr>
              <a:t>자동 문서 분류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99"/>
                </a:solidFill>
                <a:latin typeface="굴림체"/>
                <a:ea typeface="굴림체"/>
              </a:rPr>
              <a:t>강 승 식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99"/>
                </a:solidFill>
                <a:latin typeface="굴림체"/>
                <a:ea typeface="굴림체"/>
              </a:rPr>
              <a:t>국민대학교 컴퓨터학부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입력문서에 대한 범주판정 계산 방법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99"/>
                </a:solidFill>
                <a:latin typeface="Arial"/>
                <a:ea typeface="굴림"/>
              </a:rPr>
              <a:t>유사도 계산</a:t>
            </a:r>
            <a:r>
              <a:rPr b="0" lang="en-US" sz="2300" spc="-1" strike="noStrike">
                <a:solidFill>
                  <a:srgbClr val="000099"/>
                </a:solidFill>
                <a:latin typeface="Arial"/>
                <a:ea typeface="굴림"/>
              </a:rPr>
              <a:t>(cosine coefficient)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57400" y="2793960"/>
                <a:ext cx="457200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nary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t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d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t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800600" y="4572000"/>
            <a:ext cx="175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 : </a:t>
            </a:r>
            <a:r>
              <a:rPr b="0" i="1" lang="zh-CN" sz="2000" spc="-1" strike="noStrike">
                <a:solidFill>
                  <a:srgbClr val="cc0000"/>
                </a:solidFill>
                <a:latin typeface="Arial"/>
              </a:rPr>
              <a:t>입력 문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c : </a:t>
            </a:r>
            <a:r>
              <a:rPr b="0" i="1" lang="zh-CN" sz="2000" spc="-1" strike="noStrike">
                <a:solidFill>
                  <a:srgbClr val="cc0000"/>
                </a:solidFill>
                <a:latin typeface="Arial"/>
              </a:rPr>
              <a:t>해당 범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912-E4A2-48F3-A75F-EADD169FED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범주 대표어의 가중치 계산 방법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95280" y="2286000"/>
                <a:ext cx="3276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re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req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602240" y="2386080"/>
                <a:ext cx="2103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re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990720" y="3200400"/>
            <a:ext cx="731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신명조"/>
                <a:ea typeface="신명조"/>
              </a:rPr>
              <a:t>방법 </a:t>
            </a:r>
            <a:r>
              <a:rPr b="0" lang="ko-KR" sz="2000" spc="-1" strike="noStrike">
                <a:solidFill>
                  <a:srgbClr val="cc0000"/>
                </a:solidFill>
                <a:latin typeface="신명조"/>
                <a:ea typeface="신명조"/>
              </a:rPr>
              <a:t>2.</a:t>
            </a:r>
            <a:r>
              <a:rPr b="0" lang="ko-KR" sz="2000" spc="-1" strike="noStrike">
                <a:solidFill>
                  <a:srgbClr val="cc0000"/>
                </a:solidFill>
                <a:latin typeface="신명조"/>
                <a:ea typeface="신명조"/>
              </a:rPr>
              <a:t>역문헌 빈도에 의한 가중치 계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219320" y="3581280"/>
                <a:ext cx="3124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re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581280"/>
                <a:ext cx="327672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re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990720" y="4495680"/>
            <a:ext cx="723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신명조"/>
                <a:ea typeface="신명조"/>
              </a:rPr>
              <a:t>방법 </a:t>
            </a:r>
            <a:r>
              <a:rPr b="0" lang="en-US" sz="2000" spc="-1" strike="noStrike">
                <a:solidFill>
                  <a:srgbClr val="cc0000"/>
                </a:solidFill>
                <a:latin typeface="신명조"/>
                <a:ea typeface="신명조"/>
              </a:rPr>
              <a:t>3. </a:t>
            </a:r>
            <a:r>
              <a:rPr b="0" lang="zh-CN" sz="2000" spc="-1" strike="noStrike">
                <a:solidFill>
                  <a:srgbClr val="cc0000"/>
                </a:solidFill>
                <a:latin typeface="신명조"/>
                <a:ea typeface="신명조"/>
              </a:rPr>
              <a:t>정규화를 거친 용어 빈도를 이용하여 가중치를 계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219320" y="4995720"/>
                <a:ext cx="3124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re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72000" y="4952880"/>
                <a:ext cx="327672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re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990720" y="1828800"/>
            <a:ext cx="7772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신명조"/>
                <a:ea typeface="신명조"/>
              </a:rPr>
              <a:t>방법 </a:t>
            </a:r>
            <a:r>
              <a:rPr b="0" lang="en-US" sz="2000" spc="-1" strike="noStrike">
                <a:solidFill>
                  <a:srgbClr val="cc0000"/>
                </a:solidFill>
                <a:latin typeface="신명조"/>
                <a:ea typeface="신명조"/>
              </a:rPr>
              <a:t>1.</a:t>
            </a:r>
            <a:r>
              <a:rPr b="0" lang="zh-CN" sz="2000" spc="-1" strike="noStrike">
                <a:solidFill>
                  <a:srgbClr val="cc0000"/>
                </a:solidFill>
                <a:latin typeface="신명조"/>
                <a:ea typeface="신명조"/>
              </a:rPr>
              <a:t>용어의 출현 빈도 이용한 가중치 계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857C-B031-415E-BC09-485F158D2E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실험 및 평가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웹 상에 존재하는 신문 기사들을 임의로 추출</a:t>
            </a:r>
            <a:r>
              <a:rPr b="0" lang="en-US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(50</a:t>
            </a:r>
            <a:r>
              <a:rPr b="0" lang="zh-CN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문서</a:t>
            </a:r>
            <a:r>
              <a:rPr b="0" lang="en-US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)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52480" y="2590920"/>
          <a:ext cx="5715000" cy="2971440"/>
        </p:xfrm>
        <a:graphic>
          <a:graphicData uri="http://schemas.openxmlformats.org/drawingml/2006/table">
            <a:tbl>
              <a:tblPr/>
              <a:tblGrid>
                <a:gridCol w="1828800"/>
                <a:gridCol w="1295640"/>
                <a:gridCol w="1295280"/>
                <a:gridCol w="1295280"/>
              </a:tblGrid>
              <a:tr h="930600">
                <a:tc>
                  <a:txBody>
                    <a:bodyPr lIns="88920" rIns="88920" tIns="44280" bIns="442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순위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방법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순위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2</a:t>
                      </a: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순위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3</a:t>
                      </a: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순위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88920" rIns="8892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방법 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71.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76.3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78.9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88920" rIns="8892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방법 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73.6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84.2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86.8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88920" rIns="8892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방법 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73.6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81.5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81.5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8C1-4C58-463B-B00B-946707EC7A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결론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문서와 범주의 용어 가중치를 계산하기 위하여 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3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가지 방법에 대한 실험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역파일 형태로 대표어를 저장하는 방법은 속도면에서 일반 문서당 전체 범주의 비교 방식보다는 나아짐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해당 용어에 대한 범주의 총 빈도수를 이용한 방법 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1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보다는 해당 용어에 대한 범주의 총 빈도수의 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log(ICF)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값을 이용한 방법 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2,3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이 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1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순위 판정에서 좋은 결과 보임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성능 개선을 위해서는 학습을 통한 용어별 가중치를 부여하여 성능을 개선시키는 방법과 통계적인 구문 패턴을 이용하여 자연어 처리에 접목시킬 수 있는 다양한 연구 방법이 모색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FF69-9545-4D0D-B7AB-0E3F245FEC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목 차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자동 문서 분류의 개요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문서 분류 시스템의 구조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범주 선정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역파일의 구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문서 분류 과정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범주 대표어의 가중치 계산 방법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실험 및 평가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결론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C63-2752-416B-9F16-DBF2BD7520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50920"/>
            <a:ext cx="7467480" cy="815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자동 문서 분류의 필요성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자동 문서 분류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범주 특성 벡터와 입력 문서 벡터의 유사도 비교에 의해 가장 유사한 범주를 자동으로 선택하는 작업 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월드 와이드 웹의 등장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웹 문서의 등장으로 폭발적인 증가와 더불어 대부분 의 자료들이 디지털화 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수작업의 한계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시간적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경제적인 면에서 비효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77C-468D-4A28-8B18-CF4B755E3A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문서 분류 시스템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문서 분류 시스템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범주 특성 벡터와 문서 벡터 사이의 유사도를 계산 하여 입력문서에 대한 범주를 할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문서 분류 방법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범주 벡터를 학습하는 방법을 중심으로 연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나이브 베이스 분류자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(Naïve Bayes’s classifi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결정 트리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(decision tre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신경망 모델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(Nerual Network Model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E415-23E1-4A19-A191-C20EA575C8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문서 범주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문서 범주는 웹 검색 엔진의 디렉토리 서비스 메뉴를 참조하여 구분하였으며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, 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표 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1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과 같이 구분된 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12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개의 범주와 이를 세분화한 하위 범주들로 구성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3880" y="3822840"/>
          <a:ext cx="5867640" cy="1511280"/>
        </p:xfrm>
        <a:graphic>
          <a:graphicData uri="http://schemas.openxmlformats.org/drawingml/2006/table">
            <a:tbl>
              <a:tblPr/>
              <a:tblGrid>
                <a:gridCol w="1955880"/>
                <a:gridCol w="1955880"/>
                <a:gridCol w="1955880"/>
              </a:tblGrid>
              <a:tr h="378000">
                <a:tc>
                  <a:txBody>
                    <a:bodyPr lIns="88920" rIns="88920" tIns="44280" bIns="442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정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여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건강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학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게임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88920" rIns="88920" tIns="44280" bIns="442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교육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참고자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레크리에이션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북한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88920" rIns="88920" tIns="44280" bIns="442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비즈니스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경제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쇼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스포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88920" rIns="88920" tIns="44280" bIns="442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ko-KR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엔터테인먼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컴퓨터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920" rIns="88920" tIns="44280" bIns="442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학문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0" lang="zh-CN" sz="21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과학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523880" y="3276720"/>
            <a:ext cx="4419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표</a:t>
            </a:r>
            <a:r>
              <a:rPr b="0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1. </a:t>
            </a:r>
            <a:r>
              <a:rPr b="0" i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최상위 범주의 분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283-06F9-4BAD-B6B5-CCCD54407F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문서 범주</a:t>
            </a: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(cont.)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상위 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12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개의 범주를 시작으로 이를 세분화하여 불필요 하거나 중복된다고 판단되는 범주는 임의로 제거 하였 으며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, 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최종적으로 총 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61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개의 문서 범주로 분류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예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)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	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 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스포츠           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=&gt; 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축구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, 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야구 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	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        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건강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, 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의학       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=&gt; 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의학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, 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전통의학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, 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증상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.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질병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	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        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비즈니스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, 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경제 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=&gt; 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무역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, 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부동산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, 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투자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.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금융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.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재태크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B090-2C11-462A-A511-00A9725062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범주 대표어 추출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범주선택을 디렉토리 분류 체계의 일부를 실험 대상   으로 선정함으로써 각 범주를 기술하는 내용을 범주 대표어 추출에 사용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텍스트 문서로 저장하고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, </a:t>
            </a: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형태소 분석기를 이용하여 명사들을 추출</a:t>
            </a:r>
            <a:r>
              <a:rPr b="0" lang="ko-KR" sz="2300" spc="-1" strike="noStrike">
                <a:solidFill>
                  <a:srgbClr val="000099"/>
                </a:solidFill>
                <a:latin typeface="½Å¸íÁ¶"/>
                <a:ea typeface="신명조"/>
              </a:rPr>
              <a:t> 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신명조"/>
                <a:ea typeface="신명조"/>
              </a:rPr>
              <a:t>각 용어의 가중치는 해당 범주에 출현한 용어의 출현 빈도 및 범주 빈도에 따라 계산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1C5-9A49-433C-B963-C8607EDF44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200" spc="-1" strike="noStrike">
                <a:solidFill>
                  <a:srgbClr val="cd0355"/>
                </a:solidFill>
                <a:latin typeface="Arial"/>
                <a:ea typeface="굴림"/>
              </a:rPr>
              <a:t>역파일 구조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ko-KR" sz="23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362320" y="1981080"/>
          <a:ext cx="990360" cy="3200040"/>
        </p:xfrm>
        <a:graphic>
          <a:graphicData uri="http://schemas.openxmlformats.org/drawingml/2006/table">
            <a:tbl>
              <a:tblPr/>
              <a:tblGrid>
                <a:gridCol w="680760"/>
                <a:gridCol w="309600"/>
              </a:tblGrid>
              <a:tr h="66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erm  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erm 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erm 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erm 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320040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36576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657600" y="1981080"/>
          <a:ext cx="3200400" cy="533160"/>
        </p:xfrm>
        <a:graphic>
          <a:graphicData uri="http://schemas.openxmlformats.org/drawingml/2006/table">
            <a:tbl>
              <a:tblPr/>
              <a:tblGrid>
                <a:gridCol w="609480"/>
                <a:gridCol w="635040"/>
                <a:gridCol w="650880"/>
                <a:gridCol w="652320"/>
                <a:gridCol w="65268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_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eigh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_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eigh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657600" y="2666880"/>
          <a:ext cx="3200400" cy="533160"/>
        </p:xfrm>
        <a:graphic>
          <a:graphicData uri="http://schemas.openxmlformats.org/drawingml/2006/table">
            <a:tbl>
              <a:tblPr/>
              <a:tblGrid>
                <a:gridCol w="609480"/>
                <a:gridCol w="635040"/>
                <a:gridCol w="650880"/>
                <a:gridCol w="652320"/>
                <a:gridCol w="65268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_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eigh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_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eigh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657600" y="3352680"/>
          <a:ext cx="3200400" cy="533160"/>
        </p:xfrm>
        <a:graphic>
          <a:graphicData uri="http://schemas.openxmlformats.org/drawingml/2006/table">
            <a:tbl>
              <a:tblPr/>
              <a:tblGrid>
                <a:gridCol w="609480"/>
                <a:gridCol w="635040"/>
                <a:gridCol w="650880"/>
                <a:gridCol w="652320"/>
                <a:gridCol w="65268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_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eigh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_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eigh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657600" y="3962520"/>
          <a:ext cx="3200400" cy="533160"/>
        </p:xfrm>
        <a:graphic>
          <a:graphicData uri="http://schemas.openxmlformats.org/drawingml/2006/table">
            <a:tbl>
              <a:tblPr/>
              <a:tblGrid>
                <a:gridCol w="609480"/>
                <a:gridCol w="635040"/>
                <a:gridCol w="650880"/>
                <a:gridCol w="652320"/>
                <a:gridCol w="65268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_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eigh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_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eigh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657600" y="4648320"/>
          <a:ext cx="3200400" cy="533160"/>
        </p:xfrm>
        <a:graphic>
          <a:graphicData uri="http://schemas.openxmlformats.org/drawingml/2006/table">
            <a:tbl>
              <a:tblPr/>
              <a:tblGrid>
                <a:gridCol w="609480"/>
                <a:gridCol w="635040"/>
                <a:gridCol w="650880"/>
                <a:gridCol w="652320"/>
                <a:gridCol w="65268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_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eigh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_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eigh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1905120" y="213372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solidFill>
              <a:srgbClr val="f35b1b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5029200" y="4038480"/>
            <a:ext cx="380880" cy="2819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40400 h 2819520"/>
              <a:gd name="textAreaBottom" fmla="*/ 267912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2"/>
                  <a:pt x="10800" y="3443"/>
                </a:cubicBezTo>
                <a:lnTo>
                  <a:pt x="10800" y="7605"/>
                </a:lnTo>
                <a:cubicBezTo>
                  <a:pt x="10800" y="9327"/>
                  <a:pt x="5400" y="11048"/>
                  <a:pt x="0" y="11048"/>
                </a:cubicBezTo>
                <a:cubicBezTo>
                  <a:pt x="5400" y="11048"/>
                  <a:pt x="10800" y="12770"/>
                  <a:pt x="10800" y="14491"/>
                </a:cubicBezTo>
                <a:lnTo>
                  <a:pt x="10800" y="18157"/>
                </a:lnTo>
                <a:cubicBezTo>
                  <a:pt x="10800" y="19879"/>
                  <a:pt x="16200" y="21600"/>
                  <a:pt x="21600" y="21600"/>
                </a:cubicBezTo>
              </a:path>
            </a:pathLst>
          </a:custGeom>
          <a:noFill/>
          <a:ln w="0">
            <a:solidFill>
              <a:srgbClr val="f35b1b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3124080"/>
            <a:ext cx="1066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00"/>
                </a:solidFill>
                <a:latin typeface="Arial"/>
              </a:rPr>
              <a:t>범주 대표어 리스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5638680"/>
            <a:ext cx="304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00"/>
                </a:solidFill>
                <a:latin typeface="Arial"/>
              </a:rPr>
              <a:t>범주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i="1" lang="zh-CN" sz="2000" spc="-1" strike="noStrike">
                <a:solidFill>
                  <a:srgbClr val="cc0000"/>
                </a:solidFill>
                <a:latin typeface="Arial"/>
              </a:rPr>
              <a:t>가중치 파일</a:t>
            </a:r>
            <a:r>
              <a:rPr b="0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FB1-250A-428A-81C4-F7278F4EA4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cd0355"/>
                </a:solidFill>
                <a:latin typeface="Arial"/>
                <a:ea typeface="굴림"/>
              </a:rPr>
              <a:t>문서 분류 과정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ko-KR" sz="23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98108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입력 문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2743200"/>
            <a:ext cx="152388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색인어 추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3505320"/>
            <a:ext cx="152388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가중치 계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4343400"/>
            <a:ext cx="152388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동 분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4038480"/>
            <a:ext cx="1447920" cy="99072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범주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대표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역파일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533412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범주 판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1905120"/>
            <a:ext cx="434340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267080" y="4572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226-3749-4BAD-89F9-0D02E04AC8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7T11:24:45Z</dcterms:created>
  <dc:creator>Sungho Jang</dc:creator>
  <dc:description/>
  <dc:language>en-US</dc:language>
  <cp:lastModifiedBy>강승식</cp:lastModifiedBy>
  <dcterms:modified xsi:type="dcterms:W3CDTF">2002-07-05T08:02:56Z</dcterms:modified>
  <cp:revision>37</cp:revision>
  <dc:subject/>
  <dc:title>슬라이드 제목 없음</dc:title>
</cp:coreProperties>
</file>