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93C4-0301-45B5-BA77-08D44400D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724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F7A7-73E4-4017-90A9-7C957F1E0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724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99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2775-19E6-4AA6-A053-DF82BA830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52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288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72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52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288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F1BA-28EB-4334-BC42-3696B21A2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C9BAA-CC31-4AE9-B7B5-B8BD05532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724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indent="0" algn="ctr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CF60C-BCBD-4F97-842A-F4A63C38C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AD6BE-9C0F-483B-A52E-6377AE118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4D39D-6F06-4896-8D27-0E76188C0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FD73B-11B7-41F1-B6F5-52B99E369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440" y="291600"/>
            <a:ext cx="746748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algn="ctr">
              <a:lnSpc>
                <a:spcPct val="90000"/>
              </a:lnSpc>
              <a:spcBef>
                <a:spcPts val="862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CB171-7BA8-446E-8C17-43F295FB1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724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7EE57-561E-43E1-B4C6-D8F81101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724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indent="0" algn="ctr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2A1B-E532-454D-B309-7BF191BE0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99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43802-E37F-4AB1-97DF-AFC08774E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724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CCFA6-7728-44A9-8C6D-29AD7D41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724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6DCE1-DA7D-4780-A648-1546095A3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724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99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1CD56-3D20-4129-99C1-2A49791CC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52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288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72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52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288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7008C-A1FE-40F6-BC99-C1D7CEC73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2340-66AC-4BCE-AC75-968623665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708D-3762-4E47-AA4F-6FD89CAC7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0353-A408-481C-9054-532C17360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291600"/>
            <a:ext cx="746748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algn="ctr">
              <a:lnSpc>
                <a:spcPct val="90000"/>
              </a:lnSpc>
              <a:spcBef>
                <a:spcPts val="862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B158-971F-4FF4-BFFA-15742F6E6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724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F4DC-072D-4388-A613-E1E3F2BB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99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BDD7-8647-414A-9283-6116933D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724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B342-CA49-4C2B-90EC-1393E369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05050"/>
                </a:solidFill>
                <a:latin typeface="Arial"/>
              </a:rPr>
              <a:t>&lt;date/time&gt;</a:t>
            </a:r>
            <a:r>
              <a:rPr b="0" lang="ko-KR" sz="1000" spc="-1" strike="noStrike">
                <a:solidFill>
                  <a:srgbClr val="50505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505050"/>
                </a:solidFill>
                <a:latin typeface="Arial"/>
              </a:rPr>
              <a:t>http://nlp.kookmin.ac.kr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0505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05050"/>
                </a:solidFill>
                <a:latin typeface="Arial"/>
              </a:rPr>
              <a:t>-</a:t>
            </a:r>
            <a:fld id="{ABF02E2D-67DA-46C8-B1BE-493A6E1B4CA1}" type="slidenum">
              <a:rPr b="0" lang="en-US" sz="1000" spc="-1" strike="noStrike">
                <a:solidFill>
                  <a:srgbClr val="50505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505050"/>
                </a:solidFill>
                <a:latin typeface="Arial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200" spc="-1" strike="noStrike">
                <a:solidFill>
                  <a:srgbClr val="cd0355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724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lnSpc>
                <a:spcPct val="90000"/>
              </a:lnSpc>
              <a:spcBef>
                <a:spcPts val="862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862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lvl="2" marL="998640" indent="-220680">
              <a:lnSpc>
                <a:spcPct val="90000"/>
              </a:lnSpc>
              <a:spcBef>
                <a:spcPts val="862"/>
              </a:spcBef>
              <a:buClr>
                <a:srgbClr val="ff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lvl="3" marL="1279440" indent="-166680">
              <a:lnSpc>
                <a:spcPct val="90000"/>
              </a:lnSpc>
              <a:spcBef>
                <a:spcPts val="862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lvl="4" marL="1560600" indent="-166680">
              <a:lnSpc>
                <a:spcPct val="90000"/>
              </a:lnSpc>
              <a:spcBef>
                <a:spcPts val="862"/>
              </a:spcBef>
              <a:buClr>
                <a:srgbClr val="ff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lvl="5" marL="1560600" indent="-166680">
              <a:lnSpc>
                <a:spcPct val="90000"/>
              </a:lnSpc>
              <a:spcBef>
                <a:spcPts val="862"/>
              </a:spcBef>
              <a:buClr>
                <a:srgbClr val="00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lvl="6" marL="1560600" indent="-166680">
              <a:lnSpc>
                <a:spcPct val="90000"/>
              </a:lnSpc>
              <a:spcBef>
                <a:spcPts val="862"/>
              </a:spcBef>
              <a:buClr>
                <a:srgbClr val="00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1106640"/>
            <a:ext cx="8001000" cy="648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20520" bIns="20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kookmin" descr=""/>
          <p:cNvPicPr/>
          <p:nvPr/>
        </p:nvPicPr>
        <p:blipFill>
          <a:blip r:embed="rId2"/>
          <a:stretch/>
        </p:blipFill>
        <p:spPr>
          <a:xfrm>
            <a:off x="304920" y="6324480"/>
            <a:ext cx="377640" cy="3812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495360" y="6238800"/>
            <a:ext cx="2209680" cy="28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-15480" bIns="-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0505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0505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B5C1B-BE7E-4091-8597-1C3AFCF87F2E}" type="slidenum">
              <a:rPr b="0" lang="en-US" sz="1000" spc="-1" strike="noStrike">
                <a:solidFill>
                  <a:srgbClr val="50505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200" spc="-1" strike="noStrike">
                <a:solidFill>
                  <a:srgbClr val="cd0355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pic>
        <p:nvPicPr>
          <p:cNvPr id="48" name="kookmin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679320" cy="685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5440" indent="0" algn="ctr">
              <a:lnSpc>
                <a:spcPct val="90000"/>
              </a:lnSpc>
              <a:spcBef>
                <a:spcPts val="862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lvl="1" marL="501480" indent="0" algn="ctr">
              <a:lnSpc>
                <a:spcPct val="90000"/>
              </a:lnSpc>
              <a:spcBef>
                <a:spcPts val="862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85960" algn="ctr">
              <a:lnSpc>
                <a:spcPct val="90000"/>
              </a:lnSpc>
              <a:spcBef>
                <a:spcPts val="862"/>
              </a:spcBef>
              <a:buClr>
                <a:srgbClr val="ff0000"/>
              </a:buClr>
              <a:buFont typeface="Arial"/>
              <a:buChar char="•"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27320" algn="ctr">
              <a:lnSpc>
                <a:spcPct val="90000"/>
              </a:lnSpc>
              <a:spcBef>
                <a:spcPts val="862"/>
              </a:spcBef>
              <a:buClr>
                <a:srgbClr val="ff0000"/>
              </a:buClr>
              <a:buFont typeface="Arial"/>
              <a:buChar char="–"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1770120" algn="ctr">
              <a:lnSpc>
                <a:spcPct val="90000"/>
              </a:lnSpc>
              <a:spcBef>
                <a:spcPts val="862"/>
              </a:spcBef>
              <a:buClr>
                <a:srgbClr val="ff0000"/>
              </a:buClr>
              <a:buFont typeface="Arial"/>
              <a:buChar char="•"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17701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17701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4000" spc="-1" strike="noStrike">
                <a:solidFill>
                  <a:srgbClr val="cd0355"/>
                </a:solidFill>
                <a:latin typeface="Arial"/>
                <a:ea typeface="굴림"/>
              </a:rPr>
              <a:t>주제어 기반 </a:t>
            </a:r>
            <a:br>
              <a:rPr sz="4000"/>
            </a:br>
            <a:r>
              <a:rPr b="1" i="1" lang="zh-CN" sz="4000" spc="-1" strike="noStrike">
                <a:solidFill>
                  <a:srgbClr val="cd0355"/>
                </a:solidFill>
                <a:latin typeface="Arial"/>
                <a:ea typeface="굴림"/>
              </a:rPr>
              <a:t>문서 클러스터링 알고리즘</a:t>
            </a:r>
            <a:endParaRPr b="1" i="1" lang="en-US" sz="40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marL="5544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강승식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544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544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국민대학교 컴퓨터학부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200" spc="-1" strike="noStrike">
                <a:solidFill>
                  <a:srgbClr val="cd0355"/>
                </a:solidFill>
                <a:latin typeface="Arial"/>
                <a:ea typeface="굴림"/>
              </a:rPr>
              <a:t>3. </a:t>
            </a:r>
            <a:r>
              <a:rPr b="1" i="1" lang="zh-CN" sz="3200" spc="-1" strike="noStrike">
                <a:solidFill>
                  <a:srgbClr val="cd0355"/>
                </a:solidFill>
                <a:latin typeface="Arial"/>
                <a:ea typeface="굴림"/>
              </a:rPr>
              <a:t>클러스터의 축소 및 완성</a:t>
            </a:r>
            <a:r>
              <a:rPr b="1" i="1" lang="en-US" sz="3200" spc="-1" strike="noStrike">
                <a:solidFill>
                  <a:srgbClr val="cd0355"/>
                </a:solidFill>
                <a:latin typeface="Arial"/>
                <a:ea typeface="굴림"/>
              </a:rPr>
              <a:t>	</a:t>
            </a: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lnSpc>
                <a:spcPct val="90000"/>
              </a:lnSpc>
              <a:spcBef>
                <a:spcPts val="862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300" spc="-1" strike="noStrike">
                <a:solidFill>
                  <a:srgbClr val="000099"/>
                </a:solidFill>
                <a:latin typeface="Arial"/>
                <a:ea typeface="굴림"/>
              </a:rPr>
              <a:t>확장된 클러스터      에서 비관련 문서를 제거함으로써 완전한 하나의 클러스터를 생성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862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300" spc="-1" strike="noStrike">
                <a:solidFill>
                  <a:srgbClr val="000099"/>
                </a:solidFill>
                <a:latin typeface="Arial"/>
                <a:ea typeface="굴림"/>
              </a:rPr>
              <a:t>클러스터      의 모든 문서들과 주제어 집합     사이의 유사도가 낮은 비관련 문서들을     에서 제외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862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300" spc="-1" strike="noStrike">
                <a:solidFill>
                  <a:srgbClr val="000099"/>
                </a:solidFill>
                <a:latin typeface="Arial"/>
                <a:ea typeface="굴림"/>
              </a:rPr>
              <a:t>반복적으로        과       를 생성하면서 비관련 문서를 제거해서 최종적으로 클러스터      를 생성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405240" y="1523880"/>
                <a:ext cx="3189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438280" y="2679840"/>
                <a:ext cx="3225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6686640" y="2690640"/>
                <a:ext cx="38088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5257800" y="3009960"/>
                <a:ext cx="3207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2763720" y="3841920"/>
                <a:ext cx="4842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3619440" y="3852720"/>
                <a:ext cx="5000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5257800" y="4181400"/>
                <a:ext cx="2826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38E1-3332-453E-BC04-6B680EC331B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200" spc="-1" strike="noStrike">
                <a:solidFill>
                  <a:srgbClr val="cd0355"/>
                </a:solidFill>
                <a:latin typeface="Arial"/>
                <a:ea typeface="굴림"/>
              </a:rPr>
              <a:t>4. </a:t>
            </a:r>
            <a:r>
              <a:rPr b="1" i="1" lang="zh-CN" sz="3200" spc="-1" strike="noStrike">
                <a:solidFill>
                  <a:srgbClr val="cd0355"/>
                </a:solidFill>
                <a:latin typeface="Arial"/>
                <a:ea typeface="굴림"/>
              </a:rPr>
              <a:t>클러스터링 알고리즘 종료</a:t>
            </a: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lnSpc>
                <a:spcPct val="90000"/>
              </a:lnSpc>
              <a:spcBef>
                <a:spcPts val="862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300" spc="-1" strike="noStrike">
                <a:solidFill>
                  <a:srgbClr val="000099"/>
                </a:solidFill>
                <a:latin typeface="Arial"/>
                <a:ea typeface="굴림"/>
              </a:rPr>
              <a:t>동일한 방법으로 새로운 클러스터       를 생성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862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300" spc="-1" strike="noStrike">
                <a:solidFill>
                  <a:srgbClr val="000099"/>
                </a:solidFill>
                <a:latin typeface="Arial"/>
                <a:ea typeface="굴림"/>
              </a:rPr>
              <a:t>클러스터 생성을 위한 문서가 없을 경우 클러스터링을 종료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613480" y="1638360"/>
                <a:ext cx="4237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AC3B-602C-40C0-8929-AB73A901FEC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200" spc="-1" strike="noStrike">
                <a:solidFill>
                  <a:srgbClr val="cd0355"/>
                </a:solidFill>
                <a:latin typeface="Arial"/>
                <a:ea typeface="굴림"/>
              </a:rPr>
              <a:t> </a:t>
            </a:r>
            <a:r>
              <a:rPr b="1" i="1" lang="zh-CN" sz="3200" spc="-1" strike="noStrike">
                <a:solidFill>
                  <a:srgbClr val="cd0355"/>
                </a:solidFill>
                <a:latin typeface="Arial"/>
                <a:ea typeface="굴림"/>
              </a:rPr>
              <a:t>설계 및 구현</a:t>
            </a: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lnSpc>
                <a:spcPct val="90000"/>
              </a:lnSpc>
              <a:spcBef>
                <a:spcPts val="862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300" spc="-1" strike="noStrike">
                <a:solidFill>
                  <a:srgbClr val="000099"/>
                </a:solidFill>
                <a:latin typeface="Arial"/>
                <a:ea typeface="굴림"/>
              </a:rPr>
              <a:t>입력 문서로부터 주제어를 추출 </a:t>
            </a:r>
            <a:r>
              <a:rPr b="0" lang="ko-KR" sz="23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ko-KR" sz="2300" spc="-1" strike="noStrike">
                <a:solidFill>
                  <a:srgbClr val="000099"/>
                </a:solidFill>
                <a:latin typeface="Arial"/>
                <a:ea typeface="굴림"/>
              </a:rPr>
              <a:t> 용어 가중치 기법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331920"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862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300" spc="-1" strike="noStrike">
                <a:solidFill>
                  <a:srgbClr val="000099"/>
                </a:solidFill>
                <a:latin typeface="Arial"/>
                <a:ea typeface="굴림"/>
              </a:rPr>
              <a:t>주제어가 출현한 문서와 주제어의 가중치를 역파일 형태로 구성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862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Arial"/>
                <a:ea typeface="굴림"/>
              </a:rPr>
              <a:t>역파일 구조는 클러스터 확장에 적합한 구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862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300" spc="-1" strike="noStrike">
                <a:solidFill>
                  <a:srgbClr val="000099"/>
                </a:solidFill>
                <a:latin typeface="Arial"/>
                <a:ea typeface="굴림"/>
              </a:rPr>
              <a:t>초기 클러스터로부터 클러스터의 확장과 축소를 반복하여 클러스터링을 완성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85B1-FC1A-4370-9B3E-2118183302A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200" spc="-1" strike="noStrike">
                <a:solidFill>
                  <a:srgbClr val="cd0355"/>
                </a:solidFill>
                <a:latin typeface="Arial"/>
                <a:ea typeface="굴림"/>
              </a:rPr>
              <a:t>결론</a:t>
            </a: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lnSpc>
                <a:spcPct val="90000"/>
              </a:lnSpc>
              <a:spcBef>
                <a:spcPts val="862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300" spc="-1" strike="noStrike">
                <a:solidFill>
                  <a:srgbClr val="000099"/>
                </a:solidFill>
                <a:latin typeface="Arial"/>
                <a:ea typeface="굴림"/>
              </a:rPr>
              <a:t>기존의 출현 빈도와 역문헌 빈도에 의한 용어 가중치 계산의 문제점 개선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862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Arial"/>
                <a:ea typeface="굴림"/>
              </a:rPr>
              <a:t>주제어에 기반한 문서 대표어 추출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862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300" spc="-1" strike="noStrike">
                <a:solidFill>
                  <a:srgbClr val="000099"/>
                </a:solidFill>
                <a:latin typeface="Arial"/>
                <a:ea typeface="굴림"/>
              </a:rPr>
              <a:t>문서 클러스터링의 시간과 공간에 대한 문제점 개선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862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Arial"/>
                <a:ea typeface="굴림"/>
              </a:rPr>
              <a:t>유사도 행렬을 사용하지 않음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862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300" spc="-1" strike="noStrike">
                <a:solidFill>
                  <a:srgbClr val="000099"/>
                </a:solidFill>
                <a:latin typeface="Arial"/>
                <a:ea typeface="굴림"/>
              </a:rPr>
              <a:t>향후 실험에 의한 알고리즘의 효율성 및 정확도 측정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54D8-218D-4B3B-92F3-B269E3E4E35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200" spc="-1" strike="noStrike">
                <a:solidFill>
                  <a:srgbClr val="cd0355"/>
                </a:solidFill>
                <a:latin typeface="Arial"/>
                <a:ea typeface="굴림"/>
              </a:rPr>
              <a:t>목차</a:t>
            </a: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724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438120" indent="-438120">
              <a:lnSpc>
                <a:spcPct val="90000"/>
              </a:lnSpc>
              <a:spcBef>
                <a:spcPts val="1199"/>
              </a:spcBef>
              <a:buClr>
                <a:srgbClr val="000099"/>
              </a:buClr>
              <a:buSzPct val="70000"/>
              <a:buFont typeface="Arial"/>
              <a:buAutoNum type="arabicPeriod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Arial"/>
                <a:ea typeface="굴림"/>
              </a:rPr>
              <a:t>기존 클러스터링 방법의 문제점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38120" indent="-438120">
              <a:lnSpc>
                <a:spcPct val="90000"/>
              </a:lnSpc>
              <a:spcBef>
                <a:spcPts val="1199"/>
              </a:spcBef>
              <a:buClr>
                <a:srgbClr val="000099"/>
              </a:buClr>
              <a:buSzPct val="70000"/>
              <a:buFont typeface="Arial"/>
              <a:buAutoNum type="arabicPeriod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Arial"/>
                <a:ea typeface="굴림"/>
              </a:rPr>
              <a:t>주제어 추출 기법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38120" indent="-438120">
              <a:lnSpc>
                <a:spcPct val="90000"/>
              </a:lnSpc>
              <a:spcBef>
                <a:spcPts val="1199"/>
              </a:spcBef>
              <a:buClr>
                <a:srgbClr val="000099"/>
              </a:buClr>
              <a:buSzPct val="70000"/>
              <a:buFont typeface="Arial"/>
              <a:buAutoNum type="arabicPeriod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Arial"/>
                <a:ea typeface="굴림"/>
              </a:rPr>
              <a:t>주제어 기반 문서 클러스터링 알고리즘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884160" indent="-43812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클러스터 생성 및 초기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84160" indent="-43812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클러스터 확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84160" indent="-43812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클러스터 축소 및 완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8120" indent="-438120">
              <a:lnSpc>
                <a:spcPct val="90000"/>
              </a:lnSpc>
              <a:spcBef>
                <a:spcPts val="1199"/>
              </a:spcBef>
              <a:buClr>
                <a:srgbClr val="000099"/>
              </a:buClr>
              <a:buSzPct val="70000"/>
              <a:buFont typeface="Arial"/>
              <a:buAutoNum type="arabicPeriod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Arial"/>
                <a:ea typeface="굴림"/>
              </a:rPr>
              <a:t>결론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97E5-E02D-465B-AA82-ED9C15961D7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2900" spc="-1" strike="noStrike">
                <a:solidFill>
                  <a:srgbClr val="cd0355"/>
                </a:solidFill>
                <a:latin typeface="Arial"/>
                <a:ea typeface="굴림"/>
              </a:rPr>
              <a:t>기존 클러스터링 방법</a:t>
            </a:r>
            <a:endParaRPr b="1" i="1" lang="en-US" sz="29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lnSpc>
                <a:spcPct val="90000"/>
              </a:lnSpc>
              <a:spcBef>
                <a:spcPts val="862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300" spc="-1" strike="noStrike">
                <a:solidFill>
                  <a:srgbClr val="000099"/>
                </a:solidFill>
                <a:latin typeface="Arial"/>
                <a:ea typeface="굴림"/>
              </a:rPr>
              <a:t>용어 가중치 방식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862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굴림"/>
              </a:rPr>
              <a:t>용어의 출현 빈도에 의한 가중치 계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862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굴림"/>
              </a:rPr>
              <a:t>비주제어가 유사도 계산에 사용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862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300" spc="-1" strike="noStrike">
                <a:solidFill>
                  <a:srgbClr val="000099"/>
                </a:solidFill>
                <a:latin typeface="Arial"/>
                <a:ea typeface="굴림"/>
              </a:rPr>
              <a:t>기존의 문서 클러스터링 알고리즘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862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굴림"/>
              </a:rPr>
              <a:t>유사도 계산과 저장을 위한 많은 시간과 공간 필요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862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300" spc="-1" strike="noStrike">
                <a:solidFill>
                  <a:srgbClr val="000099"/>
                </a:solidFill>
                <a:latin typeface="Arial"/>
                <a:ea typeface="굴림"/>
              </a:rPr>
              <a:t>해결 방안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862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굴림"/>
              </a:rPr>
              <a:t>용어의 출현 빈도가 아닌 문서 주제어 추출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862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굴림"/>
              </a:rPr>
              <a:t>유사도 행렬을 사용하지 않는 문서 클러스터링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50F8-D5BF-4955-8460-29155E73020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2900" spc="-1" strike="noStrike">
                <a:solidFill>
                  <a:srgbClr val="cd0355"/>
                </a:solidFill>
                <a:latin typeface="Arial"/>
                <a:ea typeface="굴림"/>
              </a:rPr>
              <a:t>주제어 추출 기법</a:t>
            </a:r>
            <a:endParaRPr b="1" i="1" lang="en-US" sz="29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lnSpc>
                <a:spcPct val="80000"/>
              </a:lnSpc>
              <a:spcBef>
                <a:spcPts val="862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300" spc="-1" strike="noStrike">
                <a:solidFill>
                  <a:srgbClr val="000099"/>
                </a:solidFill>
                <a:latin typeface="Arial"/>
                <a:ea typeface="굴림"/>
              </a:rPr>
              <a:t>문서 주제어 추출에 사용될 수 있는 특성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80000"/>
              </a:lnSpc>
              <a:spcBef>
                <a:spcPts val="862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굴림"/>
              </a:rPr>
              <a:t>어절 단위의 용어의 특성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80000"/>
              </a:lnSpc>
              <a:spcBef>
                <a:spcPts val="862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굴림"/>
              </a:rPr>
              <a:t>용어의 구문론적 특성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80000"/>
              </a:lnSpc>
              <a:spcBef>
                <a:spcPts val="862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굴림"/>
              </a:rPr>
              <a:t>문장의 위치 및 역할에 의한 용어의 특성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>
              <a:lnSpc>
                <a:spcPct val="8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80000"/>
              </a:lnSpc>
              <a:spcBef>
                <a:spcPts val="862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300" spc="-1" strike="noStrike">
                <a:solidFill>
                  <a:srgbClr val="000099"/>
                </a:solidFill>
                <a:latin typeface="Arial"/>
                <a:ea typeface="굴림"/>
              </a:rPr>
              <a:t>가중치 부여 방법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80000"/>
              </a:lnSpc>
              <a:spcBef>
                <a:spcPts val="862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굴림"/>
              </a:rPr>
              <a:t>어절 단위 용어 가중치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20680">
              <a:lnSpc>
                <a:spcPct val="80000"/>
              </a:lnSpc>
              <a:spcBef>
                <a:spcPts val="862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굴림"/>
              </a:rPr>
              <a:t>복합 명사의 용어 가중치를 기준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20680">
              <a:lnSpc>
                <a:spcPct val="80000"/>
              </a:lnSpc>
              <a:spcBef>
                <a:spcPts val="862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굴림"/>
              </a:rPr>
              <a:t>경험적인 방법에 의해 부여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80000"/>
              </a:lnSpc>
              <a:spcBef>
                <a:spcPts val="862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굴림"/>
              </a:rPr>
              <a:t>문장 단위 용어 가중치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20680">
              <a:lnSpc>
                <a:spcPct val="80000"/>
              </a:lnSpc>
              <a:spcBef>
                <a:spcPts val="862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굴림"/>
              </a:rPr>
              <a:t>주절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굴림"/>
              </a:rPr>
              <a:t>/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굴림"/>
              </a:rPr>
              <a:t>종속절에 출현한 용어의 가중치를 조절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8CD8-EF3F-49D3-93A2-DAE334821E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200" spc="-1" strike="noStrike">
                <a:solidFill>
                  <a:srgbClr val="cd0355"/>
                </a:solidFill>
                <a:latin typeface="Arial"/>
                <a:ea typeface="굴림"/>
              </a:rPr>
              <a:t>주제어 기반 문서 클러스터링</a:t>
            </a: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ko-KR" sz="2300" spc="-1" strike="noStrike">
              <a:solidFill>
                <a:srgbClr val="000099"/>
              </a:solidFill>
              <a:latin typeface="Arial"/>
              <a:ea typeface="굴림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666520" y="1523880"/>
            <a:ext cx="3279600" cy="4419360"/>
            <a:chOff x="2666520" y="1523880"/>
            <a:chExt cx="3279600" cy="4419360"/>
          </a:xfrm>
        </p:grpSpPr>
        <p:sp>
          <p:nvSpPr>
            <p:cNvPr id="97" name=""/>
            <p:cNvSpPr/>
            <p:nvPr/>
          </p:nvSpPr>
          <p:spPr>
            <a:xfrm>
              <a:off x="3417120" y="1523880"/>
              <a:ext cx="2319120" cy="39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굴림"/>
                </a:rPr>
                <a:t>입력 문서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211920" y="2258640"/>
              <a:ext cx="2729160" cy="33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굴림"/>
                </a:rPr>
                <a:t>주제어 추출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211920" y="2928600"/>
              <a:ext cx="2729160" cy="33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역파일 생성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0" name=""/>
            <p:cNvCxnSpPr>
              <a:stCxn id="97" idx="2"/>
              <a:endCxn id="98" idx="0"/>
            </p:cNvCxnSpPr>
            <p:nvPr/>
          </p:nvCxnSpPr>
          <p:spPr>
            <a:xfrm>
              <a:off x="4576320" y="192348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" name=""/>
            <p:cNvCxnSpPr>
              <a:stCxn id="98" idx="2"/>
              <a:endCxn id="99" idx="0"/>
            </p:cNvCxnSpPr>
            <p:nvPr/>
          </p:nvCxnSpPr>
          <p:spPr>
            <a:xfrm>
              <a:off x="4576320" y="259344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2" name=""/>
            <p:cNvSpPr/>
            <p:nvPr/>
          </p:nvSpPr>
          <p:spPr>
            <a:xfrm>
              <a:off x="3211920" y="3598560"/>
              <a:ext cx="2729160" cy="33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굴림"/>
                </a:rPr>
                <a:t>클러스터 생성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211920" y="4268520"/>
              <a:ext cx="2729160" cy="33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굴림"/>
                </a:rPr>
                <a:t>클러스터 확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201120" y="4938480"/>
              <a:ext cx="2745000" cy="33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굴림"/>
                </a:rPr>
                <a:t>클러스터 축소</a:t>
              </a: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/</a:t>
              </a:r>
              <a:r>
                <a:rPr b="0" lang="zh-CN" sz="1200" spc="-1" strike="noStrike">
                  <a:solidFill>
                    <a:srgbClr val="000000"/>
                  </a:solidFill>
                  <a:latin typeface="굴림"/>
                </a:rPr>
                <a:t>완성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5" name=""/>
            <p:cNvCxnSpPr>
              <a:stCxn id="99" idx="2"/>
              <a:endCxn id="102" idx="0"/>
            </p:cNvCxnSpPr>
            <p:nvPr/>
          </p:nvCxnSpPr>
          <p:spPr>
            <a:xfrm>
              <a:off x="4576320" y="32634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" name=""/>
            <p:cNvCxnSpPr>
              <a:stCxn id="102" idx="2"/>
              <a:endCxn id="103" idx="0"/>
            </p:cNvCxnSpPr>
            <p:nvPr/>
          </p:nvCxnSpPr>
          <p:spPr>
            <a:xfrm>
              <a:off x="4576320" y="39333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7" name=""/>
            <p:cNvCxnSpPr>
              <a:stCxn id="103" idx="2"/>
              <a:endCxn id="104" idx="0"/>
            </p:cNvCxnSpPr>
            <p:nvPr/>
          </p:nvCxnSpPr>
          <p:spPr>
            <a:xfrm flipH="1">
              <a:off x="4573440" y="4603320"/>
              <a:ext cx="324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8" name=""/>
            <p:cNvSpPr/>
            <p:nvPr/>
          </p:nvSpPr>
          <p:spPr>
            <a:xfrm>
              <a:off x="3996360" y="5631480"/>
              <a:ext cx="1159920" cy="31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굴림"/>
                </a:rPr>
                <a:t>종 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9" name=""/>
            <p:cNvCxnSpPr>
              <a:stCxn id="104" idx="2"/>
              <a:endCxn id="108" idx="0"/>
            </p:cNvCxnSpPr>
            <p:nvPr/>
          </p:nvCxnSpPr>
          <p:spPr>
            <a:xfrm>
              <a:off x="4573800" y="5273280"/>
              <a:ext cx="3240" cy="358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0" name=""/>
            <p:cNvCxnSpPr>
              <a:stCxn id="111" idx="0"/>
              <a:endCxn id="112" idx="0"/>
            </p:cNvCxnSpPr>
            <p:nvPr/>
          </p:nvCxnSpPr>
          <p:spPr>
            <a:xfrm>
              <a:off x="2666520" y="3375360"/>
              <a:ext cx="1080" cy="2010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13" name=""/>
            <p:cNvSpPr/>
            <p:nvPr/>
          </p:nvSpPr>
          <p:spPr>
            <a:xfrm>
              <a:off x="2666880" y="3375360"/>
              <a:ext cx="190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666880" y="5385240"/>
              <a:ext cx="189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F0AE-7A0D-4A49-86A4-FF12DAB730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200" spc="-1" strike="noStrike">
                <a:solidFill>
                  <a:srgbClr val="cd0355"/>
                </a:solidFill>
                <a:latin typeface="Arial"/>
                <a:ea typeface="굴림"/>
              </a:rPr>
              <a:t>클러스터링 과정 예</a:t>
            </a: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ko-KR" sz="2300" spc="-1" strike="noStrike">
              <a:solidFill>
                <a:srgbClr val="000099"/>
              </a:solidFill>
              <a:latin typeface="Arial"/>
              <a:ea typeface="굴림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400480" y="1295280"/>
            <a:ext cx="4343040" cy="5029200"/>
            <a:chOff x="2400480" y="1295280"/>
            <a:chExt cx="4343040" cy="5029200"/>
          </a:xfrm>
        </p:grpSpPr>
        <p:sp>
          <p:nvSpPr>
            <p:cNvPr id="118" name=""/>
            <p:cNvSpPr/>
            <p:nvPr/>
          </p:nvSpPr>
          <p:spPr>
            <a:xfrm>
              <a:off x="2400480" y="1295280"/>
              <a:ext cx="4343040" cy="502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Documents"/>
            <p:cNvSpPr/>
            <p:nvPr/>
          </p:nvSpPr>
          <p:spPr>
            <a:xfrm>
              <a:off x="3930120" y="1391760"/>
              <a:ext cx="755640" cy="506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421440" y="2080440"/>
              <a:ext cx="2291040" cy="220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역파일 생성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3163680" y="2636280"/>
              <a:ext cx="2805840" cy="1005840"/>
              <a:chOff x="3163680" y="2636280"/>
              <a:chExt cx="2805840" cy="1005840"/>
            </a:xfrm>
          </p:grpSpPr>
          <p:sp>
            <p:nvSpPr>
              <p:cNvPr id="122" name=""/>
              <p:cNvSpPr/>
              <p:nvPr/>
            </p:nvSpPr>
            <p:spPr>
              <a:xfrm>
                <a:off x="3163680" y="2636280"/>
                <a:ext cx="2805840" cy="1005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364200" y="2866680"/>
                <a:ext cx="973080" cy="674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굴림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738680" y="2866680"/>
                <a:ext cx="973080" cy="674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200" spc="-1" strike="noStrike">
                    <a:solidFill>
                      <a:srgbClr val="000000"/>
                    </a:solidFill>
                    <a:latin typeface="굴림"/>
                  </a:rPr>
                  <a:t>T</a:t>
                </a:r>
                <a:r>
                  <a:rPr b="0" lang="ko-KR" sz="1200" spc="-1" strike="noStrike" baseline="-25000">
                    <a:solidFill>
                      <a:srgbClr val="000000"/>
                    </a:solidFill>
                    <a:latin typeface="굴림"/>
                  </a:rPr>
                  <a:t>1,D</a:t>
                </a:r>
                <a:r>
                  <a:rPr b="0" lang="ko-KR" sz="1200" spc="-1" strike="noStrike">
                    <a:solidFill>
                      <a:srgbClr val="000000"/>
                    </a:solidFill>
                    <a:latin typeface="굴림"/>
                  </a:rPr>
                  <a:t>, T</a:t>
                </a:r>
                <a:r>
                  <a:rPr b="0" lang="ko-KR" sz="1200" spc="-1" strike="noStrike" baseline="-25000">
                    <a:solidFill>
                      <a:srgbClr val="000000"/>
                    </a:solidFill>
                    <a:latin typeface="굴림"/>
                  </a:rPr>
                  <a:t>2,D</a:t>
                </a:r>
                <a:r>
                  <a:rPr b="0" lang="ko-KR" sz="1200" spc="-1" strike="noStrike">
                    <a:solidFill>
                      <a:srgbClr val="000000"/>
                    </a:solidFill>
                    <a:latin typeface="굴림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200" spc="-1" strike="noStrike">
                    <a:solidFill>
                      <a:srgbClr val="000000"/>
                    </a:solidFill>
                    <a:latin typeface="굴림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200" spc="-1" strike="noStrike">
                    <a:solidFill>
                      <a:srgbClr val="000000"/>
                    </a:solidFill>
                    <a:latin typeface="굴림"/>
                  </a:rPr>
                  <a:t>T</a:t>
                </a:r>
                <a:r>
                  <a:rPr b="0" lang="ko-KR" sz="1200" spc="-1" strike="noStrike" baseline="-25000">
                    <a:solidFill>
                      <a:srgbClr val="000000"/>
                    </a:solidFill>
                    <a:latin typeface="굴림"/>
                  </a:rPr>
                  <a:t>n,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325680" y="2655720"/>
                <a:ext cx="1052280" cy="18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000000"/>
                    </a:solidFill>
                    <a:latin typeface="굴림"/>
                  </a:rPr>
                  <a:t>초기 클러스터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583160" y="2655720"/>
                <a:ext cx="1242720" cy="18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000000"/>
                    </a:solidFill>
                    <a:latin typeface="굴림"/>
                  </a:rPr>
                  <a:t>주제어 집합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2992320" y="3977640"/>
              <a:ext cx="3149280" cy="1005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77640" y="4178520"/>
              <a:ext cx="1374480" cy="73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D</a:t>
              </a:r>
              <a:r>
                <a:rPr b="0" lang="ko-KR" sz="1200" spc="-1" strike="noStrike" baseline="-25000">
                  <a:solidFill>
                    <a:srgbClr val="000000"/>
                  </a:solidFill>
                  <a:latin typeface="굴림"/>
                </a:rPr>
                <a:t>1a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, D</a:t>
              </a:r>
              <a:r>
                <a:rPr b="0" lang="ko-KR" sz="1200" spc="-1" strike="noStrike" baseline="-25000">
                  <a:solidFill>
                    <a:srgbClr val="000000"/>
                  </a:solidFill>
                  <a:latin typeface="굴림"/>
                </a:rPr>
                <a:t>1b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, 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D</a:t>
              </a:r>
              <a:r>
                <a:rPr b="0" lang="ko-KR" sz="1200" spc="-1" strike="noStrike" baseline="-25000">
                  <a:solidFill>
                    <a:srgbClr val="000000"/>
                  </a:solidFill>
                  <a:latin typeface="굴림"/>
                </a:rPr>
                <a:t>2a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, D</a:t>
              </a:r>
              <a:r>
                <a:rPr b="0" lang="ko-KR" sz="1200" spc="-1" strike="noStrike" baseline="-25000">
                  <a:solidFill>
                    <a:srgbClr val="000000"/>
                  </a:solidFill>
                  <a:latin typeface="굴림"/>
                </a:rPr>
                <a:t>2b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, 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4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4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D</a:t>
              </a:r>
              <a:r>
                <a:rPr b="0" lang="ko-KR" sz="1200" spc="-1" strike="noStrike" baseline="-25000">
                  <a:solidFill>
                    <a:srgbClr val="000000"/>
                  </a:solidFill>
                  <a:latin typeface="굴림"/>
                </a:rPr>
                <a:t>na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, D</a:t>
              </a:r>
              <a:r>
                <a:rPr b="0" lang="ko-KR" sz="1200" spc="-1" strike="noStrike" baseline="-25000">
                  <a:solidFill>
                    <a:srgbClr val="000000"/>
                  </a:solidFill>
                  <a:latin typeface="굴림"/>
                </a:rPr>
                <a:t>nb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, 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66960" y="4178520"/>
              <a:ext cx="1488960" cy="73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073320" y="4027680"/>
              <a:ext cx="1281240" cy="12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굴림"/>
                </a:rPr>
                <a:t>확장 클러스터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791600" y="4035960"/>
              <a:ext cx="1073520" cy="10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굴림"/>
                </a:rPr>
                <a:t>주제어 집합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2" name=""/>
            <p:cNvCxnSpPr>
              <a:stCxn id="119" idx="12"/>
              <a:endCxn id="120" idx="0"/>
            </p:cNvCxnSpPr>
            <p:nvPr/>
          </p:nvCxnSpPr>
          <p:spPr>
            <a:xfrm flipH="1">
              <a:off x="4566600" y="1898280"/>
              <a:ext cx="2880" cy="182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0" idx="2"/>
              <a:endCxn id="122" idx="0"/>
            </p:cNvCxnSpPr>
            <p:nvPr/>
          </p:nvCxnSpPr>
          <p:spPr>
            <a:xfrm>
              <a:off x="4566600" y="230076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4" name=""/>
            <p:cNvSpPr/>
            <p:nvPr/>
          </p:nvSpPr>
          <p:spPr>
            <a:xfrm>
              <a:off x="4643280" y="2368080"/>
              <a:ext cx="1264320" cy="133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굴림"/>
                </a:rPr>
                <a:t>클러스터 생성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5" name=""/>
                <p:cNvSpPr txBox="1"/>
                <p:nvPr/>
              </p:nvSpPr>
              <p:spPr>
                <a:xfrm>
                  <a:off x="4705560" y="4245840"/>
                  <a:ext cx="1305000" cy="16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2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</m:sub>
                      </m:sSub>
                      <m:r>
                        <m:t xml:space="preserve">,</m:t>
                      </m:r>
                      <m:r>
                        <m:t xml:space="preserve">⋯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n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6" name=""/>
                <p:cNvSpPr txBox="1"/>
                <p:nvPr/>
              </p:nvSpPr>
              <p:spPr>
                <a:xfrm>
                  <a:off x="4712760" y="4418640"/>
                  <a:ext cx="1293120" cy="16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2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sub>
                      </m:sSub>
                      <m:r>
                        <m:t xml:space="preserve">,</m:t>
                      </m:r>
                      <m:r>
                        <m:t xml:space="preserve">⋯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n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7" name=""/>
                <p:cNvSpPr txBox="1"/>
                <p:nvPr/>
              </p:nvSpPr>
              <p:spPr>
                <a:xfrm>
                  <a:off x="4712760" y="4687200"/>
                  <a:ext cx="1293120" cy="16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z</m:t>
                              </m:r>
                            </m:sub>
                          </m:sSub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2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z</m:t>
                              </m:r>
                            </m:sub>
                          </m:sSub>
                        </m:sub>
                      </m:sSub>
                      <m:r>
                        <m:t xml:space="preserve">,</m:t>
                      </m:r>
                      <m:r>
                        <m:t xml:space="preserve">⋯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n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z</m:t>
                              </m:r>
                            </m:sub>
                          </m:sSub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38" name=""/>
            <p:cNvSpPr/>
            <p:nvPr/>
          </p:nvSpPr>
          <p:spPr>
            <a:xfrm>
              <a:off x="5168160" y="4581000"/>
              <a:ext cx="229320" cy="133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4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4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81800" y="3709080"/>
              <a:ext cx="1264320" cy="13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굴림"/>
                </a:rPr>
                <a:t>클러스터 확장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0" name=""/>
            <p:cNvCxnSpPr>
              <a:stCxn id="122" idx="2"/>
              <a:endCxn id="127" idx="0"/>
            </p:cNvCxnSpPr>
            <p:nvPr/>
          </p:nvCxnSpPr>
          <p:spPr>
            <a:xfrm>
              <a:off x="4566600" y="364176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765240" y="5251680"/>
              <a:ext cx="1603800" cy="1005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79720" y="5469480"/>
              <a:ext cx="1374480" cy="73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D</a:t>
              </a:r>
              <a:r>
                <a:rPr b="0" lang="ko-KR" sz="1200" spc="-1" strike="noStrike" baseline="-25000">
                  <a:solidFill>
                    <a:srgbClr val="000000"/>
                  </a:solidFill>
                  <a:latin typeface="굴림"/>
                </a:rPr>
                <a:t>1A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, D</a:t>
              </a:r>
              <a:r>
                <a:rPr b="0" lang="ko-KR" sz="1200" spc="-1" strike="noStrike" baseline="-25000">
                  <a:solidFill>
                    <a:srgbClr val="000000"/>
                  </a:solidFill>
                  <a:latin typeface="굴림"/>
                </a:rPr>
                <a:t>1B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, 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D</a:t>
              </a:r>
              <a:r>
                <a:rPr b="0" lang="ko-KR" sz="1200" spc="-1" strike="noStrike" baseline="-25000">
                  <a:solidFill>
                    <a:srgbClr val="000000"/>
                  </a:solidFill>
                  <a:latin typeface="굴림"/>
                </a:rPr>
                <a:t>2A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, D</a:t>
              </a:r>
              <a:r>
                <a:rPr b="0" lang="ko-KR" sz="1200" spc="-1" strike="noStrike" baseline="-25000">
                  <a:solidFill>
                    <a:srgbClr val="000000"/>
                  </a:solidFill>
                  <a:latin typeface="굴림"/>
                </a:rPr>
                <a:t>2B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, 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4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4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D</a:t>
              </a:r>
              <a:r>
                <a:rPr b="0" lang="ko-KR" sz="1200" spc="-1" strike="noStrike" baseline="-25000">
                  <a:solidFill>
                    <a:srgbClr val="000000"/>
                  </a:solidFill>
                  <a:latin typeface="굴림"/>
                </a:rPr>
                <a:t>nA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, D</a:t>
              </a:r>
              <a:r>
                <a:rPr b="0" lang="ko-KR" sz="1200" spc="-1" strike="noStrike" baseline="-25000">
                  <a:solidFill>
                    <a:srgbClr val="000000"/>
                  </a:solidFill>
                  <a:latin typeface="굴림"/>
                </a:rPr>
                <a:t>nB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, 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41200" y="5301720"/>
              <a:ext cx="1443600" cy="15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굴림"/>
                </a:rPr>
                <a:t>완성된 클러스터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81800" y="5050440"/>
              <a:ext cx="1264320" cy="133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굴림"/>
                </a:rPr>
                <a:t>클러스터 완성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5" name=""/>
            <p:cNvCxnSpPr>
              <a:stCxn id="127" idx="2"/>
              <a:endCxn id="141" idx="0"/>
            </p:cNvCxnSpPr>
            <p:nvPr/>
          </p:nvCxnSpPr>
          <p:spPr>
            <a:xfrm>
              <a:off x="4566600" y="4983120"/>
              <a:ext cx="1080" cy="268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D1FE-8F92-4840-8548-A5889B0C728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200" spc="-1" strike="noStrike">
                <a:solidFill>
                  <a:srgbClr val="cd0355"/>
                </a:solidFill>
                <a:latin typeface="Arial"/>
                <a:ea typeface="굴림"/>
              </a:rPr>
              <a:t>주제어 기반 문서 클러스터링</a:t>
            </a: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lnSpc>
                <a:spcPct val="90000"/>
              </a:lnSpc>
              <a:spcBef>
                <a:spcPts val="862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300" spc="-1" strike="noStrike">
                <a:solidFill>
                  <a:srgbClr val="000099"/>
                </a:solidFill>
                <a:latin typeface="Arial"/>
                <a:ea typeface="굴림"/>
              </a:rPr>
              <a:t>클러스터 집합 </a:t>
            </a:r>
            <a:r>
              <a:rPr b="0" lang="ko-KR" sz="2300" spc="-1" strike="noStrike">
                <a:solidFill>
                  <a:srgbClr val="000099"/>
                </a:solidFill>
                <a:latin typeface="Arial"/>
                <a:ea typeface="굴림"/>
              </a:rPr>
              <a:t>C = { C</a:t>
            </a:r>
            <a:r>
              <a:rPr b="0" lang="ko-KR" sz="2300" spc="-1" strike="noStrike" baseline="-25000">
                <a:solidFill>
                  <a:srgbClr val="000099"/>
                </a:solidFill>
                <a:latin typeface="Arial"/>
                <a:ea typeface="굴림"/>
              </a:rPr>
              <a:t>1</a:t>
            </a:r>
            <a:r>
              <a:rPr b="0" lang="ko-KR" sz="2300" spc="-1" strike="noStrike">
                <a:solidFill>
                  <a:srgbClr val="000099"/>
                </a:solidFill>
                <a:latin typeface="Arial"/>
                <a:ea typeface="굴림"/>
              </a:rPr>
              <a:t>, C</a:t>
            </a:r>
            <a:r>
              <a:rPr b="0" lang="ko-KR" sz="2300" spc="-1" strike="noStrike" baseline="-25000">
                <a:solidFill>
                  <a:srgbClr val="000099"/>
                </a:solidFill>
                <a:latin typeface="Arial"/>
                <a:ea typeface="굴림"/>
              </a:rPr>
              <a:t>2</a:t>
            </a:r>
            <a:r>
              <a:rPr b="0" lang="ko-KR" sz="2300" spc="-1" strike="noStrike">
                <a:solidFill>
                  <a:srgbClr val="000099"/>
                </a:solidFill>
                <a:latin typeface="Arial"/>
                <a:ea typeface="굴림"/>
              </a:rPr>
              <a:t>, … , C</a:t>
            </a:r>
            <a:r>
              <a:rPr b="0" lang="ko-KR" sz="2300" spc="-1" strike="noStrike" baseline="-25000">
                <a:solidFill>
                  <a:srgbClr val="000099"/>
                </a:solidFill>
                <a:latin typeface="Arial"/>
                <a:ea typeface="굴림"/>
              </a:rPr>
              <a:t>n</a:t>
            </a:r>
            <a:r>
              <a:rPr b="0" lang="ko-KR" sz="2300" spc="-1" strike="noStrike">
                <a:solidFill>
                  <a:srgbClr val="000099"/>
                </a:solidFill>
                <a:latin typeface="Arial"/>
                <a:ea typeface="굴림"/>
              </a:rPr>
              <a:t> }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0" lang="ko-KR" sz="23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300" spc="-1" strike="noStrike">
                <a:solidFill>
                  <a:srgbClr val="000000"/>
                </a:solidFill>
                <a:latin typeface="Arial"/>
                <a:ea typeface="굴림"/>
              </a:rPr>
              <a:t>클러스터 </a:t>
            </a:r>
            <a:r>
              <a:rPr b="0" lang="ko-KR" sz="2300" spc="-1" strike="noStrike">
                <a:solidFill>
                  <a:srgbClr val="000000"/>
                </a:solidFill>
                <a:latin typeface="Arial"/>
                <a:ea typeface="굴림"/>
              </a:rPr>
              <a:t>C</a:t>
            </a:r>
            <a:r>
              <a:rPr b="0" lang="ko-KR" sz="23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i</a:t>
            </a:r>
            <a:r>
              <a:rPr b="0" lang="ko-KR" sz="2300" spc="-1" strike="noStrike">
                <a:solidFill>
                  <a:srgbClr val="000000"/>
                </a:solidFill>
                <a:latin typeface="Arial"/>
                <a:ea typeface="굴림"/>
              </a:rPr>
              <a:t>의 초기 상태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Arial"/>
                <a:ea typeface="굴림"/>
              </a:rPr>
              <a:t>      </a:t>
            </a:r>
            <a:r>
              <a:rPr b="0" lang="ko-KR" sz="23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굴림"/>
              </a:rPr>
              <a:t>클러스터 </a:t>
            </a: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굴림"/>
              </a:rPr>
              <a:t>C</a:t>
            </a:r>
            <a:r>
              <a:rPr b="0" lang="ko-KR" sz="16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i</a:t>
            </a: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굴림"/>
              </a:rPr>
              <a:t>확장 및 축소</a:t>
            </a: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862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300" spc="-1" strike="noStrike">
                <a:solidFill>
                  <a:srgbClr val="000099"/>
                </a:solidFill>
                <a:latin typeface="Arial"/>
                <a:ea typeface="굴림"/>
              </a:rPr>
              <a:t>주제어 집합 </a:t>
            </a:r>
            <a:r>
              <a:rPr b="0" lang="ko-KR" sz="2300" spc="-1" strike="noStrike">
                <a:solidFill>
                  <a:srgbClr val="000099"/>
                </a:solidFill>
                <a:latin typeface="Arial"/>
                <a:ea typeface="굴림"/>
              </a:rPr>
              <a:t>K</a:t>
            </a:r>
            <a:r>
              <a:rPr b="0" lang="ko-KR" sz="2300" spc="-1" strike="noStrike" baseline="-25000">
                <a:solidFill>
                  <a:srgbClr val="000099"/>
                </a:solidFill>
                <a:latin typeface="Arial"/>
                <a:ea typeface="굴림"/>
              </a:rPr>
              <a:t>D</a:t>
            </a:r>
            <a:r>
              <a:rPr b="0" lang="ko-KR" sz="2300" spc="-1" strike="noStrike">
                <a:solidFill>
                  <a:srgbClr val="000099"/>
                </a:solidFill>
                <a:latin typeface="Arial"/>
                <a:ea typeface="굴림"/>
              </a:rPr>
              <a:t> = { k | k</a:t>
            </a:r>
            <a:r>
              <a:rPr b="0" lang="ko-KR" sz="2300" spc="-1" strike="noStrike">
                <a:solidFill>
                  <a:srgbClr val="000099"/>
                </a:solidFill>
                <a:latin typeface="Arial"/>
                <a:ea typeface="굴림"/>
              </a:rPr>
              <a:t>는 문서 </a:t>
            </a:r>
            <a:r>
              <a:rPr b="0" lang="ko-KR" sz="2300" spc="-1" strike="noStrike">
                <a:solidFill>
                  <a:srgbClr val="000099"/>
                </a:solidFill>
                <a:latin typeface="Arial"/>
                <a:ea typeface="굴림"/>
              </a:rPr>
              <a:t>D</a:t>
            </a:r>
            <a:r>
              <a:rPr b="0" lang="ko-KR" sz="2300" spc="-1" strike="noStrike">
                <a:solidFill>
                  <a:srgbClr val="000099"/>
                </a:solidFill>
                <a:latin typeface="Arial"/>
                <a:ea typeface="굴림"/>
              </a:rPr>
              <a:t>에서 추출된 주제어</a:t>
            </a:r>
            <a:r>
              <a:rPr b="0" lang="ko-KR" sz="2300" spc="-1" strike="noStrike">
                <a:solidFill>
                  <a:srgbClr val="000099"/>
                </a:solidFill>
                <a:latin typeface="Arial"/>
                <a:ea typeface="굴림"/>
              </a:rPr>
              <a:t>}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Arial"/>
                <a:ea typeface="굴림"/>
              </a:rPr>
              <a:t>      </a:t>
            </a:r>
            <a:r>
              <a:rPr b="0" lang="ko-KR" sz="23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300" spc="-1" strike="noStrike">
                <a:solidFill>
                  <a:srgbClr val="000000"/>
                </a:solidFill>
                <a:latin typeface="Arial"/>
                <a:ea typeface="굴림"/>
              </a:rPr>
              <a:t>클러스터 </a:t>
            </a:r>
            <a:r>
              <a:rPr b="0" lang="ko-KR" sz="2300" spc="-1" strike="noStrike">
                <a:solidFill>
                  <a:srgbClr val="000000"/>
                </a:solidFill>
                <a:latin typeface="Arial"/>
                <a:ea typeface="굴림"/>
              </a:rPr>
              <a:t>C</a:t>
            </a:r>
            <a:r>
              <a:rPr b="0" lang="ko-KR" sz="23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i</a:t>
            </a:r>
            <a:r>
              <a:rPr b="0" lang="ko-KR" sz="2300" spc="-1" strike="noStrike">
                <a:solidFill>
                  <a:srgbClr val="000000"/>
                </a:solidFill>
                <a:latin typeface="Arial"/>
                <a:ea typeface="굴림"/>
              </a:rPr>
              <a:t>의 주제어 집합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33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3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0" lang="ko-KR" sz="23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0" lang="ko-KR" sz="23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굴림"/>
              </a:rPr>
              <a:t>클러스터 </a:t>
            </a: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굴림"/>
              </a:rPr>
              <a:t>C</a:t>
            </a:r>
            <a:r>
              <a:rPr b="0" lang="ko-KR" sz="16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i</a:t>
            </a: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굴림"/>
              </a:rPr>
              <a:t>의 확장된 주제어 집합</a:t>
            </a: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231920" y="2006640"/>
                <a:ext cx="363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1233360" y="2478240"/>
                <a:ext cx="402444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i</m:t>
                    </m:r>
                    <m:r>
                      <m:rPr>
                        <m:lit/>
                        <m:nor/>
                      </m:rPr>
                      <m:t xml:space="preserve">번째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클러스터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의</m:t>
                    </m:r>
                    <m:r>
                      <m:rPr>
                        <m:lit/>
                        <m:nor/>
                      </m:rPr>
                      <m:t xml:space="preserve"> j</m:t>
                    </m:r>
                    <m:r>
                      <m:rPr>
                        <m:lit/>
                        <m:nor/>
                      </m:rPr>
                      <m:t xml:space="preserve">번째</m:t>
                    </m:r>
                    <m:r>
                      <m:rPr>
                        <m:lit/>
                        <m:nor/>
                      </m:rPr>
                      <m:t xml:space="preserve">상태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1198440" y="4143240"/>
                <a:ext cx="47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201680" y="4572000"/>
                <a:ext cx="5884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클러스터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의</m:t>
                    </m:r>
                    <m:r>
                      <m:rPr>
                        <m:lit/>
                        <m:nor/>
                      </m:rPr>
                      <m:t xml:space="preserve"> j</m:t>
                    </m:r>
                    <m:r>
                      <m:rPr>
                        <m:lit/>
                        <m:nor/>
                      </m:rPr>
                      <m:t xml:space="preserve">번째</m:t>
                    </m:r>
                    <m:r>
                      <m:rPr>
                        <m:lit/>
                        <m:nor/>
                      </m:rPr>
                      <m:t xml:space="preserve">상태인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의</m:t>
                    </m:r>
                    <m:r>
                      <m:rPr>
                        <m:lit/>
                        <m:nor/>
                      </m:rPr>
                      <m:t xml:space="preserve">주제어</m:t>
                    </m:r>
                    <m:r>
                      <m:rPr>
                        <m:lit/>
                        <m:nor/>
                      </m:rPr>
                      <m:t xml:space="preserve">집합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C0B7-9782-4112-828A-F45214ADF8F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200" spc="-1" strike="noStrike">
                <a:solidFill>
                  <a:srgbClr val="cd0355"/>
                </a:solidFill>
                <a:latin typeface="Arial"/>
                <a:ea typeface="굴림"/>
              </a:rPr>
              <a:t>1. </a:t>
            </a:r>
            <a:r>
              <a:rPr b="1" i="1" lang="zh-CN" sz="3200" spc="-1" strike="noStrike">
                <a:solidFill>
                  <a:srgbClr val="cd0355"/>
                </a:solidFill>
                <a:latin typeface="Arial"/>
                <a:ea typeface="굴림"/>
              </a:rPr>
              <a:t>클러스터 생성 및 초기화</a:t>
            </a: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lnSpc>
                <a:spcPct val="90000"/>
              </a:lnSpc>
              <a:spcBef>
                <a:spcPts val="862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300" spc="-1" strike="noStrike">
                <a:solidFill>
                  <a:srgbClr val="000099"/>
                </a:solidFill>
                <a:latin typeface="Arial"/>
                <a:ea typeface="굴림"/>
              </a:rPr>
              <a:t>클러스터에 포함되지 않은 임의의 문서 </a:t>
            </a:r>
            <a:r>
              <a:rPr b="0" lang="en-US" sz="2300" spc="-1" strike="noStrike">
                <a:solidFill>
                  <a:srgbClr val="000099"/>
                </a:solidFill>
                <a:latin typeface="Arial"/>
                <a:ea typeface="굴림"/>
              </a:rPr>
              <a:t>D</a:t>
            </a:r>
            <a:r>
              <a:rPr b="0" lang="zh-CN" sz="2300" spc="-1" strike="noStrike">
                <a:solidFill>
                  <a:srgbClr val="000099"/>
                </a:solidFill>
                <a:latin typeface="Arial"/>
                <a:ea typeface="굴림"/>
              </a:rPr>
              <a:t>를 선택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lvl="2" marL="998640"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862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300" spc="-1" strike="noStrike">
                <a:solidFill>
                  <a:srgbClr val="000099"/>
                </a:solidFill>
                <a:latin typeface="Arial"/>
                <a:ea typeface="굴림"/>
              </a:rPr>
              <a:t>주제어 집합 생성 및 초기화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862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굴림"/>
              </a:rPr>
              <a:t>클러스터     의 초기 상태     의 주제어로      를 초기화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905120" y="2146320"/>
                <a:ext cx="12952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D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682720" y="3301920"/>
                <a:ext cx="30168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737240" y="3289320"/>
                <a:ext cx="3204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6705720" y="3276720"/>
                <a:ext cx="40140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886040" y="3886200"/>
                <a:ext cx="13017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1603-E7D8-49C4-BB6D-B63E081A42B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200" spc="-1" strike="noStrike">
                <a:solidFill>
                  <a:srgbClr val="cd0355"/>
                </a:solidFill>
                <a:latin typeface="Arial"/>
                <a:ea typeface="굴림"/>
              </a:rPr>
              <a:t>2. </a:t>
            </a:r>
            <a:r>
              <a:rPr b="1" i="1" lang="zh-CN" sz="3200" spc="-1" strike="noStrike">
                <a:solidFill>
                  <a:srgbClr val="cd0355"/>
                </a:solidFill>
                <a:latin typeface="Arial"/>
                <a:ea typeface="굴림"/>
              </a:rPr>
              <a:t>클러스터 및 주제어 집합의 확장</a:t>
            </a: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lnSpc>
                <a:spcPct val="90000"/>
              </a:lnSpc>
              <a:spcBef>
                <a:spcPts val="862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300" spc="-1" strike="noStrike">
                <a:solidFill>
                  <a:srgbClr val="000099"/>
                </a:solidFill>
                <a:latin typeface="Arial"/>
                <a:ea typeface="굴림"/>
              </a:rPr>
              <a:t>클러스터 확장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862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굴림"/>
              </a:rPr>
              <a:t>에 포함된 주제어가 있는 문서는 초기 문서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굴림"/>
              </a:rPr>
              <a:t>D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굴림"/>
              </a:rPr>
              <a:t>와 관련성이 높은 문서로 간주해서 클러스터 확장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862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300" spc="-1" strike="noStrike">
                <a:solidFill>
                  <a:srgbClr val="000099"/>
                </a:solidFill>
                <a:latin typeface="Arial"/>
                <a:ea typeface="굴림"/>
              </a:rPr>
              <a:t>주제어 집합 확장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862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굴림"/>
              </a:rPr>
              <a:t>클러스터의 확장에 따라 주제어 집합     을 확장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862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300" spc="-1" strike="noStrike">
                <a:solidFill>
                  <a:srgbClr val="000099"/>
                </a:solidFill>
                <a:latin typeface="Arial"/>
                <a:ea typeface="굴림"/>
              </a:rPr>
              <a:t>클러스터와 주제어 집합의 상호 확장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503360" y="2019240"/>
                <a:ext cx="40176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528920" y="2908440"/>
                <a:ext cx="608616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k</m:t>
                        </m:r>
                        <m:r>
                          <m:t xml:space="preserve">∈</m:t>
                        </m:r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r>
                          <m:t xml:space="preserve">인</m:t>
                        </m:r>
                        <m:r>
                          <m:rPr>
                            <m:lit/>
                            <m:nor/>
                          </m:rPr>
                          <m:t xml:space="preserve">주제어</m:t>
                        </m:r>
                        <m:r>
                          <m:rPr>
                            <m:lit/>
                            <m:nor/>
                          </m:rPr>
                          <m:t xml:space="preserve">k에</m:t>
                        </m:r>
                        <m:r>
                          <m:rPr>
                            <m:lit/>
                            <m:nor/>
                          </m:rPr>
                          <m:t xml:space="preserve">대해</m:t>
                        </m:r>
                        <m:r>
                          <m:t xml:space="preserve">k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sub>
                        </m:sSub>
                        <m:r>
                          <m:t xml:space="preserve">인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문서D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611360" y="4552920"/>
                <a:ext cx="332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where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∈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6243480" y="4013280"/>
                <a:ext cx="3859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B1F5-8CE9-4BA4-A95A-F2297A2B85A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7T11:24:45Z</dcterms:created>
  <dc:creator>Sungho Jang</dc:creator>
  <dc:description/>
  <dc:language>en-US</dc:language>
  <cp:lastModifiedBy>강승식</cp:lastModifiedBy>
  <dcterms:modified xsi:type="dcterms:W3CDTF">2002-07-05T08:03:53Z</dcterms:modified>
  <cp:revision>64</cp:revision>
  <dc:subject/>
  <dc:title>슬라이드 제목 없음</dc:title>
</cp:coreProperties>
</file>