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F05-AEF4-4C00-B1B2-2E68B0CD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3403-9D72-4CFC-9DFC-3EEC51D4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C0C8-3BC9-4CC3-927F-77589082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CE9-D0CE-412F-8110-728D5376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B820-81A4-4A47-AF9D-8089B479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006A-8F8B-4CC4-8E91-C506C60A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932B-DC56-4147-919F-6C495BFF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CE7E-DB3E-4302-9E58-D335BCF7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AB9D-3BFE-4DCB-859B-70AC10D1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EA0D-4C9F-40F5-A15B-456D7BF1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DD6D-7CBD-49D3-B9AD-B203A522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4FC-7C84-4B50-859D-0091291D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4842-26DC-449D-8946-C8B98665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C757-23BD-4BB3-AD78-D9204B62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A835-FDC9-4EE2-A6B0-9547AF51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61AA-F039-4615-AE29-31624AE1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87D9-546E-44B5-B188-9633C2E7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AE10-178D-4C32-8F4E-767C4973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C4E2-6950-4EBE-9B2D-37A7FC2C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538-ECE8-4D8A-8F27-9563C473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D5A0-D575-442C-8176-F21DC011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5F8-FF7A-4E9F-BDB0-47AC64E2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38A-FD20-442E-8FBD-7CC311DE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08A-D4B3-46A6-89A4-DEF7A51A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84FD-FAD8-45AF-BC8B-5BFDD980B984}" type="datetime">
              <a: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rPr>
              <a:t>26年 7月 30日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2A03-851B-4C74-9D33-1D1B1C2CD076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CB37-9135-4265-8A78-D7581E302129}" type="datetime">
              <a: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rPr>
              <a:t>26年 7月 30日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3828-E4C1-4738-AF11-4B3F2296D0C1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120" y="91404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언어처리 기술의 상용화와 기술평가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상용화의 전제조건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실용적인 기술확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핵심 기술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분석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생성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변환 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응용 기술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기계번역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동색인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맞춤법 검사 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stomer-driven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ko-KR" sz="2800" spc="-1" strike="noStrike">
                <a:solidFill>
                  <a:srgbClr val="ffff00"/>
                </a:solidFill>
                <a:latin typeface="Arial"/>
              </a:rPr>
              <a:t>사용자들이 필요로 하는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/W</a:t>
            </a:r>
            <a:r>
              <a:rPr b="0" i="1" lang="ko-KR" sz="2800" spc="-1" strike="noStrike">
                <a:solidFill>
                  <a:srgbClr val="ffff00"/>
                </a:solidFill>
                <a:latin typeface="Arial"/>
              </a:rPr>
              <a:t>가 무엇인가</a:t>
            </a:r>
            <a:r>
              <a:rPr b="0" i="1" lang="ko-KR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문서분류</a:t>
            </a: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자동요약 등 새로운 응용분야 발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6A35-C3D1-4F0B-8905-5727415771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2C6ED-6A6C-41A6-8F3D-13FE8E0304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086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핵심기술 확보방안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5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언어특성에 적합한 방법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기존 방법론을 그대로 사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MM model, </a:t>
            </a: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차트 파싱</a:t>
            </a: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PSG </a:t>
            </a: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기존 방법론을 수정하여 사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2-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evel model, </a:t>
            </a: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숙어인식에 의한 번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새로운 방법론을 고안하는 방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한국어의 특성에 적합한 방법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AF7-B504-4C41-8ACF-6929919B2D0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9DA71-4F2D-4244-A27B-5EF98CBBFF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086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응용기술 확보방안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stomer-driven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정확한 요구사항 분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사용자에게 도움이 되는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/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main-specific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적용범위 제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특정분야에서 비용절감 </a:t>
            </a: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기계번역 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4EBB-8809-4C7D-BBEC-9D91FA39F21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D8995-9D53-420E-8F7C-4B8CA85E5E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086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문제해결 기법 </a:t>
            </a: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: 80-20 </a:t>
            </a:r>
            <a:r>
              <a:rPr b="1" i="1" lang="en-US" sz="4400" spc="-1" strike="noStrike">
                <a:solidFill>
                  <a:srgbClr val="00cccc"/>
                </a:solidFill>
                <a:latin typeface="Arial"/>
              </a:rPr>
              <a:t>rule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5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적용범위의 넓고 좁음에 따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일반규칙</a:t>
            </a: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추가규칙</a:t>
            </a: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예외규칙</a:t>
            </a: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se </a:t>
            </a: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규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14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vide &amp; Conquer 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기법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문제범위 축소</a:t>
            </a: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개별적인 문제로 분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15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통제불능 상태 방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모듈화 원칙</a:t>
            </a: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imple &amp; sca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achine-based or Human-based Technolog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505-2809-4DF2-A123-84191400A1A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9C9CC-9B01-47FE-A308-EF3F8B2BCA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086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기술 평가 </a:t>
            </a: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...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30000"/>
              </a:lnSpc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실용적인 기술 수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30000"/>
              </a:lnSpc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형태소 분석 수준에서 가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30000"/>
              </a:lnSpc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국어정보베이스 등 기초가 튼튼해야 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30000"/>
              </a:lnSpc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영어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일어에 비해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: 5~20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년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앞으로의 전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30000"/>
              </a:lnSpc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NLP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응용분야가 급속히 증가하고 있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30000"/>
              </a:lnSpc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지속적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체계적인 연구개발 환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30000"/>
              </a:lnSpc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사용자 만족도에 대한 역효과 문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FEBF-C146-4F4F-BDE6-02C5AC52B82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21FED-9301-4488-92E1-2CA34BFDD9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086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기타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5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chnical Report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위주의 연구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개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주제별 중장기 연구개발 환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개발자간 자료 공유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시행착오 감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응용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/W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에의 적합성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신뢰성 확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362A-828B-4543-86A5-398F5D23C6A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B0500-7E29-4901-B028-4DC1D74AB9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086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맺음말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소프트웨어의 상용화 조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필수적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/W      (2)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비용절감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/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사용자 만족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/W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  (4)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새로운 수요 창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LP</a:t>
            </a:r>
            <a:r>
              <a:rPr b="0" lang="ko-K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ko-KR" sz="3200" spc="-1" strike="noStrike">
                <a:solidFill>
                  <a:srgbClr val="ff0000"/>
                </a:solidFill>
                <a:latin typeface="Arial"/>
              </a:rPr>
              <a:t>상용화 성공조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실용적인 핵심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응용 기술 확보 문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현 기술수준으로 상용화 가능한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/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특정분야에서 비용절감 효과 기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9CB0-C556-463D-B709-89EF4F9C260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7F106-3F6D-4706-A08C-7A002482F3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8T08:02:29Z</dcterms:created>
  <dc:creator>강승식</dc:creator>
  <dc:description/>
  <dc:language>en-US</dc:language>
  <cp:lastModifiedBy>강승식</cp:lastModifiedBy>
  <cp:lastPrinted>1999-10-07T14:28:04Z</cp:lastPrinted>
  <dcterms:modified xsi:type="dcterms:W3CDTF">2002-07-05T09:04:38Z</dcterms:modified>
  <cp:revision>85</cp:revision>
  <dc:subject/>
  <dc:title>디지털 문헌정보의 자동화</dc:title>
</cp:coreProperties>
</file>