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61A-D900-4159-9308-E62F18A9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0FC-7FAF-4650-9A7F-AFF939EC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004-783D-42D9-B74A-C4F6B782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BDF-2D78-4289-8C1C-5B9C9F5B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2E00-D1BB-485B-BC96-71779878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90AC-1D92-436A-8550-2C4AB229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53BF-0AE4-47D2-AD7B-BFD4C189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5100-4634-4827-8083-0E159565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932-A504-4E90-AE1E-470F4F4C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9AE-386F-431D-B656-B4E1878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492F-3826-489B-8934-17F0B94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82C-5866-484D-922D-1DF7CC6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BA2-76EA-4E60-B35B-6FBAAB2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5004-71F0-426B-963B-8E94B4D9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CE53-B624-41B8-A489-164CD39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7930-0485-4490-8A07-F64A3118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55A7-45B9-47C2-8DEC-BAE46DC8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0DF-715E-4F2B-A5BE-F15E322C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01B-CB5D-4D8F-92DB-DA313910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E9B-79CE-464F-86CA-8D38C261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134-0EB2-453F-AA3C-8C92D709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C4B-CEF6-43E9-8FAA-FC5233D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032-DEEA-4C95-8EFB-E56AFFA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CDB-9ACC-4716-91CF-443CA574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1b372d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1b372d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C4E0-AD6E-4CE1-B3F6-21A539D6DBE8}" type="slidenum"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372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1EA-BA24-473F-9EDC-F0C0C68A8BE3}" type="slidenum">
              <a:rPr b="0" lang="en-US" sz="1400" spc="-1" strike="noStrike">
                <a:solidFill>
                  <a:srgbClr val="1b372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b372d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b372d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2" marL="914400" algn="ctr">
              <a:spcBef>
                <a:spcPts val="575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b372d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1b372d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372d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1b372d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372d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1b372d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1b372d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372d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1b372d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1b372d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372d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1b372d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1fb991"/>
                </a:solidFill>
                <a:latin typeface="신명 태명조"/>
              </a:rPr>
              <a:t>정보추출</a:t>
            </a:r>
            <a:br>
              <a:rPr sz="5000"/>
            </a:br>
            <a:r>
              <a:rPr b="1" lang="ko-KR" sz="5000" spc="-1" strike="noStrike">
                <a:solidFill>
                  <a:srgbClr val="1fb991"/>
                </a:solidFill>
                <a:latin typeface="½Å¸í ÅÂ¸íÁ¶"/>
              </a:rPr>
              <a:t>Coreference</a:t>
            </a:r>
            <a:r>
              <a:rPr b="1" lang="ko-KR" sz="5000" spc="-1" strike="noStrike">
                <a:solidFill>
                  <a:srgbClr val="1fb991"/>
                </a:solidFill>
                <a:latin typeface="신명 태명조"/>
                <a:ea typeface="신명 태명조"/>
              </a:rPr>
              <a:t> </a:t>
            </a:r>
            <a:r>
              <a:rPr b="1" lang="ko-KR" sz="5000" spc="-1" strike="noStrike">
                <a:solidFill>
                  <a:srgbClr val="1fb991"/>
                </a:solidFill>
                <a:latin typeface="½Å¸í ÅÂ¸íÁ¶"/>
                <a:ea typeface="신명 태명조"/>
              </a:rPr>
              <a:t>Resolution</a:t>
            </a:r>
            <a:endParaRPr b="0" lang="en-US" sz="50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400" spc="-1" strike="noStrike">
              <a:solidFill>
                <a:srgbClr val="1b372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Coreference Resolution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바탕"/>
                <a:ea typeface="바탕"/>
              </a:rPr>
              <a:t> </a:t>
            </a:r>
            <a:endParaRPr b="0" lang="en-US" sz="17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1143000"/>
            <a:ext cx="82296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소프라노 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조수미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/per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광주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loc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공연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)/NP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세계적인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소프라노 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조수미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(39)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씨가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4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년만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TIME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광주팬들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찾는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조씨는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오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7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월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15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일 오후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7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TIME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광주 문예회관 대강당에서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loc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아시아 인권과 평화를 기원하는 조수미 광주 독창회’를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title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갖는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이번 공연에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조씨는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모차르트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미사곡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‘하늘에서 내려오시오’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song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등과 함께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김동진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 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진달래꽃’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song,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김순애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 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그대 있음에’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song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등의 우리 가곡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부른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조수미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독창회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광주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MBC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와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org 5·18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기념재단이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org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공동주최하며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공연시간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90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분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 (‘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천상의 목소리’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자랑하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조씨는</a:t>
            </a:r>
            <a:r>
              <a:rPr b="1" lang="ko-KR" sz="1400" spc="-1" strike="noStrike" u="sng">
                <a:solidFill>
                  <a:srgbClr val="cc9900"/>
                </a:solidFill>
                <a:uFillTx/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이번 공연에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아시아의 인권과 민주화 성지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자리잡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광주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loc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시민들에게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끝없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음악적 호기심과 실험정신으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더욱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성숙해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그녀만의 음악세계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선보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예정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입장권 가격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로열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10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S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8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A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6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B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4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 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4629240"/>
            <a:ext cx="7467480" cy="1851480"/>
          </a:xfrm>
          <a:prstGeom prst="rect">
            <a:avLst/>
          </a:prstGeom>
          <a:solidFill>
            <a:srgbClr val="ccecff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9900"/>
                </a:solidFill>
                <a:latin typeface="굴림"/>
              </a:rPr>
              <a:t>적용 기술 및 지식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1b372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Coreference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인식 과정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1b372d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후보 추출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: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동일 속성의 고유명사 후보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1b372d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선택 방법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3" marL="1371600">
              <a:lnSpc>
                <a:spcPct val="100000"/>
              </a:lnSpc>
              <a:spcBef>
                <a:spcPts val="349"/>
              </a:spcBef>
              <a:buClr>
                <a:srgbClr val="1b372d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인식 규칙 적용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3" marL="137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ex)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규칙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: 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성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이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호칭접미사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3" marL="137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               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=&gt; 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성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이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 | 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성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호칭접미사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 | 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이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호칭접미사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  <a:ea typeface="굴림"/>
              </a:rPr>
              <a:t>} …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095720"/>
            <a:ext cx="48564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8A8-CBA7-41A6-B41E-73D9130388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요 약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 ‘그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그녀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그들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그녀들’의 선행사를 찾는 경험적인 규칙 제시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의 주격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목적격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소유격에 대해 각각의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heuristic rule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기술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정확도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--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주격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88.6%,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소유격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90.3%,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목적격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81.5% 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한국어의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coreference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특징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는 </a:t>
            </a:r>
            <a:r>
              <a:rPr b="0" i="1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현재문장 또는 이전문장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의 주어가 선행사일 경우가 매우 높다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A05-2BC1-4830-B8BD-5818B1B374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영어 </a:t>
            </a: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CogNIAC: 6</a:t>
            </a: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개 경험규칙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326"/>
              </a:spcBef>
              <a:buClr>
                <a:srgbClr val="1b372d"/>
              </a:buClr>
              <a:buSzPct val="75000"/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Unique in Discourse: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대명사의 앞 부분에 선행사 가능 단어가 유일하면 이를 선택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61800" indent="-361800">
              <a:lnSpc>
                <a:spcPct val="90000"/>
              </a:lnSpc>
              <a:spcBef>
                <a:spcPts val="326"/>
              </a:spcBef>
              <a:buClr>
                <a:srgbClr val="1b372d"/>
              </a:buClr>
              <a:buSzPct val="75000"/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Reflexive: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재귀 대명사는 현재 문장에서 가장 가까운 선행사 후보를 선택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61800" indent="-361800">
              <a:lnSpc>
                <a:spcPct val="90000"/>
              </a:lnSpc>
              <a:spcBef>
                <a:spcPts val="326"/>
              </a:spcBef>
              <a:buClr>
                <a:srgbClr val="1b372d"/>
              </a:buClr>
              <a:buSzPct val="75000"/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Unique in Current + Prior: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현재 문장과 앞 문장에서 선행사 가능 단어가 유일할 경우 이를 선택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61800" indent="-361800">
              <a:lnSpc>
                <a:spcPct val="90000"/>
              </a:lnSpc>
              <a:spcBef>
                <a:spcPts val="326"/>
              </a:spcBef>
              <a:buClr>
                <a:srgbClr val="1b372d"/>
              </a:buClr>
              <a:buSzPct val="75000"/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Possessive: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소유 대명사는 앞 문장에서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Exact String Match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인 선행사가 있으면 이를 선택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61800" indent="-361800">
              <a:lnSpc>
                <a:spcPct val="90000"/>
              </a:lnSpc>
              <a:spcBef>
                <a:spcPts val="326"/>
              </a:spcBef>
              <a:buClr>
                <a:srgbClr val="1b372d"/>
              </a:buClr>
              <a:buSzPct val="75000"/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Unique Current Sentence: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현재 문장에서 선행사 가능 단어가 유일하면 이를 선택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61800" indent="-361800">
              <a:lnSpc>
                <a:spcPct val="90000"/>
              </a:lnSpc>
              <a:spcBef>
                <a:spcPts val="326"/>
              </a:spcBef>
              <a:buClr>
                <a:srgbClr val="1b372d"/>
              </a:buClr>
              <a:buSzPct val="75000"/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Unique Subject/Subject pronoun: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대명사가 현재 문장의 주어이고 앞 문장의 주어가 유일한 선행사 가능이면 앞 문장의 주어를 선택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998-7ECC-489C-8F71-4AA7BB17F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한국어의 경험규칙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b372d"/>
                </a:solidFill>
                <a:latin typeface="굴림"/>
              </a:rPr>
              <a:t>3</a:t>
            </a:r>
            <a:r>
              <a:rPr b="0" lang="ko-KR" sz="3000" spc="-1" strike="noStrike">
                <a:solidFill>
                  <a:srgbClr val="1b372d"/>
                </a:solidFill>
                <a:latin typeface="굴림"/>
              </a:rPr>
              <a:t>가지 형태로 구분하여 연구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인칭 대명사의 주격 및 보조사 ‘은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/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는’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인칭 대명사의 소유격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인칭 대명사의 목적격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b372d"/>
                </a:solidFill>
                <a:latin typeface="굴림"/>
              </a:rPr>
              <a:t>선행사 요건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인칭대명사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직책명사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인칭 대명사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위 품사이고 수가 일치한다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623-81FA-4283-A808-62DB324093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한국어 경험규칙 </a:t>
            </a: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(1) -- </a:t>
            </a: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주격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검색방식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] 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주격 및 보조사 ‘은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는’ 형태의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를 찾는다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해당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로부터 좌측으로 주격 및 ‘은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는’ 선행사 후보 검색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규칙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1]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현재 문장 또는 앞 문장에서 주격 및 ‘은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는’에 해당하는 선행사가 발견되고 선행사 요건을 만족하면 선행사로 선택한다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규칙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2]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현재 문장 또는 앞 문장에서 주격 및 ‘은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/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는’이 여러 개인 경우는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에 가장 가까운 것을 선택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713-AE10-4E25-9C45-AA4D6F3685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한국어 경험규칙 </a:t>
            </a: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(2) -- </a:t>
            </a: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소유격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검색방식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]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소유격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를 찾는다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좌측으로 주격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(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보조사 포함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),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소유격 선행사 후보를 검색한다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규칙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3]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문장 내에서 주격이 선행사의 요건을 만족하면 선행사로 선택한다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규칙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4]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문장 내에서 소유격을 찾은 경우 주격이 있는지 확인한다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주격이 없는 경우는 소유격 선행사를 선택하고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,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주격을 발견한 경우는 주격을 선택한다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. (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소유격도 선행사 요건을 만족해야 한다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.)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규칙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5]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문장 내에서 발견된 선행사 후보들이 소유격만  존재할 경우 경우는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에 가장 가까운 후보를 선택한다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9CF-3127-414C-88D1-3D1A93A386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한국어 경험규칙 </a:t>
            </a:r>
            <a:r>
              <a:rPr b="0" lang="en-US" sz="4200" spc="-1" strike="noStrike">
                <a:solidFill>
                  <a:srgbClr val="1fb991"/>
                </a:solidFill>
                <a:latin typeface="굴림"/>
              </a:rPr>
              <a:t>(3) -- </a:t>
            </a: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목적격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검색방식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]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목적격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를 찾고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,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해당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로부터 좌측으로 검색하여 주격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(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보조사 포함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),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소유격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,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목적격 선행사 후보를 검색한다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규칙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6]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문장 내에 주격 선행사 후보가 존재하면 선택하고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,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존재하지 않으면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로부터 가장 가까운 선행사 요건을 갖춘 후보를 선택한다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[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규칙 </a:t>
            </a:r>
            <a:r>
              <a:rPr b="0" lang="ko-KR" sz="2600" spc="-1" strike="noStrike">
                <a:solidFill>
                  <a:srgbClr val="1b372d"/>
                </a:solidFill>
                <a:latin typeface="굴림체"/>
                <a:ea typeface="굴림체"/>
              </a:rPr>
              <a:t>7]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또는 직책명사 다음에 바로 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3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인칭 대명사가 출현하고 선행사 요건을 만족하면 선행사로 선택한다</a:t>
            </a:r>
            <a:r>
              <a:rPr b="0" lang="ko-KR" sz="22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002-C4E9-41B3-8832-9F2423823B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1fb991"/>
                </a:solidFill>
                <a:latin typeface="굴림"/>
              </a:rPr>
              <a:t>실험 및 평가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주격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인칭 대명사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정확률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: 88.6%,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재현율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78%(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오류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22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개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)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lvl="2" marL="902880" indent="-180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잘못 찾은 경우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: 10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2" marL="902880" indent="-180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못 찾은 경우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: 12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소유격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인칭 대명사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정확률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: 90.3% ,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재현율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84%(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오류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16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개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)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lvl="2" marL="902880" indent="-180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잘못 찾은 경우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: 9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2" marL="902880" indent="-180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못 찾은 경우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: 7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목적격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인칭 대명사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4470a0"/>
              </a:buClr>
              <a:buSzPct val="7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정확률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: 81.5%,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재현율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75%(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오류 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25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개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)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lvl="2" marL="902880" indent="-180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잘못 찾은 경우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: 8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2" marL="902880" indent="-180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찾지 못한 경우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: 9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  <a:p>
            <a:pPr lvl="2" marL="902880" indent="-180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5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‘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그것을’의 준말 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: 8</a:t>
            </a:r>
            <a:r>
              <a:rPr b="0" lang="ko-KR" sz="2600" spc="-1" strike="noStrike">
                <a:solidFill>
                  <a:srgbClr val="1b372d"/>
                </a:solidFill>
                <a:latin typeface="굴림"/>
              </a:rPr>
              <a:t>개</a:t>
            </a:r>
            <a:endParaRPr b="0" lang="en-US" sz="2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FCC-2C6D-49DB-94D7-5D39545A95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1fb991"/>
                </a:solidFill>
                <a:latin typeface="굴림"/>
              </a:rPr>
              <a:t>예 제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예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) </a:t>
            </a:r>
            <a:r>
              <a:rPr b="1" lang="ko-KR" sz="2400" spc="-1" strike="noStrike" u="sng">
                <a:solidFill>
                  <a:srgbClr val="1b372d"/>
                </a:solidFill>
                <a:uFillTx/>
                <a:latin typeface="굴림체"/>
                <a:ea typeface="굴림체"/>
              </a:rPr>
              <a:t>노태우씨는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 한마디로 비교적 안정된 기조 위에 점진적 개혁을 추구하는 합리적 정치인으로 평가될 수 있을 것이다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그러나 </a:t>
            </a:r>
            <a:r>
              <a:rPr b="1" lang="ko-KR" sz="2400" spc="-1" strike="noStrike" u="sng">
                <a:solidFill>
                  <a:srgbClr val="1b372d"/>
                </a:solidFill>
                <a:uFillTx/>
                <a:latin typeface="굴림체"/>
                <a:ea typeface="굴림체"/>
              </a:rPr>
              <a:t>그는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 자신의 건곤일에도 불구하고 해방 이후 우리 나라 정치사에 중대한 변수로 치부되어 왔던 군 출신임에 틀림없다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예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) </a:t>
            </a:r>
            <a:r>
              <a:rPr b="1" lang="ko-KR" sz="2400" spc="-1" strike="noStrike" u="sng">
                <a:solidFill>
                  <a:srgbClr val="1b372d"/>
                </a:solidFill>
                <a:uFillTx/>
                <a:latin typeface="굴림체"/>
                <a:ea typeface="굴림체"/>
              </a:rPr>
              <a:t>김당선자는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 그런 뜻에서 작은 의리와 구연을 버려야 한다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r>
              <a:rPr b="1" lang="ko-KR" sz="2400" spc="-1" strike="noStrike" u="sng">
                <a:solidFill>
                  <a:srgbClr val="1b372d"/>
                </a:solidFill>
                <a:uFillTx/>
                <a:latin typeface="굴림체"/>
                <a:ea typeface="굴림체"/>
              </a:rPr>
              <a:t>그의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 당선을 위해 불철주야로 일한 수많은 동지가 있다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r>
              <a:rPr b="1" lang="ko-KR" sz="2400" spc="-1" strike="noStrike" u="sng">
                <a:solidFill>
                  <a:srgbClr val="1b372d"/>
                </a:solidFill>
                <a:uFillTx/>
                <a:latin typeface="굴림체"/>
                <a:ea typeface="굴림체"/>
              </a:rPr>
              <a:t>그의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 오늘이 있기까지 모든 불리한 여건에도 불구하고 그의 곁을 지켜온 많은 측근이 있다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예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) 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대통령제하의 극한 대립양상 운운은 그럴듯한 명분일 뿐이다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. 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그들은 </a:t>
            </a:r>
            <a:r>
              <a:rPr b="1" lang="ko-KR" sz="2400" spc="-1" strike="noStrike" u="sng">
                <a:solidFill>
                  <a:srgbClr val="1b372d"/>
                </a:solidFill>
                <a:uFillTx/>
                <a:latin typeface="굴림체"/>
                <a:ea typeface="굴림체"/>
              </a:rPr>
              <a:t>김영삼씨가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 아무리 민자당 대표위원이라고 해도 </a:t>
            </a:r>
            <a:r>
              <a:rPr b="1" lang="ko-KR" sz="2400" spc="-1" strike="noStrike" u="sng">
                <a:solidFill>
                  <a:srgbClr val="1b372d"/>
                </a:solidFill>
                <a:uFillTx/>
                <a:latin typeface="굴림체"/>
                <a:ea typeface="굴림체"/>
              </a:rPr>
              <a:t>그를</a:t>
            </a:r>
            <a:r>
              <a:rPr b="1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 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여권의 사람으로 보지 않고 있으며 여권의 맥을 이을 사람으로는 더더욱 보지 않고 있음이 점차 확실해지고 있다</a:t>
            </a:r>
            <a:r>
              <a:rPr b="0" lang="ko-KR" sz="2400" spc="-1" strike="noStrike">
                <a:solidFill>
                  <a:srgbClr val="1b372d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DA4-3CBA-4E9D-A23C-9EAA3D63FE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876920" y="1523880"/>
            <a:ext cx="2117520" cy="1219320"/>
          </a:xfrm>
          <a:prstGeom prst="ellipse">
            <a:avLst/>
          </a:prstGeom>
          <a:solidFill>
            <a:srgbClr val="4470a0"/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18043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Interpretation</a:t>
            </a:r>
            <a:endParaRPr b="0" lang="en-US" sz="2800" spc="-1" strike="noStrike">
              <a:solidFill>
                <a:srgbClr val="1b372d"/>
              </a:solidFill>
              <a:latin typeface="굴림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267080" y="1217880"/>
            <a:ext cx="1598400" cy="534600"/>
            <a:chOff x="4267080" y="1217880"/>
            <a:chExt cx="1598400" cy="534600"/>
          </a:xfrm>
        </p:grpSpPr>
        <p:sp>
          <p:nvSpPr>
            <p:cNvPr id="87" name=""/>
            <p:cNvSpPr/>
            <p:nvPr/>
          </p:nvSpPr>
          <p:spPr>
            <a:xfrm>
              <a:off x="4267080" y="1219320"/>
              <a:ext cx="1523880" cy="5331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1b37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372d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79680" y="121788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372d"/>
                  </a:solidFill>
                  <a:latin typeface="Times New Roman"/>
                  <a:ea typeface="MS PGothic"/>
                </a:rPr>
                <a:t>Knowledge</a:t>
              </a:r>
              <a:endParaRPr b="0" lang="en-US" sz="2400" spc="-1" strike="noStrike">
                <a:solidFill>
                  <a:srgbClr val="1b372d"/>
                </a:solidFill>
                <a:latin typeface="굴림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990720" y="3657600"/>
            <a:ext cx="1066680" cy="914400"/>
            <a:chOff x="990720" y="3657600"/>
            <a:chExt cx="1066680" cy="914400"/>
          </a:xfrm>
        </p:grpSpPr>
        <p:sp>
          <p:nvSpPr>
            <p:cNvPr id="90" name=""/>
            <p:cNvSpPr/>
            <p:nvPr/>
          </p:nvSpPr>
          <p:spPr>
            <a:xfrm>
              <a:off x="990720" y="3657600"/>
              <a:ext cx="1066680" cy="9144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1b37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372d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0720" y="3962160"/>
              <a:ext cx="1066680" cy="1526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1b37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372d"/>
                </a:solidFill>
                <a:latin typeface="굴림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90720" y="5029200"/>
            <a:ext cx="1066680" cy="914400"/>
            <a:chOff x="990720" y="5029200"/>
            <a:chExt cx="1066680" cy="914400"/>
          </a:xfrm>
        </p:grpSpPr>
        <p:sp>
          <p:nvSpPr>
            <p:cNvPr id="93" name=""/>
            <p:cNvSpPr/>
            <p:nvPr/>
          </p:nvSpPr>
          <p:spPr>
            <a:xfrm>
              <a:off x="990720" y="5029200"/>
              <a:ext cx="1066680" cy="9144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1b37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372d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720" y="5181840"/>
              <a:ext cx="1066680" cy="152280"/>
            </a:xfrm>
            <a:prstGeom prst="rect">
              <a:avLst/>
            </a:prstGeom>
            <a:solidFill>
              <a:srgbClr val="0066ff"/>
            </a:solidFill>
            <a:ln w="38160">
              <a:solidFill>
                <a:srgbClr val="1b37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372d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0720" y="5562720"/>
              <a:ext cx="1066680" cy="152280"/>
            </a:xfrm>
            <a:prstGeom prst="rect">
              <a:avLst/>
            </a:prstGeom>
            <a:solidFill>
              <a:srgbClr val="0066ff"/>
            </a:solidFill>
            <a:ln w="38160">
              <a:solidFill>
                <a:srgbClr val="1b37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372d"/>
                </a:solidFill>
                <a:latin typeface="굴림"/>
              </a:endParaRPr>
            </a:p>
          </p:txBody>
        </p:sp>
      </p:grpSp>
      <p:sp>
        <p:nvSpPr>
          <p:cNvPr id="96" name=""/>
          <p:cNvSpPr/>
          <p:nvPr/>
        </p:nvSpPr>
        <p:spPr>
          <a:xfrm rot="9107400">
            <a:off x="2423520" y="3428640"/>
            <a:ext cx="1081080" cy="142920"/>
          </a:xfrm>
          <a:prstGeom prst="leftArrow">
            <a:avLst>
              <a:gd name="adj1" fmla="val 50000"/>
              <a:gd name="adj2" fmla="val 189106"/>
            </a:avLst>
          </a:prstGeom>
          <a:solidFill>
            <a:srgbClr val="ff0000"/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2438280"/>
            <a:ext cx="1523880" cy="685800"/>
          </a:xfrm>
          <a:prstGeom prst="ellipse">
            <a:avLst/>
          </a:prstGeom>
          <a:noFill/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813480" y="251352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372d"/>
                </a:solidFill>
                <a:latin typeface="Times New Roman"/>
                <a:ea typeface="MS PGothic"/>
              </a:rPr>
              <a:t>IE System</a:t>
            </a: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056960" y="584460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Texts</a:t>
            </a:r>
            <a:endParaRPr b="0" lang="en-US" sz="28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733920"/>
            <a:ext cx="914400" cy="914400"/>
          </a:xfrm>
          <a:prstGeom prst="rect">
            <a:avLst/>
          </a:prstGeom>
          <a:noFill/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3733920"/>
            <a:ext cx="762120" cy="380880"/>
          </a:xfrm>
          <a:prstGeom prst="rect">
            <a:avLst/>
          </a:prstGeom>
          <a:solidFill>
            <a:srgbClr val="c0c0c0"/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114800"/>
            <a:ext cx="762120" cy="533520"/>
          </a:xfrm>
          <a:prstGeom prst="rect">
            <a:avLst/>
          </a:prstGeom>
          <a:noFill/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86600" y="4114800"/>
            <a:ext cx="457200" cy="295200"/>
          </a:xfrm>
          <a:prstGeom prst="rect">
            <a:avLst/>
          </a:prstGeom>
          <a:noFill/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086600" y="4419000"/>
            <a:ext cx="457200" cy="228600"/>
          </a:xfrm>
          <a:prstGeom prst="rect">
            <a:avLst/>
          </a:prstGeom>
          <a:solidFill>
            <a:srgbClr val="cc9900"/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876920"/>
            <a:ext cx="914400" cy="914400"/>
          </a:xfrm>
          <a:prstGeom prst="rect">
            <a:avLst/>
          </a:prstGeom>
          <a:noFill/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4876920"/>
            <a:ext cx="762120" cy="380880"/>
          </a:xfrm>
          <a:prstGeom prst="rect">
            <a:avLst/>
          </a:prstGeom>
          <a:solidFill>
            <a:srgbClr val="0066ff"/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257800"/>
            <a:ext cx="762120" cy="533520"/>
          </a:xfrm>
          <a:prstGeom prst="rect">
            <a:avLst/>
          </a:prstGeom>
          <a:noFill/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5257800"/>
            <a:ext cx="457200" cy="295200"/>
          </a:xfrm>
          <a:prstGeom prst="rect">
            <a:avLst/>
          </a:prstGeom>
          <a:solidFill>
            <a:srgbClr val="ffff99"/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086600" y="5562000"/>
            <a:ext cx="457200" cy="228600"/>
          </a:xfrm>
          <a:prstGeom prst="rect">
            <a:avLst/>
          </a:prstGeom>
          <a:solidFill>
            <a:srgbClr val="00ffff"/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 rot="12818400">
            <a:off x="5333400" y="3276360"/>
            <a:ext cx="1130040" cy="172800"/>
          </a:xfrm>
          <a:prstGeom prst="leftArrow">
            <a:avLst>
              <a:gd name="adj1" fmla="val 50000"/>
              <a:gd name="adj2" fmla="val 163490"/>
            </a:avLst>
          </a:prstGeom>
          <a:solidFill>
            <a:srgbClr val="ff0000"/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325560" y="579060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Templates</a:t>
            </a:r>
            <a:endParaRPr b="0" lang="en-US" sz="28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08440" y="3962520"/>
            <a:ext cx="2958840" cy="1676160"/>
          </a:xfrm>
          <a:prstGeom prst="rect">
            <a:avLst/>
          </a:prstGeom>
          <a:solidFill>
            <a:srgbClr val="0066ff">
              <a:alpha val="50000"/>
            </a:srgbClr>
          </a:solidFill>
          <a:ln w="381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2534400" y="4221000"/>
            <a:ext cx="36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1b372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372d"/>
                </a:solidFill>
                <a:latin typeface="Times New Roman"/>
                <a:ea typeface="MS PGothic"/>
              </a:rPr>
              <a:t>NLP-</a:t>
            </a:r>
            <a:r>
              <a:rPr b="0" lang="ko-KR" sz="2400" spc="-1" strike="noStrike">
                <a:solidFill>
                  <a:srgbClr val="1b372d"/>
                </a:solidFill>
                <a:latin typeface="Times New Roman"/>
              </a:rPr>
              <a:t>based IE</a:t>
            </a: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1b372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372d"/>
                </a:solidFill>
                <a:latin typeface="Times New Roman"/>
                <a:ea typeface="MS PGothic"/>
              </a:rPr>
              <a:t>2. Wrapper-based IE</a:t>
            </a: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572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새굴림"/>
              </a:rPr>
              <a:t>정보 추출 방법론</a:t>
            </a:r>
            <a:endParaRPr b="0" lang="en-US" sz="3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208-0CA6-4A09-B07E-6A0CFFBF5E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77120" y="1981080"/>
            <a:ext cx="2514600" cy="2552760"/>
          </a:xfrm>
          <a:prstGeom prst="rect">
            <a:avLst/>
          </a:prstGeom>
          <a:solidFill>
            <a:srgbClr val="ccffff"/>
          </a:solidFill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715000"/>
            <a:ext cx="73821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915080"/>
            <a:ext cx="7382160" cy="799920"/>
          </a:xfrm>
          <a:prstGeom prst="rect">
            <a:avLst/>
          </a:prstGeom>
          <a:solidFill>
            <a:srgbClr val="ccffcc"/>
          </a:solidFill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533600" y="1981080"/>
            <a:ext cx="2057400" cy="2562480"/>
          </a:xfrm>
          <a:prstGeom prst="rect">
            <a:avLst/>
          </a:prstGeom>
          <a:solidFill>
            <a:srgbClr val="ffff99"/>
          </a:solidFill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1981080"/>
            <a:ext cx="2514600" cy="2552760"/>
          </a:xfrm>
          <a:prstGeom prst="rect">
            <a:avLst/>
          </a:prstGeom>
          <a:solidFill>
            <a:srgbClr val="ccffff"/>
          </a:solidFill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914480" y="256212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사용자 세션 관리자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914480" y="317196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개인화 시스템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914480" y="378144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Repository </a:t>
            </a: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관리자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3209760" y="2714760"/>
            <a:ext cx="228600" cy="1440"/>
          </a:xfrm>
          <a:prstGeom prst="line">
            <a:avLst/>
          </a:prstGeom>
          <a:ln w="9360">
            <a:solidFill>
              <a:srgbClr val="1b37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685880" y="2714760"/>
            <a:ext cx="1800" cy="60948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85520" y="2714760"/>
            <a:ext cx="228600" cy="1440"/>
          </a:xfrm>
          <a:prstGeom prst="line">
            <a:avLst/>
          </a:prstGeom>
          <a:ln w="9360">
            <a:solidFill>
              <a:srgbClr val="1b37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305000" y="3019320"/>
            <a:ext cx="380880" cy="1800"/>
          </a:xfrm>
          <a:prstGeom prst="line">
            <a:avLst/>
          </a:prstGeom>
          <a:ln w="9360">
            <a:solidFill>
              <a:srgbClr val="1b37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605808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1b372d"/>
                </a:solidFill>
                <a:latin typeface="굴림"/>
              </a:rPr>
              <a:t>형태소 분석</a:t>
            </a:r>
            <a:r>
              <a:rPr b="1" lang="ko-KR" sz="1000" spc="-1" strike="noStrike">
                <a:solidFill>
                  <a:srgbClr val="1b372d"/>
                </a:solidFill>
                <a:latin typeface="굴림"/>
              </a:rPr>
              <a:t>, 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1b372d"/>
                </a:solidFill>
                <a:latin typeface="굴림"/>
              </a:rPr>
              <a:t>태깅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605808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Shallow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Parsing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05808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고유명사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인식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605808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1b372d"/>
                </a:solidFill>
                <a:latin typeface="굴림"/>
              </a:rPr>
              <a:t>Coreference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1b372d"/>
                </a:solidFill>
                <a:latin typeface="굴림"/>
              </a:rPr>
              <a:t>Resolution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605808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Template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생성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605808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Template 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통합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089680"/>
            <a:ext cx="91440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Logical Line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분리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5089680"/>
            <a:ext cx="91440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Wrapper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생성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5089680"/>
            <a:ext cx="91440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Wrapper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적용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086360" y="3581280"/>
            <a:ext cx="838080" cy="714600"/>
          </a:xfrm>
          <a:prstGeom prst="flowChartMagneticDisk">
            <a:avLst/>
          </a:prstGeom>
          <a:solidFill>
            <a:srgbClr val="99cc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Wrapper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KB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07640" y="5905440"/>
            <a:ext cx="103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Unstructured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Document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27080" y="5105520"/>
            <a:ext cx="120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Semi-structured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Document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241960"/>
            <a:ext cx="22860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241960"/>
            <a:ext cx="22860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6210360"/>
            <a:ext cx="22860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6210360"/>
            <a:ext cx="22860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6210360"/>
            <a:ext cx="22860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6210360"/>
            <a:ext cx="22860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6210360"/>
            <a:ext cx="22860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10360"/>
            <a:ext cx="53316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241960"/>
            <a:ext cx="53316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016000" y="46483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굴림"/>
              </a:rPr>
              <a:t>정보 추출 시스템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634040" y="17017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굴림"/>
              </a:rPr>
              <a:t>One-Stop </a:t>
            </a:r>
            <a:r>
              <a:rPr b="1" lang="zh-CN" sz="1400" spc="-1" strike="noStrike">
                <a:solidFill>
                  <a:srgbClr val="0000cc"/>
                </a:solidFill>
                <a:latin typeface="굴림"/>
              </a:rPr>
              <a:t>서비스 시스템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0" name="Cloud"/>
          <p:cNvSpPr/>
          <p:nvPr/>
        </p:nvSpPr>
        <p:spPr>
          <a:xfrm>
            <a:off x="4419720" y="914400"/>
            <a:ext cx="2286000" cy="8985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Network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657600"/>
            <a:ext cx="838440" cy="609480"/>
          </a:xfrm>
          <a:prstGeom prst="flowChartMagneticDisk">
            <a:avLst/>
          </a:prstGeom>
          <a:solidFill>
            <a:srgbClr val="ffcccc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1b372d"/>
                </a:solidFill>
                <a:latin typeface="굴림"/>
              </a:rPr>
              <a:t>컨텐츠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1b372d"/>
                </a:solidFill>
                <a:latin typeface="굴림"/>
              </a:rPr>
              <a:t>저장 </a:t>
            </a:r>
            <a:r>
              <a:rPr b="1" lang="ko-KR" sz="1000" spc="-1" strike="noStrike">
                <a:solidFill>
                  <a:srgbClr val="1b372d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85520" y="3324240"/>
            <a:ext cx="228600" cy="1440"/>
          </a:xfrm>
          <a:prstGeom prst="line">
            <a:avLst/>
          </a:prstGeom>
          <a:ln w="9360">
            <a:solidFill>
              <a:srgbClr val="1b37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3209760" y="3933720"/>
            <a:ext cx="228600" cy="1800"/>
          </a:xfrm>
          <a:prstGeom prst="line">
            <a:avLst/>
          </a:prstGeom>
          <a:ln w="9360">
            <a:solidFill>
              <a:srgbClr val="1b37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438280"/>
            <a:ext cx="838440" cy="533520"/>
          </a:xfrm>
          <a:prstGeom prst="flowChartMagneticDisk">
            <a:avLst/>
          </a:prstGeom>
          <a:solidFill>
            <a:srgbClr val="ffcccc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서비스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저장 </a:t>
            </a: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3048120"/>
            <a:ext cx="838440" cy="533160"/>
          </a:xfrm>
          <a:prstGeom prst="flowChartMagneticDisk">
            <a:avLst/>
          </a:prstGeom>
          <a:solidFill>
            <a:srgbClr val="ffcccc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서비스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Meta </a:t>
            </a: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지식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3352680"/>
            <a:ext cx="838080" cy="49536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Ontology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3352680"/>
            <a:ext cx="838080" cy="49536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Template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생성규칙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2743200"/>
            <a:ext cx="838080" cy="57168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고유명사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사전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2743200"/>
            <a:ext cx="838080" cy="57168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시소러스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2705040"/>
            <a:ext cx="2057400" cy="1295640"/>
          </a:xfrm>
          <a:prstGeom prst="rect">
            <a:avLst/>
          </a:prstGeom>
          <a:noFill/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867800" y="4000680"/>
            <a:ext cx="0" cy="87624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696080" y="4114800"/>
            <a:ext cx="0" cy="194328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95520" y="4114800"/>
            <a:ext cx="160020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95680" y="4352400"/>
            <a:ext cx="0" cy="72396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638680" y="4343040"/>
            <a:ext cx="0" cy="73332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6" name="tower"/>
          <p:cNvSpPr/>
          <p:nvPr/>
        </p:nvSpPr>
        <p:spPr>
          <a:xfrm>
            <a:off x="7696080" y="914400"/>
            <a:ext cx="30492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7" name="tower"/>
          <p:cNvSpPr/>
          <p:nvPr/>
        </p:nvSpPr>
        <p:spPr>
          <a:xfrm>
            <a:off x="7391520" y="1523880"/>
            <a:ext cx="304560" cy="3812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7395480" y="1295280"/>
            <a:ext cx="101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서비스 </a:t>
            </a: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Provider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7709760" y="685800"/>
            <a:ext cx="101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서비스 </a:t>
            </a: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Provider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324120" y="1066680"/>
            <a:ext cx="1295640" cy="15264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095520" y="1523520"/>
            <a:ext cx="1219320" cy="22860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5089680"/>
            <a:ext cx="91440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1b37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b372d"/>
                </a:solidFill>
                <a:latin typeface="굴림"/>
              </a:rPr>
              <a:t>Logical Line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b372d"/>
                </a:solidFill>
                <a:latin typeface="굴림"/>
              </a:rPr>
              <a:t>분류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619440" y="3352680"/>
            <a:ext cx="1447920" cy="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362320"/>
            <a:ext cx="1143000" cy="2057400"/>
          </a:xfrm>
          <a:prstGeom prst="rect">
            <a:avLst/>
          </a:prstGeom>
          <a:noFill/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1895400"/>
            <a:ext cx="0" cy="45720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438360" y="2724120"/>
            <a:ext cx="0" cy="1219320"/>
          </a:xfrm>
          <a:prstGeom prst="line">
            <a:avLst/>
          </a:prstGeom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2895480"/>
            <a:ext cx="0" cy="304920"/>
          </a:xfrm>
          <a:prstGeom prst="line">
            <a:avLst/>
          </a:prstGeom>
          <a:ln w="9360">
            <a:solidFill>
              <a:srgbClr val="1b372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80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새굴림"/>
              </a:rPr>
              <a:t>시스템 구성도</a:t>
            </a:r>
            <a:endParaRPr b="0" lang="en-US" sz="3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7933320" y="5029200"/>
            <a:ext cx="94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굴림"/>
              </a:rPr>
              <a:t>Wrapper </a:t>
            </a:r>
            <a:r>
              <a:rPr b="1" lang="zh-CN" sz="1000" spc="-1" strike="noStrike">
                <a:solidFill>
                  <a:srgbClr val="0000cc"/>
                </a:solidFill>
                <a:latin typeface="굴림"/>
              </a:rPr>
              <a:t>기반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cc"/>
                </a:solidFill>
                <a:latin typeface="굴림"/>
              </a:rPr>
              <a:t>정보추출 시스템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8032680" y="5699160"/>
            <a:ext cx="74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굴림"/>
              </a:rPr>
              <a:t>NLP </a:t>
            </a:r>
            <a:r>
              <a:rPr b="1" lang="zh-CN" sz="1000" spc="-1" strike="noStrike">
                <a:solidFill>
                  <a:srgbClr val="0000cc"/>
                </a:solidFill>
                <a:latin typeface="굴림"/>
              </a:rPr>
              <a:t>기반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cc"/>
                </a:solidFill>
                <a:latin typeface="굴림"/>
              </a:rPr>
              <a:t>정보추출 시스템</a:t>
            </a:r>
            <a:endParaRPr b="0" lang="en-US" sz="10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979680" y="20574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굴림"/>
              </a:rPr>
              <a:t>Knowledge Bas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343400"/>
            <a:ext cx="685800" cy="68580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8058240" y="4000680"/>
            <a:ext cx="0" cy="1714320"/>
          </a:xfrm>
          <a:prstGeom prst="line">
            <a:avLst/>
          </a:prstGeom>
          <a:ln w="9360">
            <a:solidFill>
              <a:srgbClr val="1b37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pic>
        <p:nvPicPr>
          <p:cNvPr id="184" name="Image1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4120" y="3711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b372d"/>
                </a:solidFill>
                <a:latin typeface="Arial"/>
              </a:rPr>
              <a:t>사용자</a:t>
            </a:r>
            <a:endParaRPr b="0" lang="en-US" sz="12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3926880" y="205740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굴림"/>
              </a:rPr>
              <a:t>Repository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F16-532A-44AB-AE7D-1521302CB7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57480" y="4572000"/>
            <a:ext cx="525780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Wrapper </a:t>
            </a: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기반 정보추출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3371760"/>
            <a:ext cx="1170000" cy="808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b372d"/>
                </a:solidFill>
                <a:latin typeface="굴림"/>
              </a:rPr>
              <a:t>도메인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b372d"/>
                </a:solidFill>
                <a:latin typeface="굴림"/>
              </a:rPr>
              <a:t>지식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7524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372d"/>
                </a:solidFill>
                <a:latin typeface="굴림"/>
              </a:rPr>
              <a:t>Pattern</a:t>
            </a:r>
            <a:r>
              <a:rPr b="1" lang="zh-CN" sz="1800" spc="-1" strike="noStrike">
                <a:solidFill>
                  <a:srgbClr val="1b372d"/>
                </a:solidFill>
                <a:latin typeface="굴림"/>
              </a:rPr>
              <a:t>을</a:t>
            </a:r>
            <a:endParaRPr b="0" lang="en-US" sz="18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372d"/>
                </a:solidFill>
                <a:latin typeface="굴림"/>
              </a:rPr>
              <a:t>포함하는 </a:t>
            </a:r>
            <a:endParaRPr b="0" lang="en-US" sz="18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372d"/>
                </a:solidFill>
                <a:latin typeface="굴림"/>
              </a:rPr>
              <a:t>Web pages</a:t>
            </a:r>
            <a:endParaRPr b="0" lang="en-US" sz="18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592200" y="462132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372d"/>
                </a:solidFill>
                <a:latin typeface="굴림"/>
              </a:rPr>
              <a:t>New</a:t>
            </a:r>
            <a:endParaRPr b="0" lang="en-US" sz="18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372d"/>
                </a:solidFill>
                <a:latin typeface="굴림"/>
              </a:rPr>
              <a:t>Web</a:t>
            </a:r>
            <a:endParaRPr b="0" lang="en-US" sz="18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372d"/>
                </a:solidFill>
                <a:latin typeface="굴림"/>
              </a:rPr>
              <a:t>Pages</a:t>
            </a:r>
            <a:endParaRPr b="0" lang="en-US" sz="18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5962680" y="3352680"/>
            <a:ext cx="1170000" cy="81756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Wrapper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KB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7727760" y="48988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372d"/>
                </a:solidFill>
                <a:latin typeface="굴림"/>
              </a:rPr>
              <a:t>Templates</a:t>
            </a:r>
            <a:endParaRPr b="0" lang="en-US" sz="18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2386080" y="4800600"/>
            <a:ext cx="1352520" cy="687240"/>
          </a:xfrm>
          <a:prstGeom prst="rect">
            <a:avLst/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Logical Lin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분리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4119480" y="4800600"/>
            <a:ext cx="1352520" cy="687240"/>
          </a:xfrm>
          <a:prstGeom prst="rect">
            <a:avLst/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Logical Lin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분류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815080" y="4800600"/>
            <a:ext cx="1352520" cy="687240"/>
          </a:xfrm>
          <a:prstGeom prst="rect">
            <a:avLst/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Wrapper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적용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3681360" y="4952880"/>
            <a:ext cx="45720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5414760" y="4952880"/>
            <a:ext cx="45720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1461960" y="4952880"/>
            <a:ext cx="45720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7400880" y="4952880"/>
            <a:ext cx="45720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1828800"/>
            <a:ext cx="5257800" cy="1143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2057400"/>
            <a:ext cx="1352520" cy="687240"/>
          </a:xfrm>
          <a:prstGeom prst="rect">
            <a:avLst/>
          </a:prstGeom>
          <a:solidFill>
            <a:srgbClr val="ffcc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Logical Lin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분리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4095720" y="2057400"/>
            <a:ext cx="1352520" cy="687240"/>
          </a:xfrm>
          <a:prstGeom prst="rect">
            <a:avLst/>
          </a:prstGeom>
          <a:solidFill>
            <a:srgbClr val="ffcc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Logical Lin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분류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057400"/>
            <a:ext cx="1352520" cy="687240"/>
          </a:xfrm>
          <a:prstGeom prst="rect">
            <a:avLst/>
          </a:prstGeom>
          <a:solidFill>
            <a:srgbClr val="ffcc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Wrapper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생성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3647880" y="2209680"/>
            <a:ext cx="45720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381640" y="2209680"/>
            <a:ext cx="45720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1438200" y="2209680"/>
            <a:ext cx="45720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971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6343560" y="42670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562640" y="42670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62640" y="29710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742920" y="1371600"/>
            <a:ext cx="19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372d"/>
                </a:solidFill>
                <a:latin typeface="Arial"/>
              </a:rPr>
              <a:t>Wrapper </a:t>
            </a:r>
            <a:r>
              <a:rPr b="1" lang="zh-CN" sz="2400" spc="-1" strike="noStrike">
                <a:solidFill>
                  <a:srgbClr val="1b372d"/>
                </a:solidFill>
                <a:latin typeface="Arial"/>
              </a:rPr>
              <a:t>학습</a:t>
            </a: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165560" y="5715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372d"/>
                </a:solidFill>
                <a:latin typeface="Arial"/>
              </a:rPr>
              <a:t>정보 추출 시스템</a:t>
            </a: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371760"/>
            <a:ext cx="1398600" cy="808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b372d"/>
                </a:solidFill>
                <a:latin typeface="굴림"/>
              </a:rPr>
              <a:t>휴리스틱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b372d"/>
                </a:solidFill>
                <a:latin typeface="굴림"/>
              </a:rPr>
              <a:t>HTML parsing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809800" y="42670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809800" y="29710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973-A0CD-4A08-81E7-F78AC30A7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4602240" y="2286000"/>
            <a:ext cx="4236840" cy="2666520"/>
            <a:chOff x="4602240" y="2286000"/>
            <a:chExt cx="4236840" cy="266652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4602240" y="2286000"/>
              <a:ext cx="4236840" cy="26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6365520" y="2286000"/>
              <a:ext cx="708480" cy="2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Wrapper Induction </a:t>
            </a: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예제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b372d"/>
                </a:solidFill>
                <a:latin typeface="굴림"/>
              </a:rPr>
              <a:t>영화 소개 사이트</a:t>
            </a:r>
            <a:endParaRPr b="0" lang="en-US" sz="3000" spc="-1" strike="noStrike">
              <a:solidFill>
                <a:srgbClr val="1b372d"/>
              </a:solidFill>
              <a:latin typeface="굴림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8600" y="2286000"/>
            <a:ext cx="4248000" cy="2819160"/>
            <a:chOff x="228600" y="2286000"/>
            <a:chExt cx="4248000" cy="2819160"/>
          </a:xfrm>
        </p:grpSpPr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228600" y="2286000"/>
              <a:ext cx="424800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6"/>
            <a:stretch/>
          </p:blipFill>
          <p:spPr>
            <a:xfrm>
              <a:off x="1987200" y="2286000"/>
              <a:ext cx="714600" cy="26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3505320" y="548640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Pattern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을 포함하는 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Web pages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EE9-3F06-45CE-BC49-BEAD811CBD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NLP </a:t>
            </a: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기반 정보추출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4952880"/>
            <a:ext cx="84582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4038480"/>
            <a:ext cx="8458200" cy="914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124080"/>
            <a:ext cx="84582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228760"/>
            <a:ext cx="845820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610000" y="2362320"/>
            <a:ext cx="1352520" cy="687240"/>
          </a:xfrm>
          <a:prstGeom prst="rect">
            <a:avLst/>
          </a:prstGeom>
          <a:solidFill>
            <a:srgbClr val="ffcc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고유명사 사전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4191120"/>
            <a:ext cx="1352520" cy="687240"/>
          </a:xfrm>
          <a:prstGeom prst="rect">
            <a:avLst/>
          </a:prstGeom>
          <a:solidFill>
            <a:srgbClr val="ffcc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유한 오토마타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610000" y="3276720"/>
            <a:ext cx="1352520" cy="687240"/>
          </a:xfrm>
          <a:prstGeom prst="rect">
            <a:avLst/>
          </a:prstGeom>
          <a:solidFill>
            <a:srgbClr val="ccff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동의어 사전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시소러스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057560" y="2362320"/>
            <a:ext cx="1352520" cy="687240"/>
          </a:xfrm>
          <a:prstGeom prst="rect">
            <a:avLst/>
          </a:prstGeom>
          <a:solidFill>
            <a:srgbClr val="ffcc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고유명사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인식규칙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105520"/>
            <a:ext cx="1352520" cy="687240"/>
          </a:xfrm>
          <a:prstGeom prst="rect">
            <a:avLst/>
          </a:prstGeom>
          <a:solidFill>
            <a:srgbClr val="ffff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Templat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통합 규칙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057560" y="3276720"/>
            <a:ext cx="1352520" cy="687240"/>
          </a:xfrm>
          <a:prstGeom prst="rect">
            <a:avLst/>
          </a:prstGeom>
          <a:solidFill>
            <a:srgbClr val="ccff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Coreferenc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인식규칙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5505480" y="2362320"/>
            <a:ext cx="1352520" cy="687240"/>
          </a:xfrm>
          <a:prstGeom prst="rect">
            <a:avLst/>
          </a:prstGeom>
          <a:solidFill>
            <a:srgbClr val="ffcc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Training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Data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31720"/>
            <a:ext cx="1352520" cy="687600"/>
          </a:xfrm>
          <a:prstGeom prst="rect">
            <a:avLst/>
          </a:prstGeom>
          <a:solidFill>
            <a:srgbClr val="eaeaea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형태소분석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품사태깅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447920"/>
            <a:ext cx="1352520" cy="687240"/>
          </a:xfrm>
          <a:prstGeom prst="rect">
            <a:avLst/>
          </a:prstGeom>
          <a:solidFill>
            <a:srgbClr val="eaeaea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Shallow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Parsing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2362320"/>
            <a:ext cx="1352520" cy="687240"/>
          </a:xfrm>
          <a:prstGeom prst="rect">
            <a:avLst/>
          </a:prstGeom>
          <a:solidFill>
            <a:srgbClr val="ffcccc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고유명사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인식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276720"/>
            <a:ext cx="1352520" cy="687240"/>
          </a:xfrm>
          <a:prstGeom prst="rect">
            <a:avLst/>
          </a:prstGeom>
          <a:solidFill>
            <a:srgbClr val="ccffcc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Coreferenc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Resolution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191120"/>
            <a:ext cx="1352520" cy="687240"/>
          </a:xfrm>
          <a:prstGeom prst="rect">
            <a:avLst/>
          </a:prstGeom>
          <a:solidFill>
            <a:srgbClr val="ffcc99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Templat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생성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5105520"/>
            <a:ext cx="1352520" cy="687240"/>
          </a:xfrm>
          <a:prstGeom prst="rect">
            <a:avLst/>
          </a:prstGeom>
          <a:solidFill>
            <a:srgbClr val="ffffcc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Template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통합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7162920" y="5029200"/>
            <a:ext cx="1428480" cy="763560"/>
          </a:xfrm>
          <a:prstGeom prst="rect">
            <a:avLst/>
          </a:prstGeom>
          <a:solidFill>
            <a:srgbClr val="ffff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정보추출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Test Suite (v1.0)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2362320"/>
            <a:ext cx="1428480" cy="687240"/>
          </a:xfrm>
          <a:prstGeom prst="rect">
            <a:avLst/>
          </a:prstGeom>
          <a:solidFill>
            <a:srgbClr val="ffcc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</a:rPr>
              <a:t>고유명사 인식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Test Suite (v1.0)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3274920"/>
            <a:ext cx="1428480" cy="687600"/>
          </a:xfrm>
          <a:prstGeom prst="rect">
            <a:avLst/>
          </a:prstGeom>
          <a:solidFill>
            <a:srgbClr val="ccffcc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Coreference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인식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Test Suite (v1.0)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3054600" y="1905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사전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4355280" y="190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규칙기반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802840" y="190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통계기반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2193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1337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30481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9625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4876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57913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813240" y="596268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Templates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04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0a0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7288920" y="190512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Test Suites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754560" y="4752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</a:rPr>
              <a:t>Web Pages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209680"/>
            <a:ext cx="4419720" cy="3733920"/>
          </a:xfrm>
          <a:prstGeom prst="rect">
            <a:avLst/>
          </a:prstGeom>
          <a:noFill/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7086600" y="2209680"/>
            <a:ext cx="1600200" cy="3733920"/>
          </a:xfrm>
          <a:prstGeom prst="rect">
            <a:avLst/>
          </a:prstGeom>
          <a:noFill/>
          <a:ln w="9360">
            <a:solidFill>
              <a:srgbClr val="1b37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C5B-BD8A-404F-B937-48173F4DD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예문 </a:t>
            </a: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: </a:t>
            </a: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공연기사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6666"/>
                </a:solidFill>
                <a:latin typeface="굴림"/>
                <a:ea typeface="굴림"/>
              </a:rPr>
              <a:t>소프라노 조수미 광주 공연 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 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세계적인 소프라노 조수미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(39)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씨가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4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년만에 광주팬들을 찾는다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조씨는 오는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15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일 오후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시 광주 문예회관 대강당에서 ‘아시아 인권과 평화를 기원하는 조수미 광주 독창회’를 갖는다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이번 공연에서 조씨는 모차르트의 미사곡 ‘하늘에서 내려오시오’ 등과 함께 김동진의 ‘진달래꽃’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김순애의 ‘그대 있음에’ 등의 우리 가곡을 부른다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조수미 독창회는 광주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MBC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5·18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기념재단이 공동주최하며 공연시간은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90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분이다 ‘천상의 목소리’를 자랑하는 조씨는 이번 공연에서 아시아의 인권과 민주화 성지로 자리잡은 광주 시민들에게 끝없는 음악적 호기심과 실험정신으로 더욱 성숙해진 그녀만의 음악세계를 선보일 예정이다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입장권 가격은 로열석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만원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, S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석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8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만원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, A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석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6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만원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, B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석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4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만원이다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경향신문 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: 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최종 편집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: 2001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년 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07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월 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03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일 </a:t>
            </a:r>
            <a:r>
              <a:rPr b="0" lang="ko-KR" sz="2200" spc="-1" strike="noStrike">
                <a:solidFill>
                  <a:srgbClr val="0000ff"/>
                </a:solidFill>
                <a:latin typeface="굴림"/>
                <a:ea typeface="굴림"/>
              </a:rPr>
              <a:t>08:58:04</a:t>
            </a:r>
            <a:r>
              <a:rPr b="0" lang="ko-KR" sz="2200" spc="-1" strike="noStrike">
                <a:solidFill>
                  <a:srgbClr val="1b372d"/>
                </a:solidFill>
                <a:latin typeface="굴림"/>
              </a:rPr>
              <a:t> </a:t>
            </a:r>
            <a:endParaRPr b="0" lang="en-US" sz="22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3FC-0D11-4B81-B4B7-2B3A2082E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Shallow Parsing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263600"/>
            <a:ext cx="8229600" cy="2651400"/>
          </a:xfrm>
          <a:prstGeom prst="rect">
            <a:avLst/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소프라노 조수미 광주 공연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)/NP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세계적인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소프라노 조수미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(39)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씨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4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년만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TIME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광주팬들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찾는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조씨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오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7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월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15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일 오후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7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TIME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광주 문예회관 대강당에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‘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아시아 인권과 평화를 기원하는 조수미 광주 독창회’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갖는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이번 공연에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조씨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모차르트의 미사곡 ‘하늘에서 내려오시오’ 등과 함께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김동진의 ‘진달래꽃’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김순애의 ‘그대 있음에’ 등의 우리 가곡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부른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조수미 독창회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광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MBC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와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5·18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기념재단이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공동주최하며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공연시간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90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분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 (‘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천상의 목소리’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자랑하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조씨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이번 공연에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아시아의 인권과 민주화 성지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자리잡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광주 시민들에게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끝없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음악적 호기심과 실험정신으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더욱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성숙해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그녀만의 음악세계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선보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예정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입장권 가격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로열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10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S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8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A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6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B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4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 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({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광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연합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})/NP 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경향신문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: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최종 편집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: (2001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년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07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월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03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일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08:58:04)/TIME   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5029200"/>
            <a:ext cx="7010280" cy="925560"/>
          </a:xfrm>
          <a:prstGeom prst="rect">
            <a:avLst/>
          </a:prstGeom>
          <a:solidFill>
            <a:srgbClr val="ccecff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9900"/>
                </a:solidFill>
                <a:latin typeface="굴림"/>
              </a:rPr>
              <a:t>적용 기술 및 지식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    </a:t>
            </a: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- Chunking : 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명사구 인식</a:t>
            </a: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동사구 인식</a:t>
            </a: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부사구 인식 등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    </a:t>
            </a: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- 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단위 인식 규칙 </a:t>
            </a: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: 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시간 인식</a:t>
            </a: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날짜 인식</a:t>
            </a: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금액 인식</a:t>
            </a:r>
            <a:r>
              <a:rPr b="1" lang="en-US" sz="1600" spc="-1" strike="noStrike">
                <a:solidFill>
                  <a:srgbClr val="1b372d"/>
                </a:solidFill>
                <a:latin typeface="굴림"/>
              </a:rPr>
              <a:t>, </a:t>
            </a:r>
            <a:r>
              <a:rPr b="1" lang="zh-CN" sz="1600" spc="-1" strike="noStrike">
                <a:solidFill>
                  <a:srgbClr val="1b372d"/>
                </a:solidFill>
                <a:latin typeface="굴림"/>
              </a:rPr>
              <a:t>거리 인식 등</a:t>
            </a:r>
            <a:endParaRPr b="0" lang="en-US" sz="16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4495680"/>
            <a:ext cx="4860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A78-DE1D-411C-8978-B06DA0A611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1fb991"/>
                </a:solidFill>
                <a:latin typeface="굴림"/>
              </a:rPr>
              <a:t>고유명사 인식</a:t>
            </a:r>
            <a:endParaRPr b="0" lang="en-US" sz="4200" spc="-1" strike="noStrike">
              <a:solidFill>
                <a:srgbClr val="1fb991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219320"/>
            <a:ext cx="822960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소프라노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조수미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광주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loc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공연</a:t>
            </a:r>
            <a:r>
              <a:rPr b="1" lang="ko-KR" sz="1400" spc="-1" strike="noStrike">
                <a:solidFill>
                  <a:srgbClr val="006666"/>
                </a:solidFill>
                <a:latin typeface="굴림"/>
              </a:rPr>
              <a:t>)/NP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세계적인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소프라노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조수미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(39)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씨가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4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년만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TIME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광주팬들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찾는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조씨는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오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7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월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15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일 오후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7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TIME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광주 문예회관 대강당에서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loc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아시아 인권과 평화를 기원하는 조수미 광주 독창회’를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title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갖는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이번 공연에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조씨는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모차르트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미사곡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‘하늘에서 내려오시오’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song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등과 함께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김동진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 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진달래꽃’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song,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김순애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 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그대 있음에’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song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등의 우리 가곡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부른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조수미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독창회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광주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MBC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와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org 5·18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기념재단이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org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공동주최하며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공연시간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90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분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 (‘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천상의 목소리’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자랑하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조씨는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per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이번 공연에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아시아의 인권과 민주화 성지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자리잡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광주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/loc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시민들에게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끝없는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음악적 호기심과 실험정신으로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더욱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ADV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성숙해진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그녀만의 음악세계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선보일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M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예정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입장권 가격은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NP (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로열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10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S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8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A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6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, B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석 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4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만원이다</a:t>
            </a:r>
            <a:r>
              <a:rPr b="1" lang="ko-KR" sz="1400" spc="-1" strike="noStrike">
                <a:solidFill>
                  <a:srgbClr val="1b372d"/>
                </a:solidFill>
                <a:latin typeface="굴림"/>
              </a:rPr>
              <a:t>)/VP. </a:t>
            </a:r>
            <a:r>
              <a:rPr b="0" lang="ko-KR" sz="1400" spc="-1" strike="noStrike">
                <a:solidFill>
                  <a:srgbClr val="1b372d"/>
                </a:solidFill>
                <a:latin typeface="바탕"/>
                <a:ea typeface="바탕"/>
              </a:rPr>
              <a:t>…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4911840"/>
            <a:ext cx="6400800" cy="1336680"/>
          </a:xfrm>
          <a:prstGeom prst="rect">
            <a:avLst/>
          </a:prstGeom>
          <a:solidFill>
            <a:srgbClr val="ccecff"/>
          </a:solidFill>
          <a:ln w="9360">
            <a:solidFill>
              <a:srgbClr val="1b372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00"/>
                </a:solidFill>
                <a:latin typeface="굴림"/>
              </a:rPr>
              <a:t>적용 기술 및 지식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1b372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사전 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: 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고유명사 사전 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(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회사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, 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지역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, 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인명 등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)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1b372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고유 명사 인식 규칙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1b372d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규칙 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: * 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대강당 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-&gt; (* 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대강당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)/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장소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ex) 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광주 문예회관 대강당 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-&gt; (</a:t>
            </a:r>
            <a:r>
              <a:rPr b="1" lang="zh-CN" sz="1400" spc="-1" strike="noStrike">
                <a:solidFill>
                  <a:srgbClr val="1b372d"/>
                </a:solidFill>
                <a:latin typeface="굴림"/>
                <a:ea typeface="굴림"/>
              </a:rPr>
              <a:t>광주 문예회관 </a:t>
            </a:r>
            <a:r>
              <a:rPr b="1" lang="zh-CN" sz="1400" spc="-1" strike="noStrike" u="sng">
                <a:solidFill>
                  <a:srgbClr val="cc9900"/>
                </a:solidFill>
                <a:uFillTx/>
                <a:latin typeface="굴림"/>
                <a:ea typeface="굴림"/>
              </a:rPr>
              <a:t>대강당</a:t>
            </a:r>
            <a:r>
              <a:rPr b="1" lang="en-US" sz="1400" spc="-1" strike="noStrike">
                <a:solidFill>
                  <a:srgbClr val="1b372d"/>
                </a:solidFill>
                <a:latin typeface="굴림"/>
                <a:ea typeface="굴림"/>
              </a:rPr>
              <a:t>)</a:t>
            </a:r>
            <a:endParaRPr b="0" lang="en-US" sz="1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343400"/>
            <a:ext cx="48564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1b3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1b372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2D1-067F-4793-B483-DE1BCC07D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1:58:56Z</dcterms:created>
  <dc:creator>xfilecom</dc:creator>
  <dc:description/>
  <dc:language>en-US</dc:language>
  <cp:lastModifiedBy>강승식</cp:lastModifiedBy>
  <dcterms:modified xsi:type="dcterms:W3CDTF">2002-07-05T09:21:21Z</dcterms:modified>
  <cp:revision>13</cp:revision>
  <dc:subject/>
  <dc:title>경험 규칙에 의한 대명사의 Coreference Resolution</dc:title>
</cp:coreProperties>
</file>