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2924280" cy="495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9240" y="-1800"/>
            <a:ext cx="2924280" cy="495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698400" y="750600"/>
            <a:ext cx="534672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6760" y="4703400"/>
            <a:ext cx="4950000" cy="4460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41220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9240" y="941220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C1C346-1F30-4E4E-A059-5210447F86E5}" type="slidenum"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698400" y="75096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96760" y="4703400"/>
            <a:ext cx="4950000" cy="4460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오늘 발표할 내용은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Information Retrieval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책의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장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PAT trees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에 관한 내용입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4C2-DEC8-4E8F-A7F4-69E88EA7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4120" y="394848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EBA-EA26-4FE6-A129-EA2E6C6F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41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87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1C2-1806-4400-8BD5-04C90983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136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412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136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63A-1356-4295-92EB-5EF3209E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96F3-096B-4BE2-901F-D592AA02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3625-00B3-449C-BE12-0062FD7F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1D7D-0D86-4FE0-BE70-3C647275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E872-2603-4E92-BE22-127D609C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7C51-D45A-4BB5-9F3C-194FCBAB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3040" y="291600"/>
            <a:ext cx="80899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A348-7C52-454E-8DC0-9296CC60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41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F69B-CB4A-4048-A722-6356D75F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08BD-13A6-47E2-B93F-75E0F60B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87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9566-02DD-4ED0-969A-976B2789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4120" y="394848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5499-417F-4E99-BFC2-169EB6A9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4120" y="394848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3AB6-05F3-47A1-BFCD-E822A2BF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41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87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9EDA-1AAF-43F0-96F2-E03402F5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9136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412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9136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3824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F8D7-049D-4AC0-B424-8CE75DEB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31B-3273-40F8-947A-098636C6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DBF-5F70-4EC4-A6B5-E14295C8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E41-8C5D-446E-B65C-37F5BB6A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3040" y="291600"/>
            <a:ext cx="80899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FEF-3A6A-4C6E-9AA7-A6D62DDF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41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FDD-D43D-4A81-98F3-1F66D5AD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87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1E7-6A94-49DF-84A6-AE2B2163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4120" y="394848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2B1-36E5-40BD-BAE1-DA613F48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F4AA-DD65-47E1-B580-61F7463AA1F8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lnSpc>
                <a:spcPct val="9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lnSpc>
                <a:spcPct val="9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7800" y="1106640"/>
            <a:ext cx="866772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30120" y="6324480"/>
            <a:ext cx="40968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36400" y="6238800"/>
            <a:ext cx="239400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B803-B241-4530-BB02-4CDC974F40D9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30120" y="380880"/>
            <a:ext cx="73656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Thesaurus Construction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048120"/>
            <a:ext cx="48765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eatures of Thesa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Thesaurus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Automatic Thesaurus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35b1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C450-E1EF-452C-BAAE-C6AD88CF3F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Thesaurus Construction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578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15000" indent="-315000">
              <a:lnSpc>
                <a:spcPct val="7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Manual Thesaurus Construction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30000" indent="-2062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proces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0952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Boundary definition of subject area(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주제 영역 정의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0952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Domain Categorization(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세부 영역 정의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0952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Term Collect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15360" indent="-1580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다양한 자원 사용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: index, encyclopedia, handbook, textbooks, existing thesaurus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15360" indent="-1580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ubject experts and potential users are includ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0952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Normalization of te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0952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Organizing the Te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0952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Review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5000" indent="-315000">
              <a:lnSpc>
                <a:spcPct val="7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Automatic Thesaurus Construction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30000" indent="-2062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approach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0952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tatistical vs linguist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-2062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metho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0952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From a Collection of Document Items : standa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0952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By Merging Existing Thesauri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20952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User Generated Thesaurus (TEGEN syste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5AA-2BCB-4DF6-9958-C03514F1EB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820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2800" spc="-1" strike="noStrike">
                <a:solidFill>
                  <a:srgbClr val="cd0355"/>
                </a:solidFill>
                <a:latin typeface="Arial"/>
                <a:ea typeface="굴림"/>
              </a:rPr>
              <a:t>Automatic Thesaurus Construction (1)</a:t>
            </a:r>
            <a:endParaRPr b="1" i="1" lang="en-US" sz="28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7320" y="1218960"/>
            <a:ext cx="9505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7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Thesaurus Construction from Texts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66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1900" spc="-1" strike="noStrike">
                <a:solidFill>
                  <a:srgbClr val="f35b1b"/>
                </a:solidFill>
                <a:latin typeface="Times New Roman"/>
                <a:ea typeface="굴림"/>
              </a:rPr>
              <a:t>Construction of Vocabulary </a:t>
            </a:r>
            <a:r>
              <a:rPr b="1" i="1" lang="ko-KR" sz="1900" spc="-1" strike="noStrike">
                <a:solidFill>
                  <a:srgbClr val="f35b1b"/>
                </a:solidFill>
                <a:latin typeface="Wingdings"/>
                <a:ea typeface="Wingdings"/>
              </a:rPr>
              <a:t></a:t>
            </a:r>
            <a:r>
              <a:rPr b="1" i="1" lang="ko-KR" sz="1900" spc="-1" strike="noStrike">
                <a:solidFill>
                  <a:srgbClr val="f35b1b"/>
                </a:solidFill>
                <a:latin typeface="Times New Roman"/>
                <a:ea typeface="굴림"/>
              </a:rPr>
              <a:t> Similarity Computation </a:t>
            </a:r>
            <a:r>
              <a:rPr b="1" i="1" lang="ko-KR" sz="1900" spc="-1" strike="noStrike">
                <a:solidFill>
                  <a:srgbClr val="f35b1b"/>
                </a:solidFill>
                <a:latin typeface="Wingdings"/>
                <a:ea typeface="Wingdings"/>
              </a:rPr>
              <a:t></a:t>
            </a:r>
            <a:r>
              <a:rPr b="1" i="1" lang="ko-KR" sz="1900" spc="-1" strike="noStrike">
                <a:solidFill>
                  <a:srgbClr val="f35b1b"/>
                </a:solidFill>
                <a:latin typeface="Times New Roman"/>
                <a:ea typeface="굴림"/>
              </a:rPr>
              <a:t> Vocabulary Organiz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Construction of vocabulary : normalization and selection of terms, and phrase constr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Objective : identify the most informative terms from document collec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tep 1. identify an appropriate document collection that is sizable and representative of the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ubject are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tep 2. determine specificity for the thesaur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tep 3. normalize initial set of vocabulary te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60600" indent="-166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eliminate trivial words such as prepositions and conjunc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60600" indent="-166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tem the vocabula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tep 4. stem evaluation and sele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60600" indent="-166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frequency of occurr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60600" indent="-166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discrimination val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60600" indent="-166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Poisson mod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tep 5. phrase constr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60600" indent="-166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alton and McGill proced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60600" indent="-166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Choueka proced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498680"/>
            <a:ext cx="89852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DD1-DC46-456B-B13A-DFBFD54FDB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66760"/>
            <a:ext cx="8537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2800" spc="-1" strike="noStrike">
                <a:solidFill>
                  <a:srgbClr val="cd0355"/>
                </a:solidFill>
                <a:latin typeface="Arial"/>
                <a:ea typeface="굴림"/>
              </a:rPr>
              <a:t>Automatic Thesaurus Construction (2)</a:t>
            </a:r>
            <a:endParaRPr b="1" i="1" lang="en-US" sz="28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320" y="1371600"/>
            <a:ext cx="9505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8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100" spc="-1" strike="noStrike">
                <a:solidFill>
                  <a:srgbClr val="000099"/>
                </a:solidFill>
                <a:latin typeface="Arial"/>
                <a:ea typeface="굴림"/>
              </a:rPr>
              <a:t>Stem Evaluation and Selection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666720" indent="-190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Selection by Frequency of Occurren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mid-frequency terms =&gt; best for indexing and search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threshold : user specifi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Selection by Discrimination Val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The more discriminating a term, the higher its value as an index ter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DV(</a:t>
            </a:r>
            <a:r>
              <a:rPr b="0" i="1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k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) = (average similarity without </a:t>
            </a:r>
            <a:r>
              <a:rPr b="0" i="1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k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) – (average similarity with </a:t>
            </a:r>
            <a:r>
              <a:rPr b="0" i="1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k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terms  that are positive discriminator are included in the vocabulary and the rest rejec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Selection by the Poisson Metho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nontrivial words deviates significantly from that of a Poisson distribu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Select nontrivial words as thesaurus te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ECC-0B84-4C05-9DB5-18A050BD91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66760"/>
            <a:ext cx="861372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2800" spc="-1" strike="noStrike">
                <a:solidFill>
                  <a:srgbClr val="cd0355"/>
                </a:solidFill>
                <a:latin typeface="Arial"/>
                <a:ea typeface="굴림"/>
              </a:rPr>
              <a:t>Automatic Thesaurus Construction (3)</a:t>
            </a:r>
            <a:endParaRPr b="1" i="1" lang="en-US" sz="28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294920"/>
            <a:ext cx="9505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Phrase Construction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810720" indent="-33912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alton and McGill Procedur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01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co-occurrence for high-frequency words is conside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01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Two criter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21800" indent="-52020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component words of a phrase should occur frequently in a common context such as the same sentence or within some specified dist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21800" indent="-52020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frequency of occurrence of component words should be sufficiently hig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01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Algorith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21800" indent="-52020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Compute pairwise co-occurrence for high-frequency wor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21800" indent="-52020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If the co-occurrence &lt; threshold1, ignore the pai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21800" indent="-52020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For qualifying pairs, compute the cohesion val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743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COHESION(ti, tj) = co-occurrence-frequency / sqrt(frequency(ti) * frequency(tj))  </a:t>
            </a:r>
            <a:r>
              <a:rPr b="0" lang="ko-KR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Rada, 198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743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COHESION(ti, tj) = size-factor * (co-occurrence-frequency /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743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(total-frequency(ti) * total-frequency(tj)))   </a:t>
            </a:r>
            <a:r>
              <a:rPr b="0" lang="ko-KR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Salton and McGill, 198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21800" indent="-52020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compute the cohesion value for qualifying pai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21800" indent="-52020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If cohesion &gt; threshold2, retain the phrase as a valid vocabulary ph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D0D-86BA-43DE-B701-CE412875A2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66760"/>
            <a:ext cx="852336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2800" spc="-1" strike="noStrike">
                <a:solidFill>
                  <a:srgbClr val="cd0355"/>
                </a:solidFill>
                <a:latin typeface="Arial"/>
                <a:ea typeface="굴림"/>
              </a:rPr>
              <a:t>Automatic Thesaurus Construction (4)</a:t>
            </a:r>
            <a:endParaRPr b="1" i="1" lang="en-US" sz="28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948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2. Choueka Procedure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542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compute candidates and merge for large o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42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upport  the phrase which has more than two word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42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elect the range of length(2~6) allowed for each collocation express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42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Build a list of all potential expressions from the collection with the prescribed length and that have a minimum frequenc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42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Delete sequences that begin or end with a trivial word. E.g. prepositions, pronouns, articles, conjunctions, and so 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42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Delete expressions that contain high-frequency nontrivial word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42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Given an expression such as </a:t>
            </a: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a b c d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, evaluate any potential subexpressions such as </a:t>
            </a: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a b c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b c d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for relevance. Discard any that are not sufficiently releva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42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Try to merge smaller expressions into larger and more meaningful ones. For example, </a:t>
            </a: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a b c d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b c d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may merge to form </a:t>
            </a:r>
            <a:r>
              <a:rPr b="0" i="1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a b c d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Similarity Computation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542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Cosine: n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,j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/ sqrt(n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* n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j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42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Dice    : 2 * n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,j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/ (n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+ n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j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D26-E5B3-48C2-9096-5C4B8B32CD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66760"/>
            <a:ext cx="844704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2800" spc="-1" strike="noStrike">
                <a:solidFill>
                  <a:srgbClr val="cd0355"/>
                </a:solidFill>
                <a:latin typeface="Arial"/>
                <a:ea typeface="굴림"/>
              </a:rPr>
              <a:t>Automatic Thesaurus Construction (5)</a:t>
            </a:r>
            <a:endParaRPr b="1" i="1" lang="en-US" sz="28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91680" indent="-391680">
              <a:lnSpc>
                <a:spcPct val="9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Vocabulary Organization by Rada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829080" indent="-39168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Assump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39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high frequency words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 broad meaning, low frequency words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 narrow mea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39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If density functions of two terms have the same shape, similar mea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39168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Proced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39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Group the vocabulary terms into different classes based on their frequencies and the determined frequency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39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Determine parent-child links between adjacent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2120" indent="-39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For each term </a:t>
            </a:r>
            <a:r>
              <a:rPr b="0" i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t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in level </a:t>
            </a:r>
            <a:r>
              <a:rPr b="0" i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, compute similarity between </a:t>
            </a:r>
            <a:r>
              <a:rPr b="0" i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t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and every term in level </a:t>
            </a:r>
            <a:r>
              <a:rPr b="0" i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2120" indent="-39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Term </a:t>
            </a:r>
            <a:r>
              <a:rPr b="0" i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t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becomes the child of the most similar term in level </a:t>
            </a:r>
            <a:r>
              <a:rPr b="0" i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2120" indent="-39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f more than one term in level </a:t>
            </a:r>
            <a:r>
              <a:rPr b="0" i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-1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qualifies, each becomes a parent of </a:t>
            </a:r>
            <a:r>
              <a:rPr b="0" i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39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After linking all terms in level </a:t>
            </a:r>
            <a:r>
              <a:rPr b="0" i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, identify level </a:t>
            </a:r>
            <a:r>
              <a:rPr b="0" i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-1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terms that have no children. Create an identical “dummy” term as its chi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39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Perform above two steps for eac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29000" y="4178160"/>
            <a:ext cx="1899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low frequency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581280"/>
            <a:ext cx="5689440" cy="762120"/>
            <a:chOff x="2286000" y="3581280"/>
            <a:chExt cx="5689440" cy="762120"/>
          </a:xfrm>
        </p:grpSpPr>
        <p:sp>
          <p:nvSpPr>
            <p:cNvPr id="157" name=""/>
            <p:cNvSpPr/>
            <p:nvPr/>
          </p:nvSpPr>
          <p:spPr>
            <a:xfrm>
              <a:off x="2286000" y="3886200"/>
              <a:ext cx="1044360" cy="296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1,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1,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52680" y="3886200"/>
              <a:ext cx="1044720" cy="296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2,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2,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19360" y="3886200"/>
              <a:ext cx="1044720" cy="296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3,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3,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86400" y="3886200"/>
              <a:ext cx="955440" cy="296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4,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4,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64160" y="3886200"/>
              <a:ext cx="1044720" cy="296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5,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5,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4343400"/>
              <a:ext cx="165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61240" y="35812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Level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04240" y="35812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Leve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95680" y="3581280"/>
              <a:ext cx="784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Leve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640" y="35812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Leve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0" y="2971800"/>
            <a:ext cx="1752120" cy="3429000"/>
            <a:chOff x="0" y="2971800"/>
            <a:chExt cx="1752120" cy="3429000"/>
          </a:xfrm>
        </p:grpSpPr>
        <p:sp>
          <p:nvSpPr>
            <p:cNvPr id="168" name=""/>
            <p:cNvSpPr/>
            <p:nvPr/>
          </p:nvSpPr>
          <p:spPr>
            <a:xfrm>
              <a:off x="838080" y="6019560"/>
              <a:ext cx="380520" cy="381240"/>
            </a:xfrm>
            <a:prstGeom prst="ellipse">
              <a:avLst/>
            </a:prstGeom>
            <a:solidFill>
              <a:srgbClr val="30699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2640" y="5410080"/>
              <a:ext cx="380880" cy="380880"/>
            </a:xfrm>
            <a:prstGeom prst="ellipse">
              <a:avLst/>
            </a:prstGeom>
            <a:solidFill>
              <a:srgbClr val="30699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480" y="5410080"/>
              <a:ext cx="380520" cy="380880"/>
            </a:xfrm>
            <a:prstGeom prst="ellipse">
              <a:avLst/>
            </a:prstGeom>
            <a:solidFill>
              <a:srgbClr val="30699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6840" y="3352680"/>
              <a:ext cx="1295280" cy="29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1,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1,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…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2971800"/>
              <a:ext cx="636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9480" y="4495680"/>
              <a:ext cx="1044000" cy="29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2,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2,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3360" y="4572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61760" y="3657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61760" y="3657600"/>
              <a:ext cx="3045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7720" y="373356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" y="380988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74880" y="376704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61760" y="3657600"/>
              <a:ext cx="8377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55760" y="376704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0360" y="4876560"/>
              <a:ext cx="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7400" y="5410080"/>
              <a:ext cx="375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1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50560" y="5410080"/>
              <a:ext cx="375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080" y="6019560"/>
              <a:ext cx="39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돋움"/>
                </a:rPr>
                <a:t>2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080" y="5790960"/>
              <a:ext cx="75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142280" y="5790960"/>
              <a:ext cx="152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5F0-8D4F-4C37-812C-14AC59A5FF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66760"/>
            <a:ext cx="842004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2800" spc="-1" strike="noStrike">
                <a:solidFill>
                  <a:srgbClr val="cd0355"/>
                </a:solidFill>
                <a:latin typeface="Arial"/>
                <a:ea typeface="굴림"/>
              </a:rPr>
              <a:t>Automatic Thesaurus Construction (6)</a:t>
            </a:r>
            <a:endParaRPr b="1" i="1" lang="en-US" sz="28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07760" y="1447560"/>
            <a:ext cx="8372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99"/>
                </a:solidFill>
                <a:latin typeface="Arial"/>
                <a:ea typeface="굴림"/>
              </a:rPr>
              <a:t>Merging Existing Thesauri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More efficient than producing the thesaurus from scrat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Merging algorithms [Forsyth and Rada 1986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Simple-Mer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16668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linking hierarchies wherever thesauri have terms in comm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Complex-Mer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16668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linking terms from different hierarchies if they are similar enoug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16668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similarity is computed as a function of the number of parent and child terms in comm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753-F97E-4E40-98AC-CC36895A94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2800" spc="-1" strike="noStrike">
                <a:solidFill>
                  <a:srgbClr val="cd0355"/>
                </a:solidFill>
                <a:latin typeface="Arial"/>
                <a:ea typeface="굴림"/>
              </a:rPr>
              <a:t>Conclusion</a:t>
            </a:r>
            <a:endParaRPr b="1" i="1" lang="en-US" sz="28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8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99"/>
                </a:solidFill>
                <a:latin typeface="Arial"/>
                <a:ea typeface="굴림"/>
              </a:rPr>
              <a:t>We have presented the followings.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Definition of the Thesaur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Features of the Thesaur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Thesaurus Construction Metho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99"/>
                </a:solidFill>
                <a:latin typeface="Arial"/>
                <a:ea typeface="굴림"/>
              </a:rPr>
              <a:t>We have not presented the followings, but it will be important.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Evaluation of the Thesaur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Maintenance of Thesaur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Automating the Usage of the Thesaur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99"/>
                </a:solidFill>
                <a:latin typeface="Arial"/>
                <a:ea typeface="굴림"/>
              </a:rPr>
              <a:t>Other things to be focused.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Combination of the Statistical Methods and Liguistic Metho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Maybe, AI approach will be needed for creating better thesau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Arial"/>
                <a:ea typeface="굴림"/>
              </a:rPr>
              <a:t>Hangul issue is also importan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BD2-6838-4A55-A6B4-292D6E91AE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Introduction(1/4)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67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Thesaur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지식의 보고 또는 백과사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67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What is Thesaurus in IR system?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Roget : “Thesaurus of English Word and Phras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어떤 개념을 가장 적절히 표현할 수 있는 표목을 선정하기 위하여 만들어진 어구의 집대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1957 Brownson,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자연언어를 통제언어로 변환할 때 도움이 되는 수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용어간의 관계를 표시하는 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UNESCO, ISO 2788, 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자연어를 제한된 어휘로 번역하는 장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UNESCO 19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개념간의 관계를 명시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C0D-55A0-4D56-9995-7EFF18F6FE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Introduction(2/4)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4120" y="13712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6000"/>
          </a:bodyPr>
          <a:p>
            <a:pPr marL="318600" indent="-318600">
              <a:lnSpc>
                <a:spcPct val="6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What is the purpose of Thesaurus?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36840" indent="-2084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색인작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elect the most appropriate thesaural entries for representing the docu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검색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elect the most appropriate search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검색 효율 조절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27960" indent="-1598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탐색어의 확장이나 축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6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시소러스의 기능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36840" indent="-2084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문헌 및 검색 질문의 주제내용을 표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색인작성자와 이용자의 어휘를 일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용어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개념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간의 관계를 명시하며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개념을 체계화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6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How it is composed?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36840" indent="-2084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Concept no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Relation lin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Broader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Narrower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ynony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Related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72E-5FF0-496B-BBA5-401694E411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Introduction(3/4)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372520" cy="4267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1000"/>
          </a:bodyPr>
          <a:p>
            <a:pPr marL="268560" indent="-268560">
              <a:lnSpc>
                <a:spcPct val="6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Term classification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537120" indent="0">
              <a:lnSpc>
                <a:spcPct val="60000"/>
              </a:lnSpc>
              <a:spcBef>
                <a:spcPts val="71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Keyword        descrip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08560" indent="0">
              <a:lnSpc>
                <a:spcPct val="60000"/>
              </a:lnSpc>
              <a:spcBef>
                <a:spcPts val="71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non-descrip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60000"/>
              </a:lnSpc>
              <a:spcBef>
                <a:spcPts val="71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topwo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60000"/>
              </a:lnSpc>
              <a:spcBef>
                <a:spcPts val="71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60000"/>
              </a:lnSpc>
              <a:spcBef>
                <a:spcPts val="71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keyword :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문헌의 주제와 관련된 개념을 표현하는 용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60000"/>
              </a:lnSpc>
              <a:spcBef>
                <a:spcPts val="71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topword :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주제와 관련없는 용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60000"/>
              </a:lnSpc>
              <a:spcBef>
                <a:spcPts val="71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descriptor :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색인어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표준키워드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고정키워드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통제키워드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60000"/>
              </a:lnSpc>
              <a:spcBef>
                <a:spcPts val="71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non-descriptor :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비표준키워드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6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examples(CRCS, INSPEC)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marL="268560" indent="0">
              <a:lnSpc>
                <a:spcPct val="60000"/>
              </a:lnSpc>
              <a:spcBef>
                <a:spcPts val="63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H Information Systems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68560" indent="0">
              <a:lnSpc>
                <a:spcPct val="60000"/>
              </a:lnSpc>
              <a:spcBef>
                <a:spcPts val="63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   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H.3 Information Systems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68560" indent="0">
              <a:lnSpc>
                <a:spcPct val="60000"/>
              </a:lnSpc>
              <a:spcBef>
                <a:spcPts val="63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      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H.3.1 Content Analysis and Indexing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68560" indent="0">
              <a:lnSpc>
                <a:spcPct val="60000"/>
              </a:lnSpc>
              <a:spcBef>
                <a:spcPts val="63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         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H.3.1.1 Abstracting Methods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68560" indent="0">
              <a:lnSpc>
                <a:spcPct val="60000"/>
              </a:lnSpc>
              <a:spcBef>
                <a:spcPts val="63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         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H.3.1.2 Dictionaries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68560" indent="0">
              <a:lnSpc>
                <a:spcPct val="60000"/>
              </a:lnSpc>
              <a:spcBef>
                <a:spcPts val="63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         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H.3.1.3 Indexing Methods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68560" indent="0">
              <a:lnSpc>
                <a:spcPct val="60000"/>
              </a:lnSpc>
              <a:spcBef>
                <a:spcPts val="63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         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H.3.1.4 Linguistic Processing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68560" indent="0">
              <a:lnSpc>
                <a:spcPct val="60000"/>
              </a:lnSpc>
              <a:spcBef>
                <a:spcPts val="63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         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H.3.1.5 Thesauruses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68560" indent="0">
              <a:lnSpc>
                <a:spcPct val="60000"/>
              </a:lnSpc>
              <a:spcBef>
                <a:spcPts val="63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   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   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H.3.2 Information Storage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68560" indent="0">
              <a:lnSpc>
                <a:spcPct val="60000"/>
              </a:lnSpc>
              <a:spcBef>
                <a:spcPts val="63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         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H.3.2.1 Record Classification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68560" indent="0">
              <a:lnSpc>
                <a:spcPct val="60000"/>
              </a:lnSpc>
              <a:spcBef>
                <a:spcPts val="63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         </a:t>
            </a: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H.3.2.2 File Organization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  <a:p>
            <a:pPr lvl="1" marL="53712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6002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82880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160020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600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13372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54720" y="1835280"/>
            <a:ext cx="3949560" cy="2197080"/>
          </a:xfrm>
          <a:prstGeom prst="rect">
            <a:avLst/>
          </a:prstGeom>
          <a:solidFill>
            <a:srgbClr val="3069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computer-aided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see also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UF teaching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BT educational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TT computer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RT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te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CC C7810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돋움"/>
              </a:rPr>
              <a:t>FC c7810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560" y="4091040"/>
            <a:ext cx="26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1979 INSPEC thesau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19480" y="4518000"/>
            <a:ext cx="3231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ee also: cross refer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NT: more specific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BT: more general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TT: roo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RT: related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UF: altern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CC,FC: INSPEC classification sch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AA6-112D-4D04-A7DF-6A4B521BC0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Introduction(4/4)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58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Thesaurus On Air 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1480" y="2292480"/>
            <a:ext cx="1225800" cy="520560"/>
          </a:xfrm>
          <a:prstGeom prst="ellipse">
            <a:avLst/>
          </a:prstGeom>
          <a:solidFill>
            <a:srgbClr val="3069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17680" y="2292480"/>
            <a:ext cx="1555920" cy="520560"/>
          </a:xfrm>
          <a:prstGeom prst="rect">
            <a:avLst/>
          </a:prstGeom>
          <a:solidFill>
            <a:srgbClr val="3069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IR 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17680" y="4425840"/>
            <a:ext cx="1555920" cy="749520"/>
          </a:xfrm>
          <a:prstGeom prst="rect">
            <a:avLst/>
          </a:prstGeom>
          <a:solidFill>
            <a:srgbClr val="3069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conversio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thesaur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index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35240" y="3282840"/>
            <a:ext cx="1720800" cy="673200"/>
          </a:xfrm>
          <a:prstGeom prst="cube">
            <a:avLst>
              <a:gd name="adj" fmla="val 24995"/>
            </a:avLst>
          </a:prstGeom>
          <a:solidFill>
            <a:srgbClr val="3069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document-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17680" y="5492880"/>
            <a:ext cx="1555920" cy="672840"/>
          </a:xfrm>
          <a:prstGeom prst="ellipse">
            <a:avLst/>
          </a:prstGeom>
          <a:solidFill>
            <a:srgbClr val="3069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64000" y="2216160"/>
            <a:ext cx="1555920" cy="673200"/>
          </a:xfrm>
          <a:prstGeom prst="ellipse">
            <a:avLst/>
          </a:prstGeom>
          <a:solidFill>
            <a:srgbClr val="3069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retrie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45080" y="2292480"/>
            <a:ext cx="1390680" cy="520560"/>
          </a:xfrm>
          <a:prstGeom prst="rect">
            <a:avLst/>
          </a:prstGeom>
          <a:solidFill>
            <a:srgbClr val="3069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178840" y="2216160"/>
            <a:ext cx="1390680" cy="673200"/>
          </a:xfrm>
          <a:prstGeom prst="ellipse">
            <a:avLst/>
          </a:prstGeom>
          <a:solidFill>
            <a:srgbClr val="3069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ran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33400" y="2514600"/>
            <a:ext cx="578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79720" y="2514600"/>
            <a:ext cx="578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26040" y="2514600"/>
            <a:ext cx="41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42240" y="25146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054240" y="5181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5424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054240" y="2819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920" y="3252960"/>
            <a:ext cx="123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돋움"/>
              </a:rPr>
              <a:t>Thesau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073160" y="289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48320" y="3252960"/>
            <a:ext cx="123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돋움"/>
              </a:rPr>
              <a:t>Thesau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099200" y="289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4440" y="4624560"/>
            <a:ext cx="123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돋움"/>
              </a:rPr>
              <a:t>Thesau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879720" y="4800600"/>
            <a:ext cx="495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27880" y="4578480"/>
            <a:ext cx="2711520" cy="15112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general index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query reformu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- broad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- narro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143-8B4E-45B0-9172-B0CD26F992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Features of Thesauri(1)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6000"/>
          </a:bodyPr>
          <a:p>
            <a:pPr marL="318600" indent="-318600">
              <a:lnSpc>
                <a:spcPct val="70000"/>
              </a:lnSpc>
              <a:spcBef>
                <a:spcPts val="63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99"/>
                </a:solidFill>
                <a:latin typeface="Arial"/>
                <a:ea typeface="굴림"/>
              </a:rPr>
              <a:t>Phrase Coordination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  <a:p>
            <a:pPr lvl="1" marL="636840" indent="-208440">
              <a:lnSpc>
                <a:spcPct val="70000"/>
              </a:lnSpc>
              <a:spcBef>
                <a:spcPts val="63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Construction of phrases from individual ter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70000"/>
              </a:lnSpc>
              <a:spcBef>
                <a:spcPts val="63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Precoordin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70000"/>
              </a:lnSpc>
              <a:spcBef>
                <a:spcPts val="63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allow phrases that are available for indexing and retriev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70000"/>
              </a:lnSpc>
              <a:spcBef>
                <a:spcPts val="63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advant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27960" indent="-1598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the vocabulary  is very precise, thus reducing ambiguity in indexing and in search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70000"/>
              </a:lnSpc>
              <a:spcBef>
                <a:spcPts val="63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disadvant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27960" indent="-1598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earcher has to be aware of the phrase construction rules employ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70000"/>
              </a:lnSpc>
              <a:spcBef>
                <a:spcPts val="638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Postcoordin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70000"/>
              </a:lnSpc>
              <a:spcBef>
                <a:spcPts val="63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not allow phrases that are available for indexing and retriev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70000"/>
              </a:lnSpc>
              <a:spcBef>
                <a:spcPts val="63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advant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27960" indent="-1598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user need not worry about the exact ordering of the words in a ph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70000"/>
              </a:lnSpc>
              <a:spcBef>
                <a:spcPts val="638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disadvant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27960" indent="-1598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search precision may fa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27960" indent="-1598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ex) “library school”, “school library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2796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17A-5784-45C7-85D5-9D0710B05D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Features of Thesauri(2)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922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18600" indent="-318600">
              <a:lnSpc>
                <a:spcPct val="7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99"/>
                </a:solidFill>
                <a:latin typeface="Arial"/>
                <a:ea typeface="굴림"/>
              </a:rPr>
              <a:t>Term Relationship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36840" indent="-2084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most important aspec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Aitchison and Gilchrist(197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equivalence relation : synonym and quasi-synonym(ex. genetics and heredit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hierarchical relation :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특정 개념어의 상위개념어 및 하위 개념어의 관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27960" indent="-1598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ex) genus-species(“dog” and “german shepherd”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nonhierachical : identify conceptually related te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27960" indent="-1598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ex) thing-part : “bus” and “seat”, thing-attribute : “rose” and “fragrance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2084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Wang etc.(1985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part-whole(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부분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전체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) : set-element, count-ma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Collocation(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배열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) : relation of words that frequently co-occur in the same phrase or sent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Paradigmatic(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변화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) : relation of words that have same semantic co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27960" indent="-15984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ex) moon-lun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taxonomy and synony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211680">
              <a:lnSpc>
                <a:spcPct val="7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antonymy rel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FA2-2074-4384-903C-DA618DC888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Features of Thesauri(3)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861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6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  <a:ea typeface="굴림"/>
              </a:rPr>
              <a:t>Number of Entries for Each Term 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Homograph(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굴림"/>
              </a:rPr>
              <a:t>동형이의어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굴림"/>
              </a:rPr>
              <a:t>문제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add a degree of complexity in using the thesaur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solution by use of parenthetical qualifi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bonds(chemical) and bonds(adhesiv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6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  <a:ea typeface="굴림"/>
              </a:rPr>
              <a:t>Specificity of Vocabulary(</a:t>
            </a:r>
            <a:r>
              <a:rPr b="0" lang="zh-CN" sz="1900" spc="-1" strike="noStrike">
                <a:solidFill>
                  <a:srgbClr val="000099"/>
                </a:solidFill>
                <a:latin typeface="Arial"/>
                <a:ea typeface="굴림"/>
              </a:rPr>
              <a:t>어휘의 특정성</a:t>
            </a:r>
            <a:r>
              <a:rPr b="0" lang="en-US" sz="19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0" lang="zh-CN" sz="1900" spc="-1" strike="noStrike">
                <a:solidFill>
                  <a:srgbClr val="000099"/>
                </a:solidFill>
                <a:latin typeface="Arial"/>
                <a:ea typeface="굴림"/>
              </a:rPr>
              <a:t>구체성</a:t>
            </a:r>
            <a:r>
              <a:rPr b="0" lang="en-US" sz="19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a function of the precision associated with the component te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highly specific vocabula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express the subject in great depth and detai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promote precision in retriev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size of vocabulary grow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require more regular maintenance over general te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6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  <a:ea typeface="굴림"/>
              </a:rPr>
              <a:t>Control on Term Frequency of Class Members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for statistical thesaurus construction metho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class : a collection of equivalent te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Conditions for maintaining a good  match between documents and que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terms in the same thesaurus class have roughly equal frequen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6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total frequency in each class should be roughly simil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F79-A8F7-4701-9EB9-B7934D09FA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  <a:ea typeface="굴림"/>
              </a:rPr>
              <a:t>Features of Thesauri(4)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  <a:ea typeface="굴림"/>
              </a:rPr>
              <a:t>Normalization of Vocabulary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54240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emphasis in manual thesaur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4240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Normalization ru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441360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terms should be in noun 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441360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noun phrases should avoid preposi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441360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use a limited number of adjecti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4240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constraints and rules regarding the structure of individual te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441360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singularity of terms, ordering of terms within phrases, spelling, capitalization, transliteration, abbreviation, initials, acronyms, punctuat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4240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advanta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441360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consistency to the vocabula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54240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disadvanta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441360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굴림"/>
              </a:rPr>
              <a:t>user has to be well aware of the normalization rules u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760-5F3E-4C65-9FD9-6E67546FE5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ean</dc:creator>
  <dc:description/>
  <dc:language>en-US</dc:language>
  <cp:lastModifiedBy>강승식</cp:lastModifiedBy>
  <cp:lastPrinted>1998-05-08T08:56:37Z</cp:lastPrinted>
  <dcterms:modified xsi:type="dcterms:W3CDTF">2002-07-05T08:13:58Z</dcterms:modified>
  <cp:revision>112</cp:revision>
  <dc:subject/>
  <dc:title>New Indices for Text:  PAT Trees and Pat Arrays</dc:title>
</cp:coreProperties>
</file>