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D2B-6E46-4D5D-B310-651EBB85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501-FA63-4828-9970-0EE0DA1B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5E2-CCD8-4698-A567-BACE8D3C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FF8-AC99-4025-B299-DEC0352E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ACF9-749D-47A4-9CCB-1353B45F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B22A-E9C0-4DBE-8C06-0363321A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861D-D546-42C7-8D81-BC8D7C82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6EDD-BCF5-45F2-8FC1-2B62FC0D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4751-062E-4ABE-9D39-B6ACD443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291600"/>
            <a:ext cx="74674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7E66-07AD-4630-A4E9-4821EAF3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CE45-81F4-4A79-AD7E-B241E182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E3E-FE8A-4D5B-8AF0-F2FABDFE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185E-9E29-430B-AB25-20CB8472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1C32-8BE9-4352-A1C7-CE271175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48C2-FDE0-4A13-8277-EE7702E0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9D70-EF98-4B24-B37D-D9A4B71B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8AFC-7589-41E5-BA13-CB539B51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31B-B0CB-4A07-AED2-1089B55B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FD9E-A8C0-4018-A8EE-B73BF97C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CD1-7BAF-429A-9C29-735AE441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291600"/>
            <a:ext cx="74674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6404-8401-4B3E-A3F3-193D7E6F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916-1AA3-417D-8341-0B07A280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B84-EEF3-4F28-9044-66E87C2A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187-8D60-4811-8475-714AB73C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C168-A3F7-4299-9D93-701455CD7AD2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lnSpc>
                <a:spcPct val="90000"/>
              </a:lnSpc>
              <a:spcBef>
                <a:spcPts val="862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lnSpc>
                <a:spcPct val="90000"/>
              </a:lnSpc>
              <a:spcBef>
                <a:spcPts val="862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F116-8D97-470C-A5D7-6FC2575E2F42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클러스터링 알고리즘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ko-KR" sz="23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5. Hierarchical Methods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99960" indent="-399960">
              <a:lnSpc>
                <a:spcPct val="80000"/>
              </a:lnSpc>
              <a:spcBef>
                <a:spcPts val="78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2100" spc="-1" strike="noStrike">
                <a:solidFill>
                  <a:srgbClr val="fd2211"/>
                </a:solidFill>
                <a:latin typeface="Arial"/>
                <a:ea typeface="돋움체"/>
              </a:rPr>
              <a:t>Hierarchical </a:t>
            </a:r>
            <a:r>
              <a:rPr b="0" i="1" lang="ko-KR" sz="2100" spc="-1" strike="noStrike">
                <a:solidFill>
                  <a:srgbClr val="fd2211"/>
                </a:solidFill>
                <a:latin typeface="Arial"/>
                <a:ea typeface="바탕체"/>
              </a:rPr>
              <a:t>Agglomerative Clustering Method : HACM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78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돋움체"/>
              </a:rPr>
              <a:t>Dendrogram(</a:t>
            </a: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돋움체"/>
              </a:rPr>
              <a:t>역수형도</a:t>
            </a: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돋움체"/>
              </a:rPr>
              <a:t>) </a:t>
            </a:r>
            <a:r>
              <a:rPr b="0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돋움체"/>
              </a:rPr>
              <a:t> </a:t>
            </a: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돋움체"/>
              </a:rPr>
              <a:t>생성된 클러스터의 구조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846000" indent="-39996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돋움체"/>
              </a:rPr>
              <a:t>The order of pairwise coupling of the objects is shown and the value of the similarity function(level) at which each fusion occurr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78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99"/>
                </a:solidFill>
                <a:latin typeface="Arial"/>
                <a:ea typeface="바탕체"/>
              </a:rPr>
              <a:t>Single/complete/group-average link, Ward’s method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2" name="676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518148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2800" spc="-1" strike="noStrike">
                <a:solidFill>
                  <a:srgbClr val="fd2211"/>
                </a:solidFill>
                <a:latin typeface="Arial"/>
                <a:ea typeface="돋움체"/>
              </a:rPr>
              <a:t>General algorithm for HACM</a:t>
            </a:r>
            <a:endParaRPr b="1" i="1" lang="en-US" sz="28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78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fd2211"/>
                </a:solidFill>
                <a:latin typeface="Arial"/>
                <a:ea typeface="돋움체"/>
              </a:rPr>
              <a:t>General algorithm for HACM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바탕체"/>
              </a:rPr>
              <a:t>Identify the two closest points and combine them in a clust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바탕체"/>
              </a:rPr>
              <a:t>Identify and combine the next two closest points(treating existing clusters as point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돋움체"/>
              </a:rPr>
              <a:t>If more than one cluster remains, return to step 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f11d40"/>
                </a:solidFill>
                <a:latin typeface="Arial"/>
                <a:ea typeface="굴림"/>
              </a:rPr>
              <a:t>Lance-Williams dissimilarity update formula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If objects </a:t>
            </a:r>
            <a:r>
              <a:rPr b="0" i="1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r>
              <a:rPr b="0" i="1" lang="ko-KR" sz="23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0" i="1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r>
              <a:rPr b="0" i="1" lang="ko-KR" sz="23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j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 have just been merged to form cluster </a:t>
            </a:r>
            <a:r>
              <a:rPr b="0" i="1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r>
              <a:rPr b="0" i="1" lang="ko-KR" sz="23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,j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300" spc="-1" strike="noStrike">
                <a:solidFill>
                  <a:srgbClr val="f11d40"/>
                </a:solidFill>
                <a:latin typeface="Arial"/>
                <a:ea typeface="굴림"/>
              </a:rPr>
              <a:t>the dissimilarity </a:t>
            </a:r>
            <a:r>
              <a:rPr b="0" i="1" lang="ko-KR" sz="2300" spc="-1" strike="noStrike">
                <a:solidFill>
                  <a:srgbClr val="f11d40"/>
                </a:solidFill>
                <a:latin typeface="Arial"/>
                <a:ea typeface="굴림"/>
              </a:rPr>
              <a:t>d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 between the new cluster and any existing cluster </a:t>
            </a:r>
            <a:r>
              <a:rPr b="0" i="1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r>
              <a:rPr b="0" i="1" lang="ko-KR" sz="23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k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 is given b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143000" y="5257800"/>
                <a:ext cx="74674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C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C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i</m:t>
                    </m:r>
                    <m:r>
                      <m:t xml:space="preserve">c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j</m:t>
                    </m:r>
                    <m:r>
                      <m:t xml:space="preserve">c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i</m:t>
                    </m:r>
                    <m:r>
                      <m:t xml:space="preserve">c</m:t>
                    </m:r>
                    <m:r>
                      <m:t xml:space="preserve">j</m:t>
                    </m:r>
                    <m:r>
                      <m:t xml:space="preserve">+</m:t>
                    </m:r>
                    <m:r>
                      <m:t xml:space="preserve">γ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i</m:t>
                        </m:r>
                        <m:r>
                          <m:t xml:space="preserve">c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j</m:t>
                        </m:r>
                        <m:r>
                          <m:t xml:space="preserve">c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ko-KR" sz="3200" spc="-1" strike="noStrike">
              <a:solidFill>
                <a:srgbClr val="cd0355"/>
              </a:solidFill>
              <a:latin typeface="Arial"/>
              <a:ea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ko-KR" sz="23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pic>
        <p:nvPicPr>
          <p:cNvPr id="118" name="ir-11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100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2900" spc="-1" strike="noStrike">
                <a:solidFill>
                  <a:srgbClr val="cd0355"/>
                </a:solidFill>
                <a:latin typeface="Arial"/>
                <a:ea typeface="굴림"/>
              </a:rPr>
              <a:t>Single Link Method (1)</a:t>
            </a:r>
            <a:endParaRPr b="1" i="1" lang="en-US" sz="29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724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4000"/>
          </a:bodyPr>
          <a:p>
            <a:pPr marL="311760" indent="-311760" algn="just">
              <a:lnSpc>
                <a:spcPct val="7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99"/>
                </a:solidFill>
                <a:latin typeface="Arial"/>
                <a:ea typeface="굴림"/>
              </a:rPr>
              <a:t>Characteristics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623520" indent="-204120" algn="just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Joins the most similar pair of ob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520" indent="-204120" algn="just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It has some attractive theoretical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520" indent="-204120" algn="just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It can be implemented relatively efficiently.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 widely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520" indent="-204120" algn="just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Long straggly clusters, or ch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520" indent="-204120" algn="just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Suitable for delineating ellipsoidal clu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520" indent="-204120" algn="just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Unsuitable for isolating spherical or poorly separated clu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520" indent="-204120" algn="just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Complexity: </a:t>
            </a:r>
            <a:r>
              <a:rPr b="0" i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O(NlogN) ~ O(N</a:t>
            </a:r>
            <a:r>
              <a:rPr b="0" i="1" lang="ko-KR" sz="16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5</a:t>
            </a:r>
            <a:r>
              <a:rPr b="0" i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1760" indent="-311760" algn="just">
              <a:lnSpc>
                <a:spcPct val="7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f11d40"/>
                </a:solidFill>
                <a:latin typeface="Arial"/>
                <a:ea typeface="굴림"/>
              </a:rPr>
              <a:t>Van Rijsbergen algorithm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623520" indent="-204120" algn="just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Do not require the storage of the similarity matri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3520" indent="-204120" algn="just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O(N</a:t>
            </a:r>
            <a:r>
              <a:rPr b="0" i="1" lang="ko-KR" sz="19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i="1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in time, </a:t>
            </a:r>
            <a:r>
              <a:rPr b="0" i="1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O(N)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in sp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1760" indent="-311760" algn="just">
              <a:lnSpc>
                <a:spcPct val="7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f11d40"/>
                </a:solidFill>
                <a:latin typeface="Arial"/>
                <a:ea typeface="굴림"/>
              </a:rPr>
              <a:t>SLINK algorithm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623520" indent="-204120" algn="just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Dendrogram is built by inserting one point at a time into the represent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3520" indent="-204120" algn="just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The hierarchy is generated in a form of </a:t>
            </a:r>
            <a:r>
              <a:rPr b="0" i="1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pointer representation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3520" indent="-204120" algn="just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3 array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38520" indent="-207360" algn="just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pi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: hold the pointer represent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38520" indent="-207360" algn="just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lambda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: hold the distance value associated with each poin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38520" indent="-207360" algn="just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distance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: process the current row of the distance matri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2900" spc="-1" strike="noStrike">
                <a:solidFill>
                  <a:srgbClr val="cd0355"/>
                </a:solidFill>
                <a:latin typeface="Arial"/>
                <a:ea typeface="굴림"/>
              </a:rPr>
              <a:t>Single Link Method (2)</a:t>
            </a:r>
            <a:endParaRPr b="1" i="1" lang="en-US" sz="29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438120" indent="-438120" algn="just">
              <a:lnSpc>
                <a:spcPct val="9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f11d40"/>
                </a:solidFill>
                <a:latin typeface="Arial"/>
                <a:ea typeface="굴림"/>
              </a:rPr>
              <a:t>Minimal spanning tree(MST) algorithm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884160" indent="-438120" algn="just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Tree linking </a:t>
            </a:r>
            <a:r>
              <a:rPr b="0" i="1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objects with </a:t>
            </a:r>
            <a:r>
              <a:rPr b="0" i="1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N-1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connections </a:t>
            </a:r>
            <a:r>
              <a:rPr b="0" lang="ko-KR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no loops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 algn="just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The sum of the </a:t>
            </a:r>
            <a:r>
              <a:rPr b="0" i="1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N-1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dissimilarities is minimiz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 algn="just">
              <a:lnSpc>
                <a:spcPct val="9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99"/>
                </a:solidFill>
                <a:latin typeface="Arial"/>
                <a:ea typeface="굴림"/>
              </a:rPr>
              <a:t>Fundamental construction principles for MST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884160" indent="-438120" algn="just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Any isolated point can be connected to a nearest neighbo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 algn="just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Any isolated fragment(subset of MST) can be connected to a nearest neighbor by a shortest available link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 algn="just">
              <a:lnSpc>
                <a:spcPct val="9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99"/>
                </a:solidFill>
                <a:latin typeface="Arial"/>
                <a:ea typeface="굴림"/>
              </a:rPr>
              <a:t>Prim-Dijkstra algorithm for MST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884160" indent="-438120" algn="just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Place an arbitrary point in MST and connect its nearest neighbor to 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 algn="just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Find the point not in MST closest to any point in MST, and add it to the frag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 algn="just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If a point remains that is not in the fragment, return to step 2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2900" spc="-1" strike="noStrike">
                <a:solidFill>
                  <a:srgbClr val="cd0355"/>
                </a:solidFill>
                <a:latin typeface="Arial"/>
                <a:ea typeface="굴림"/>
              </a:rPr>
              <a:t>Complete Link Method</a:t>
            </a:r>
            <a:endParaRPr b="1" i="1" lang="en-US" sz="29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3000"/>
          </a:bodyPr>
          <a:p>
            <a:pPr marL="308520" indent="-308520">
              <a:lnSpc>
                <a:spcPct val="80000"/>
              </a:lnSpc>
              <a:spcBef>
                <a:spcPts val="975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600" spc="-1" strike="noStrike">
                <a:solidFill>
                  <a:srgbClr val="000099"/>
                </a:solidFill>
                <a:latin typeface="Arial"/>
                <a:ea typeface="굴림"/>
              </a:rPr>
              <a:t>Characteristics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616680" indent="-20196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Use the least similar pair between each of two clusters to determine the intercluster simi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0196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All entities in a cluster are linked to on e another within some minimum simila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0196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Small, tightly bound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0196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Difficult to apply to large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975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600" spc="-1" strike="noStrike">
                <a:solidFill>
                  <a:srgbClr val="f11d40"/>
                </a:solidFill>
                <a:latin typeface="Arial"/>
                <a:ea typeface="굴림"/>
              </a:rPr>
              <a:t>Defay’s CLINK algorithm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616680" indent="-20196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Analogous to SLINK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8440" indent="-205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Uses the same three arrays: pi, lambda,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8440" indent="-205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O(N</a:t>
            </a:r>
            <a:r>
              <a:rPr b="0" i="1" lang="ko-KR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i="1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in time, </a:t>
            </a:r>
            <a:r>
              <a:rPr b="0" i="1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O(N)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in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975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600" spc="-1" strike="noStrike">
                <a:solidFill>
                  <a:srgbClr val="f11d40"/>
                </a:solidFill>
                <a:latin typeface="Arial"/>
                <a:ea typeface="굴림"/>
              </a:rPr>
              <a:t>Voorhees algorithm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616680" indent="-20196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Efficient for relatively large document col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0196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It is a variation on the sorted matrix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0196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This requires a sorted list of document-document similarities, and a means of counting the number of similarities seen between any two active clu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Group Average Link Methods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7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10000"/>
              </a:lnSpc>
              <a:spcBef>
                <a:spcPts val="825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돋움체"/>
              </a:rPr>
              <a:t>Characteristic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돋움체"/>
              </a:rPr>
              <a:t>The similarity between two clusters is determined by the average value of all the pairwise links between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돋움체"/>
              </a:rPr>
              <a:t>The general HACM algorithm can be used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돋움체"/>
              </a:rPr>
              <a:t> impractical for large col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돋움체"/>
              </a:rPr>
              <a:t>More efficient special case algorithm is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돋움체"/>
              </a:rPr>
              <a:t>Vorhees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Ward’s Method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7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99960" indent="-399960">
              <a:lnSpc>
                <a:spcPct val="80000"/>
              </a:lnSpc>
              <a:spcBef>
                <a:spcPts val="975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600" spc="-1" strike="noStrike">
                <a:solidFill>
                  <a:srgbClr val="000099"/>
                </a:solidFill>
                <a:latin typeface="Arial"/>
                <a:ea typeface="굴림"/>
              </a:rPr>
              <a:t>Characteristics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846000" indent="-399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Minimum variance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399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Minimizes the increase in the total within-group error sum of squares, based on the Euclidean distance between centroi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399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It tends to produce homogeneous clusters and a symmetric hierarch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399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Its definition of a cluster center of gravity provides a useful way of representing a clu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99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Follows the general HACM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975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600" spc="-1" strike="noStrike">
                <a:solidFill>
                  <a:srgbClr val="000099"/>
                </a:solidFill>
                <a:latin typeface="Arial"/>
                <a:ea typeface="굴림"/>
              </a:rPr>
              <a:t>Reciprocal nearest neighbor algorithm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846000" indent="-399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For any point or cluster, there exists a chain of nearest neighbors(N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9996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Select an arbitrary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9996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Follow the NN chain from this point till an RNN pari is f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9996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Merge these two points and replace them with a sing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9996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If there is a point in NN chain preceding the merged points, return to step 2; otherwise return to step 1. Stop when only one point rem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6. Evaluation and Validation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돋움체"/>
              </a:rPr>
              <a:t>Evaluation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Determine the “best” clustering metho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applying a range of clustering methods to test data s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and comparing the quality of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Voohees fou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Complete link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 most effective for larger col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Complete and group average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 comparable for smaller col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Single link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 worst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El-Hamdouchi and Wille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Group average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 most suitable for document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Complete link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 not as effective as in Voorh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Evaluation and Validation (2)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438120" indent="-438120">
              <a:lnSpc>
                <a:spcPct val="11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돋움체"/>
              </a:rPr>
              <a:t>Validation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884160" indent="-43812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Is the data matrix rand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How well does a hierarchy fit a proximity matrix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Is a partition vali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Which individual clusters appearing in a hierachy are vali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110000"/>
              </a:lnSpc>
              <a:spcBef>
                <a:spcPts val="75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돋움체"/>
              </a:rPr>
              <a:t>Three tests for clustering tenden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84160" indent="-43812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Clustering tendency: is retrieval performance achiev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Overlap test: query-relevance test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 RR, RNR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Nearest neighbor test: how many of its n nearest neighbors are also relev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1. Introduction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8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  <a:ea typeface="굴림"/>
              </a:rPr>
              <a:t>Cluster analysis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atistical technique to generate a category structure which fits a set of observ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igh degree of association between members of the same group and a low degree between members of different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imilar to automatic classification, but different in that classes are not known prior to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ethods and algorithms are foun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atistical analysis packages: SAS, SPSSX, BM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uster analysis packages: CLUSTAN, CLUSTAR/CLUS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  <a:ea typeface="굴림"/>
              </a:rPr>
              <a:t>Applications in I.R.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ocuments may be clustered on the basis of the </a:t>
            </a:r>
            <a:r>
              <a:rPr b="0" i="1" lang="en-US" sz="1800" spc="-1" strike="noStrike">
                <a:solidFill>
                  <a:srgbClr val="f35b1b"/>
                </a:solidFill>
                <a:latin typeface="Arial"/>
                <a:ea typeface="굴림"/>
              </a:rPr>
              <a:t>te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that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ocuments may be clustered based on </a:t>
            </a:r>
            <a:r>
              <a:rPr b="0" i="1" lang="en-US" sz="1800" spc="-1" strike="noStrike">
                <a:solidFill>
                  <a:srgbClr val="f35b1b"/>
                </a:solidFill>
                <a:latin typeface="Arial"/>
                <a:ea typeface="굴림"/>
              </a:rPr>
              <a:t>co-occurring cit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in order to provide insights into the nature of the literature of a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en-US" sz="1800" spc="-1" strike="noStrike">
                <a:solidFill>
                  <a:srgbClr val="f35b1b"/>
                </a:solidFill>
                <a:latin typeface="Arial"/>
                <a:ea typeface="굴림"/>
              </a:rPr>
              <a:t>Terms may be clust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on the basis of the documents in which they co-occ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7. Updating the Cluster Structure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돋움체"/>
              </a:rPr>
              <a:t>When new items are added, updating the cluster without the need to recluster the entire collection is desirable.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바탕체"/>
              </a:rPr>
              <a:t>Crouch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돋움체"/>
              </a:rPr>
              <a:t>’s reallocation algorithm(1975)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돋움체"/>
              </a:rPr>
              <a:t>Includes a mechanism for cluster maintena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바탕체"/>
              </a:rPr>
              <a:t>Can and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돋움체"/>
              </a:rPr>
              <a:t> 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바탕체"/>
              </a:rPr>
              <a:t>Ozkarahan(1989)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돋움체"/>
              </a:rPr>
              <a:t>Strategy for dynamic cluster maintenance based on their cover coefficient concep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8. Document Retrieval From A Clustered Data Set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7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99960" indent="-399960" algn="just">
              <a:lnSpc>
                <a:spcPct val="8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  <a:ea typeface="돋움체"/>
              </a:rPr>
              <a:t>Document clustering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846000" indent="-399960" algn="just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체"/>
              </a:rPr>
              <a:t>Improves the efficiency of retrie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99960" algn="just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체"/>
              </a:rPr>
              <a:t>Improves the effectiveness of retrie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99960" algn="just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체"/>
              </a:rPr>
              <a:t>Provides an alternative to Boolean or best match retrie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8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  <a:ea typeface="돋움체"/>
              </a:rPr>
              <a:t>Approaches to retrieval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846000" indent="-399960" algn="just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체"/>
              </a:rPr>
              <a:t>Top-down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399960" algn="just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AutoNum type="arabicPeriod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체"/>
              </a:rPr>
              <a:t>Enter the tree at the root and matching the query against the cluster at each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399960" algn="just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AutoNum type="arabicPeriod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체"/>
              </a:rPr>
              <a:t>Move down the tree following the path of greater simila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99960" algn="just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체"/>
              </a:rPr>
              <a:t>Bottom-up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399960" algn="just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AutoNum type="arabicPeriod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체"/>
              </a:rPr>
              <a:t>Begins with some document or cluster at the base of the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2720" indent="-399960" algn="just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체"/>
              </a:rPr>
              <a:t>beginning documen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체"/>
              </a:rPr>
              <a:t> an item known to be rele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2720" indent="-399960" algn="just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체"/>
              </a:rPr>
              <a:t>It can be obtained by a best match search of documents or lowest-level clu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399960" algn="just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AutoNum type="arabicPeriod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체"/>
              </a:rPr>
              <a:t>Moves up until the retrieval criterion is satisf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2. Measures of Association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9000"/>
          </a:bodyPr>
          <a:p>
            <a:pPr marL="328320" indent="-328320">
              <a:lnSpc>
                <a:spcPct val="110000"/>
              </a:lnSpc>
              <a:spcBef>
                <a:spcPts val="78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99"/>
                </a:solidFill>
                <a:latin typeface="Arial"/>
                <a:ea typeface="굴림"/>
              </a:rPr>
              <a:t>Means of quantifying the degree of association between documents(terms).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656640" indent="0">
              <a:lnSpc>
                <a:spcPct val="110000"/>
              </a:lnSpc>
              <a:spcBef>
                <a:spcPts val="78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Distance measure, or a measure of similarity/dissimilar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-214920">
              <a:lnSpc>
                <a:spcPct val="110000"/>
              </a:lnSpc>
              <a:spcBef>
                <a:spcPts val="788"/>
              </a:spcBef>
              <a:buClr>
                <a:srgbClr val="ff0000"/>
              </a:buClr>
              <a:buFont typeface="Wingdings" charset="2"/>
              <a:buChar char="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Some methods use a specific mea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8560" indent="0">
              <a:lnSpc>
                <a:spcPct val="110000"/>
              </a:lnSpc>
              <a:spcBef>
                <a:spcPts val="788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e.g. Euclidean distance for Ward’s metho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110000"/>
              </a:lnSpc>
              <a:spcBef>
                <a:spcPts val="78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99"/>
                </a:solidFill>
                <a:latin typeface="Arial"/>
                <a:ea typeface="굴림"/>
              </a:rPr>
              <a:t>Weighting of document terms is not as significant in improving performance in cluster-based retrieval.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28320" indent="-328320">
              <a:lnSpc>
                <a:spcPct val="110000"/>
              </a:lnSpc>
              <a:spcBef>
                <a:spcPts val="78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99"/>
                </a:solidFill>
                <a:latin typeface="Arial"/>
                <a:ea typeface="굴림"/>
              </a:rPr>
              <a:t>Similarity measures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656640" indent="-214920">
              <a:lnSpc>
                <a:spcPct val="11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Dice coeffici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-214920">
              <a:lnSpc>
                <a:spcPct val="11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Jaccard coeffici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-214920">
              <a:lnSpc>
                <a:spcPct val="11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Cosine coeffici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Similarity Measures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8000"/>
          </a:bodyPr>
          <a:p>
            <a:pPr marL="325080" indent="-325080">
              <a:lnSpc>
                <a:spcPct val="90000"/>
              </a:lnSpc>
              <a:spcBef>
                <a:spcPts val="825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2200" spc="-1" strike="noStrike">
                <a:solidFill>
                  <a:srgbClr val="000099"/>
                </a:solidFill>
                <a:latin typeface="Arial"/>
                <a:ea typeface="굴림"/>
              </a:rPr>
              <a:t>Dice coefficient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3" marL="12535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Binary term weigh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25080" indent="-325080">
              <a:lnSpc>
                <a:spcPct val="90000"/>
              </a:lnSpc>
              <a:spcBef>
                <a:spcPts val="825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2200" spc="-1" strike="noStrike">
                <a:solidFill>
                  <a:srgbClr val="000099"/>
                </a:solidFill>
                <a:latin typeface="Arial"/>
                <a:ea typeface="굴림"/>
              </a:rPr>
              <a:t>Jaccard coefficient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2" marL="9784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8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8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lnSpc>
                <a:spcPct val="90000"/>
              </a:lnSpc>
              <a:spcBef>
                <a:spcPts val="825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2200" spc="-1" strike="noStrike">
                <a:solidFill>
                  <a:srgbClr val="000099"/>
                </a:solidFill>
                <a:latin typeface="Arial"/>
                <a:ea typeface="굴림"/>
              </a:rPr>
              <a:t>Cosine coefficient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4" marL="15292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447920" y="4343400"/>
                <a:ext cx="7391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igh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igh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igh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igh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igh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igh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581280" y="5562720"/>
                <a:ext cx="4800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igh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igh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eigh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  <m:r>
                              <m:t xml:space="preserve"> 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eigh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200400" y="1371600"/>
                <a:ext cx="5029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igh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igh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igh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igh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209680" y="2971800"/>
                <a:ext cx="1905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495680" y="2819520"/>
            <a:ext cx="3505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A : the number of terms in 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ko-KR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B : the number of terms in  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ko-KR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 : 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ko-KR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ko-KR" sz="1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공통 용어 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Similarity Matrix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6880" y="1219320"/>
            <a:ext cx="7923240" cy="5029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돋움체"/>
              </a:rPr>
              <a:t>Pairwise coupling of the most similar documents or clust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돋움체"/>
              </a:rPr>
              <a:t>The similarity between every pair of documen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돋움체"/>
              </a:rPr>
              <a:t>Symmetric </a:t>
            </a:r>
            <a:r>
              <a:rPr b="0" lang="ko-KR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돋움체"/>
              </a:rPr>
              <a:t> </a:t>
            </a:r>
            <a:r>
              <a:rPr b="0" i="1" lang="ko-KR" sz="2400" spc="-1" strike="noStrike">
                <a:solidFill>
                  <a:srgbClr val="f35b1b"/>
                </a:solidFill>
                <a:latin typeface="Arial"/>
                <a:ea typeface="돋움체"/>
              </a:rPr>
              <a:t>lower triangular matrix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돋움체"/>
              </a:rPr>
              <a:t>Similarity matrix can be the basis for identifying a </a:t>
            </a:r>
            <a:r>
              <a:rPr b="0" i="1" lang="ko-KR" sz="2400" spc="-1" strike="noStrike">
                <a:solidFill>
                  <a:srgbClr val="f35b1b"/>
                </a:solidFill>
                <a:latin typeface="Arial"/>
                <a:ea typeface="돋움체"/>
              </a:rPr>
              <a:t>nearest neighbor(NN)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돋움체"/>
              </a:rPr>
              <a:t> </a:t>
            </a:r>
            <a:r>
              <a:rPr b="0" lang="ko-KR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돋움체"/>
              </a:rPr>
              <a:t> find the closest vector to a given vector from a set of </a:t>
            </a:r>
            <a:r>
              <a:rPr b="0" i="1" lang="ko-KR" sz="2400" spc="-1" strike="noStrike">
                <a:solidFill>
                  <a:srgbClr val="000099"/>
                </a:solidFill>
                <a:latin typeface="Arial"/>
                <a:ea typeface="돋움체"/>
              </a:rPr>
              <a:t>N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돋움체"/>
              </a:rPr>
              <a:t> multidimensional vector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Efficient NN-finding algorithm </a:t>
            </a:r>
            <a:r>
              <a:rPr b="0" lang="ko-KR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inverted file algorith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ir-10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761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3. Clustering Methods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7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80000"/>
              </a:lnSpc>
              <a:spcBef>
                <a:spcPts val="78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99"/>
                </a:solidFill>
                <a:latin typeface="Arial"/>
                <a:ea typeface="굴림"/>
              </a:rPr>
              <a:t>Goal: N objects </a:t>
            </a:r>
            <a:r>
              <a:rPr b="0" lang="ko-KR" sz="21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ko-KR" sz="2100" spc="-1" strike="noStrike">
                <a:solidFill>
                  <a:srgbClr val="000099"/>
                </a:solidFill>
                <a:latin typeface="Arial"/>
                <a:ea typeface="굴림"/>
              </a:rPr>
              <a:t> M groups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N &gt;&gt; M  and  M is usually unknow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78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99"/>
                </a:solidFill>
                <a:latin typeface="Arial"/>
                <a:ea typeface="굴림"/>
              </a:rPr>
              <a:t>Agglomerative vs. Divisive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Agg. : unclustered data set </a:t>
            </a:r>
            <a:r>
              <a:rPr b="0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 N-1 pairwise joi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Div.  : all objects in a single cluster </a:t>
            </a:r>
            <a:r>
              <a:rPr b="0" lang="ko-K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 N-1 divisions of some cluster into a smaller clus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78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fd2211"/>
                </a:solidFill>
                <a:latin typeface="Arial"/>
                <a:ea typeface="굴림"/>
              </a:rPr>
              <a:t>Nonhierarchical methods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Partitioning and reallocating items until some criterion is optimiz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Heuristic in nature, since a priori decisions about </a:t>
            </a:r>
            <a:r>
              <a:rPr b="0" i="1" lang="ko-KR" sz="2100" spc="-1" strike="noStrike">
                <a:solidFill>
                  <a:srgbClr val="cc0066"/>
                </a:solidFill>
                <a:latin typeface="Arial"/>
                <a:ea typeface="굴림"/>
              </a:rPr>
              <a:t>the number of clusters, cluster size, criterion for cluster membership, and form of cluster representation</a:t>
            </a: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 are requir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78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fd2211"/>
                </a:solidFill>
                <a:latin typeface="Arial"/>
                <a:ea typeface="굴림"/>
              </a:rPr>
              <a:t>Hierarchical methods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4. Nonhierarchical Methods </a:t>
            </a:r>
            <a:r>
              <a:rPr b="1" i="1" lang="en-US" sz="2000" spc="-1" strike="noStrike">
                <a:solidFill>
                  <a:srgbClr val="cd0355"/>
                </a:solidFill>
                <a:latin typeface="Arial"/>
                <a:ea typeface="굴림"/>
              </a:rPr>
              <a:t>(1/3)</a:t>
            </a:r>
            <a:endParaRPr b="1" i="1" lang="en-US" sz="2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  <a:ea typeface="굴림"/>
              </a:rPr>
              <a:t>경험적인 결정을 요구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  <a:ea typeface="굴림"/>
              </a:rPr>
              <a:t>최적의 해결책을 구하기는 불가능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  <a:ea typeface="굴림"/>
              </a:rPr>
              <a:t>자료집합 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  <a:ea typeface="굴림"/>
              </a:rPr>
              <a:t>N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  <a:ea typeface="굴림"/>
              </a:rPr>
              <a:t>이 클러스터 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  <a:ea typeface="굴림"/>
              </a:rPr>
              <a:t>M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  <a:ea typeface="굴림"/>
              </a:rPr>
              <a:t>보다 매우 크면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  <a:ea typeface="굴림"/>
              </a:rPr>
              <a:t>(M&lt;&lt;N)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  <a:ea typeface="굴림"/>
              </a:rPr>
              <a:t>큰 자료 집합을 분할하는데 계층적 방법보다 효율적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  <a:ea typeface="굴림"/>
              </a:rPr>
              <a:t>계산자원에 한계가 있었던 초창기 문헌 클러스터링 연구에 사용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fd2211"/>
                </a:solidFill>
                <a:latin typeface="굴림"/>
                <a:ea typeface="굴림"/>
              </a:rPr>
              <a:t>단일패스 방법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fd2211"/>
                </a:solidFill>
                <a:latin typeface="굴림"/>
                <a:ea typeface="굴림"/>
              </a:rPr>
              <a:t>재배치 방법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Nonhierarchical Methods </a:t>
            </a:r>
            <a:r>
              <a:rPr b="1" i="1" lang="en-US" sz="2000" spc="-1" strike="noStrike">
                <a:solidFill>
                  <a:srgbClr val="cd0355"/>
                </a:solidFill>
                <a:latin typeface="Arial"/>
                <a:ea typeface="굴림"/>
              </a:rPr>
              <a:t>(2/3)</a:t>
            </a:r>
            <a:endParaRPr b="1" i="1" lang="en-US" sz="2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7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438120" indent="-438120">
              <a:lnSpc>
                <a:spcPct val="10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2300" spc="-1" strike="noStrike">
                <a:solidFill>
                  <a:srgbClr val="fd2211"/>
                </a:solidFill>
                <a:latin typeface="Arial"/>
                <a:ea typeface="굴림"/>
              </a:rPr>
              <a:t>Single Pass Methods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884160" indent="-438120">
              <a:lnSpc>
                <a:spcPct val="100000"/>
              </a:lnSpc>
              <a:spcBef>
                <a:spcPts val="862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바탕체"/>
              </a:rPr>
              <a:t>Assign the first document </a:t>
            </a:r>
            <a:r>
              <a:rPr b="0" i="1" lang="ko-KR" sz="2300" spc="-1" strike="noStrike">
                <a:solidFill>
                  <a:srgbClr val="000000"/>
                </a:solidFill>
                <a:latin typeface="Arial"/>
                <a:ea typeface="바탕체"/>
              </a:rPr>
              <a:t>D</a:t>
            </a:r>
            <a:r>
              <a:rPr b="0" i="1" lang="ko-KR" sz="2300" spc="-1" strike="noStrike" baseline="-25000">
                <a:solidFill>
                  <a:srgbClr val="000000"/>
                </a:solidFill>
                <a:latin typeface="Arial"/>
                <a:ea typeface="바탕체"/>
              </a:rPr>
              <a:t>1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바탕체"/>
              </a:rPr>
              <a:t> as the representative for </a:t>
            </a:r>
            <a:r>
              <a:rPr b="0" i="1" lang="ko-KR" sz="2300" spc="-1" strike="noStrike">
                <a:solidFill>
                  <a:srgbClr val="000000"/>
                </a:solidFill>
                <a:latin typeface="Arial"/>
                <a:ea typeface="바탕체"/>
              </a:rPr>
              <a:t>C</a:t>
            </a:r>
            <a:r>
              <a:rPr b="0" i="1" lang="ko-KR" sz="2300" spc="-1" strike="noStrike" baseline="-25000">
                <a:solidFill>
                  <a:srgbClr val="000000"/>
                </a:solidFill>
                <a:latin typeface="Arial"/>
                <a:ea typeface="바탕체"/>
              </a:rPr>
              <a:t>1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바탕체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100000"/>
              </a:lnSpc>
              <a:spcBef>
                <a:spcPts val="862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바탕체"/>
              </a:rPr>
              <a:t>For </a:t>
            </a:r>
            <a:r>
              <a:rPr b="0" i="1" lang="ko-KR" sz="2300" spc="-1" strike="noStrike">
                <a:solidFill>
                  <a:srgbClr val="000000"/>
                </a:solidFill>
                <a:latin typeface="Arial"/>
                <a:ea typeface="바탕체"/>
              </a:rPr>
              <a:t>D</a:t>
            </a:r>
            <a:r>
              <a:rPr b="0" i="1" lang="ko-KR" sz="2300" spc="-1" strike="noStrike" baseline="-25000">
                <a:solidFill>
                  <a:srgbClr val="000000"/>
                </a:solidFill>
                <a:latin typeface="Arial"/>
                <a:ea typeface="바탕체"/>
              </a:rPr>
              <a:t>i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돋움체"/>
              </a:rPr>
              <a:t>, calculate the similarity </a:t>
            </a:r>
            <a:r>
              <a:rPr b="0" i="1" lang="ko-KR" sz="2300" spc="-1" strike="noStrike">
                <a:solidFill>
                  <a:srgbClr val="000000"/>
                </a:solidFill>
                <a:latin typeface="Arial"/>
                <a:ea typeface="돋움체"/>
              </a:rPr>
              <a:t>S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돋움체"/>
              </a:rPr>
              <a:t> with the representative for each existing clust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100000"/>
              </a:lnSpc>
              <a:spcBef>
                <a:spcPts val="862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바탕체"/>
              </a:rPr>
              <a:t>If </a:t>
            </a:r>
            <a:r>
              <a:rPr b="0" i="1" lang="ko-KR" sz="2300" spc="-1" strike="noStrike">
                <a:solidFill>
                  <a:srgbClr val="000000"/>
                </a:solidFill>
                <a:latin typeface="Arial"/>
                <a:ea typeface="바탕체"/>
              </a:rPr>
              <a:t>S</a:t>
            </a:r>
            <a:r>
              <a:rPr b="0" i="1" lang="ko-KR" sz="2300" spc="-1" strike="noStrike" baseline="-25000">
                <a:solidFill>
                  <a:srgbClr val="000000"/>
                </a:solidFill>
                <a:latin typeface="Arial"/>
                <a:ea typeface="바탕체"/>
              </a:rPr>
              <a:t>max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돋움체"/>
              </a:rPr>
              <a:t> &gt; </a:t>
            </a:r>
            <a:r>
              <a:rPr b="0" i="1" lang="ko-KR" sz="2300" spc="-1" strike="noStrike">
                <a:solidFill>
                  <a:srgbClr val="000000"/>
                </a:solidFill>
                <a:latin typeface="Arial"/>
                <a:ea typeface="바탕체"/>
              </a:rPr>
              <a:t>S</a:t>
            </a:r>
            <a:r>
              <a:rPr b="0" i="1" lang="ko-KR" sz="2300" spc="-1" strike="noStrike" baseline="-25000">
                <a:solidFill>
                  <a:srgbClr val="000000"/>
                </a:solidFill>
                <a:latin typeface="Arial"/>
                <a:ea typeface="바탕체"/>
              </a:rPr>
              <a:t>T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돋움체"/>
              </a:rPr>
              <a:t>(threshold), add the item to the corresponding cluster and recalculate the cluster representative; otherwise, use </a:t>
            </a:r>
            <a:r>
              <a:rPr b="0" i="1" lang="ko-KR" sz="2300" spc="-1" strike="noStrike">
                <a:solidFill>
                  <a:srgbClr val="000000"/>
                </a:solidFill>
                <a:latin typeface="Arial"/>
                <a:ea typeface="바탕체"/>
              </a:rPr>
              <a:t>D</a:t>
            </a:r>
            <a:r>
              <a:rPr b="0" i="1" lang="ko-KR" sz="2300" spc="-1" strike="noStrike" baseline="-25000">
                <a:solidFill>
                  <a:srgbClr val="000000"/>
                </a:solidFill>
                <a:latin typeface="Arial"/>
                <a:ea typeface="바탕체"/>
              </a:rPr>
              <a:t>i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돋움체"/>
              </a:rPr>
              <a:t> to initiate a new clust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100000"/>
              </a:lnSpc>
              <a:spcBef>
                <a:spcPts val="862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돋움체"/>
              </a:rPr>
              <a:t>If an item </a:t>
            </a:r>
            <a:r>
              <a:rPr b="0" i="1" lang="ko-KR" sz="2300" spc="-1" strike="noStrike">
                <a:solidFill>
                  <a:srgbClr val="000000"/>
                </a:solidFill>
                <a:latin typeface="Arial"/>
                <a:ea typeface="바탕체"/>
              </a:rPr>
              <a:t>D</a:t>
            </a:r>
            <a:r>
              <a:rPr b="0" i="1" lang="ko-KR" sz="2300" spc="-1" strike="noStrike" baseline="-25000">
                <a:solidFill>
                  <a:srgbClr val="000000"/>
                </a:solidFill>
                <a:latin typeface="Arial"/>
                <a:ea typeface="바탕체"/>
              </a:rPr>
              <a:t>i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돋움체"/>
              </a:rPr>
              <a:t> remains to be clustered, return to step 2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Nonhierarchical Methods </a:t>
            </a:r>
            <a:r>
              <a:rPr b="1" i="1" lang="en-US" sz="2000" spc="-1" strike="noStrike">
                <a:solidFill>
                  <a:srgbClr val="cd0355"/>
                </a:solidFill>
                <a:latin typeface="Arial"/>
                <a:ea typeface="굴림"/>
              </a:rPr>
              <a:t>(3/3)</a:t>
            </a:r>
            <a:endParaRPr b="1" i="1" lang="en-US" sz="2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438120" indent="-438120">
              <a:lnSpc>
                <a:spcPct val="11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2300" spc="-1" strike="noStrike">
                <a:solidFill>
                  <a:srgbClr val="fd2211"/>
                </a:solidFill>
                <a:latin typeface="Arial"/>
                <a:ea typeface="굴림"/>
              </a:rPr>
              <a:t>Reallocation Methods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884160" indent="-438120">
              <a:lnSpc>
                <a:spcPct val="11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Beginning initial partition of the data s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11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Moving items from cluster to cluster to obtain an improved parti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110000"/>
              </a:lnSpc>
              <a:spcBef>
                <a:spcPts val="862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Select </a:t>
            </a:r>
            <a:r>
              <a:rPr b="0" i="1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 cluster representatives or centroid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110000"/>
              </a:lnSpc>
              <a:spcBef>
                <a:spcPts val="862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For i = 1 to </a:t>
            </a:r>
            <a:r>
              <a:rPr b="0" i="1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, assign </a:t>
            </a:r>
            <a:r>
              <a:rPr b="0" i="1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D</a:t>
            </a:r>
            <a:r>
              <a:rPr b="0" i="1" lang="ko-KR" sz="23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 to the most similar centroi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110000"/>
              </a:lnSpc>
              <a:spcBef>
                <a:spcPts val="862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For j = 1 to </a:t>
            </a:r>
            <a:r>
              <a:rPr b="0" i="1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, recalculate the cluster centroid </a:t>
            </a:r>
            <a:r>
              <a:rPr b="0" i="1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r>
              <a:rPr b="0" i="1" lang="ko-KR" sz="23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j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110000"/>
              </a:lnSpc>
              <a:spcBef>
                <a:spcPts val="862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Repeat steps 2 and 3 until there is little or no change in cluster membership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7T11:24:45Z</dcterms:created>
  <dc:creator>Prunus</dc:creator>
  <dc:description/>
  <dc:language>en-US</dc:language>
  <cp:lastModifiedBy>강승식</cp:lastModifiedBy>
  <dcterms:modified xsi:type="dcterms:W3CDTF">2002-07-05T08:15:05Z</dcterms:modified>
  <cp:revision>73</cp:revision>
  <dc:subject/>
  <dc:title>슬라이드 제목 없음</dc:title>
</cp:coreProperties>
</file>