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C384-BD19-4E02-BF77-F8E6B777E3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A10B-12C9-4E8D-9F8D-218BE5F1D9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71200" y="4708440"/>
            <a:ext cx="500076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7807-8010-4D81-A575-5AAD8351D1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71200" y="4708440"/>
            <a:ext cx="500076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8AB-AFB6-4876-AFBC-300FDEC7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634-D72E-4D8D-A20A-AEECEA8F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13D-7E1E-4A7E-9BDD-35723FA4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01D-7BCC-410A-B7AD-9B18B3DA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DE60-5039-4631-B070-A481B07C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E37C-C08F-445A-97AC-B15BB429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3E02-4236-458A-B891-0A3E2F69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D45C-C86B-426A-97B4-E4A79635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044F-0E06-4E51-878D-6CFC3807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479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D981-B93A-4421-9288-952D2EBC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8A6B-F02F-49DD-984B-A178A0E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94E-3F38-4DBD-B231-F4F48FF2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AF44-49D6-4497-B89C-D7C16F8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FC28-18E6-47ED-BE8C-E01D228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8976-E7D3-44EB-AECE-724BA33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284D-D072-415D-8BC9-DB0F4960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093920"/>
            <a:ext cx="24289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A00-19E8-465E-83C1-766396D0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2F7-0888-4E05-B7CC-0BA4015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BD5-701D-4E9E-A52D-1710DC5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2EA-9B59-4056-9FAA-1BA3AE51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479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D22-CE9C-4FD5-B4BE-5F71ACD7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6F9-1CB9-486D-814D-65062D8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09392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67B-341D-4C85-84D3-0085DCA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7543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462-02D7-47EA-A8CC-0B136BD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DE89-28EA-42FD-9DCE-532110BBF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1295280"/>
              <a:ext cx="22860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F2E-29D9-44D2-A6F7-91DB17FEE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1295280" y="2209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1371600" y="3048120"/>
              <a:ext cx="22860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276720"/>
              <a:ext cx="9144000" cy="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Web Information Retrieval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73392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대학교 컴퓨터학부 강승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rincessdi-av" descr=""/>
          <p:cNvPicPr/>
          <p:nvPr/>
        </p:nvPicPr>
        <p:blipFill>
          <a:blip r:embed="rId2"/>
          <a:stretch/>
        </p:blipFill>
        <p:spPr>
          <a:xfrm>
            <a:off x="3352680" y="2128680"/>
            <a:ext cx="2640240" cy="4305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7" name="princessdi-is" descr=""/>
          <p:cNvPicPr/>
          <p:nvPr/>
        </p:nvPicPr>
        <p:blipFill>
          <a:blip r:embed="rId3"/>
          <a:stretch/>
        </p:blipFill>
        <p:spPr>
          <a:xfrm>
            <a:off x="338040" y="2158920"/>
            <a:ext cx="29448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rincessdi-nl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2403720" cy="43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780480" y="1633680"/>
            <a:ext cx="166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ine 1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758400" y="1627200"/>
            <a:ext cx="166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ine 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370560" y="1589040"/>
            <a:ext cx="1660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ine 3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3898800" y="4699080"/>
            <a:ext cx="2114640" cy="711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vant but low quality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6381720" y="4699080"/>
            <a:ext cx="2089080" cy="711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relevant index pollutio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“</a:t>
            </a: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princess diana”</a:t>
            </a: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의 검색결과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155600" y="4699080"/>
            <a:ext cx="2114640" cy="711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vant and high quality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66F-6D82-41EB-B2F4-F4E93C009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국내 검색엔진 평가</a:t>
            </a:r>
            <a:r>
              <a:rPr b="0" lang="ko-KR" sz="32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ffcc"/>
                </a:solidFill>
                <a:latin typeface="굴림"/>
              </a:rPr>
              <a:t>성공회대</a:t>
            </a:r>
            <a:r>
              <a:rPr b="0" lang="ko-KR" sz="32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http://green.skhu.ac.kr/~skhuir/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평가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 검색결과에 대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1+1+1+3/4+4/5+5/6+6/7+7/8+7/9+8/10)/10 = 0.87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Naver, Empas, Hanmir &amp; Lycos, Simmani, Yahoo, MSN, Daum, Altavista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Hanmir, Lycos, Naver &amp; Yahoo, Simmani, Altavista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D61-D663-4BC4-A5C4-C9627503DF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국내 검색엔진 순위변화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0" name="IR-rank-2" descr=""/>
          <p:cNvPicPr/>
          <p:nvPr/>
        </p:nvPicPr>
        <p:blipFill>
          <a:blip r:embed="rId2"/>
          <a:stretch/>
        </p:blipFill>
        <p:spPr>
          <a:xfrm>
            <a:off x="1279440" y="2133720"/>
            <a:ext cx="658332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8A1-80F9-4894-961D-8FCDD3576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인터넷 검색엔진의 성능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웹 문서 개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억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99/12) 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한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~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만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Web spider(crawler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색결과의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a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0~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 내에 적합한 문서 개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Ranking algorith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갱신 주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~ 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BE4-4A9F-4CAC-AE8D-F47959FC1D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웹의 특성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안정성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3%/day, 38%/week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양한 자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ext, image, sound, scrip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양한 언어의 문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복 문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yntactic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emantic: ???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High linkage 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8 links/pag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2F7-1C6A-4220-8F56-B19251CC18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질의어 및 사용자 특성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질의어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35 term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정확한 질의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산자 없는 질의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80%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용자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85% -- one screen only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질의어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78% --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 안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Link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를 따라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0AD-5609-434E-8AB7-64CD61C9A8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웹 검색엔진 구성요소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Web Spider(crawler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 문서 수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Index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색인어 추출 및 색인어 저장 구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earch interfac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질의어 분석 및 검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3FE-6DE6-4B1D-9F4F-813DA2FA49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웹 정보검색 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issues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 문서 수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Priority 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매일 갱신되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page?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Load balancing : Internal, externa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Trap avoidanc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서버가 죽어 있는 경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Page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가 삭제된 경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서 처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중복문서 제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색인어 추출 및 저장 구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Query-independent rankin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문서 분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E2E-2EC8-4F78-AEB5-7ED01B331A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웹 정보검색 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issues (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계속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질의어 처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Query-dependent ranking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복문서 제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질의어 수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확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색결과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clustering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53E-547C-4D31-98D1-BF81E29AB3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웹 문서 수집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목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자 요구에 적합한 문서 수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tatic: html, text, image, audio …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Dynamic: DB acces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URL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리스트 확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Hyperlink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모든 웹서버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I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tatic page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집 방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Dynamic page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 방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F39-C874-466E-885D-B56A2E25D6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차 례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웹 검색엔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국내외 검색엔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의 특성 및 사용자 특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웹 검색엔진의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issu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Web spider(crawler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Ranking 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서 연관성 기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PageRank, HIT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246-E9A4-42FB-AF66-4608EA7D7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Web crawling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51000" y="1308240"/>
            <a:ext cx="6993000" cy="54385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786960" y="1599840"/>
            <a:ext cx="8357040" cy="4844880"/>
            <a:chOff x="786960" y="1599840"/>
            <a:chExt cx="8357040" cy="4844880"/>
          </a:xfrm>
        </p:grpSpPr>
        <p:sp>
          <p:nvSpPr>
            <p:cNvPr id="149" name=""/>
            <p:cNvSpPr/>
            <p:nvPr/>
          </p:nvSpPr>
          <p:spPr>
            <a:xfrm>
              <a:off x="4684680" y="3076200"/>
              <a:ext cx="1600200" cy="1371240"/>
            </a:xfrm>
            <a:prstGeom prst="flowChartMultidocument">
              <a:avLst/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pPr marL="228600" indent="-228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ueue of 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228600" indent="-228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nks to 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228600" indent="-228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plore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51560" y="2466720"/>
              <a:ext cx="1792440" cy="837720"/>
            </a:xfrm>
            <a:prstGeom prst="flowChartAlternateProcess">
              <a:avLst/>
            </a:prstGeom>
            <a:solidFill>
              <a:srgbClr val="ff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xpired pages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rom index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3560" y="5294160"/>
              <a:ext cx="1792440" cy="837720"/>
            </a:xfrm>
            <a:prstGeom prst="flowChartAlternateProcess">
              <a:avLst/>
            </a:prstGeom>
            <a:solidFill>
              <a:srgbClr val="ff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URL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cxnSp>
          <p:nvCxnSpPr>
            <p:cNvPr id="152" name=""/>
            <p:cNvCxnSpPr>
              <a:stCxn id="150" idx="1"/>
            </p:cNvCxnSpPr>
            <p:nvPr/>
          </p:nvCxnSpPr>
          <p:spPr>
            <a:xfrm flipV="1" rot="10800000">
              <a:off x="6284160" y="2884680"/>
              <a:ext cx="1054800" cy="572040"/>
            </a:xfrm>
            <a:prstGeom prst="curvedConnector5">
              <a:avLst>
                <a:gd name="adj1" fmla="val 61590"/>
                <a:gd name="adj2" fmla="val 50000"/>
                <a:gd name="adj3" fmla="val 61590"/>
              </a:avLst>
            </a:prstGeom>
            <a:ln w="25560">
              <a:solidFill>
                <a:srgbClr val="ff0101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/>
            <p:nvPr/>
          </p:nvCxnSpPr>
          <p:spPr>
            <a:xfrm flipV="1" rot="16200000">
              <a:off x="6009120" y="4007880"/>
              <a:ext cx="1603800" cy="961200"/>
            </a:xfrm>
            <a:prstGeom prst="curvedConnector5">
              <a:avLst>
                <a:gd name="adj1" fmla="val 108015"/>
                <a:gd name="adj2" fmla="val 49981"/>
                <a:gd name="adj3" fmla="val 108015"/>
              </a:avLst>
            </a:prstGeom>
            <a:ln w="25560">
              <a:solidFill>
                <a:srgbClr val="ff0101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5" idx="3"/>
              <a:endCxn id="149" idx="3"/>
            </p:cNvCxnSpPr>
            <p:nvPr/>
          </p:nvCxnSpPr>
          <p:spPr>
            <a:xfrm flipV="1">
              <a:off x="3390840" y="3761640"/>
              <a:ext cx="2907360" cy="2275200"/>
            </a:xfrm>
            <a:prstGeom prst="curvedConnector5">
              <a:avLst>
                <a:gd name="adj1" fmla="val 107417"/>
                <a:gd name="adj2" fmla="val 49992"/>
                <a:gd name="adj3" fmla="val 107417"/>
              </a:avLst>
            </a:prstGeom>
            <a:ln w="25560">
              <a:solidFill>
                <a:srgbClr val="ff0101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9" idx="1"/>
              <a:endCxn id="157" idx="3"/>
            </p:cNvCxnSpPr>
            <p:nvPr/>
          </p:nvCxnSpPr>
          <p:spPr>
            <a:xfrm rot="10800000">
              <a:off x="3390120" y="2626200"/>
              <a:ext cx="1281600" cy="1135440"/>
            </a:xfrm>
            <a:prstGeom prst="curvedConnector5">
              <a:avLst>
                <a:gd name="adj1" fmla="val 49929"/>
                <a:gd name="adj2" fmla="val 49984"/>
                <a:gd name="adj3" fmla="val 49929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1585800" y="2219040"/>
              <a:ext cx="1792440" cy="815760"/>
            </a:xfrm>
            <a:prstGeom prst="flowChartAlternateProcess">
              <a:avLst/>
            </a:prstGeom>
            <a:solidFill>
              <a:srgbClr val="ff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et link at 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op of queue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5800" y="3362040"/>
              <a:ext cx="1792440" cy="815760"/>
            </a:xfrm>
            <a:prstGeom prst="flowChartAlternateProcess">
              <a:avLst/>
            </a:prstGeom>
            <a:solidFill>
              <a:srgbClr val="ff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etch page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5800" y="5628960"/>
              <a:ext cx="1792440" cy="815760"/>
            </a:xfrm>
            <a:prstGeom prst="flowChartAlternateProcess">
              <a:avLst/>
            </a:prstGeom>
            <a:solidFill>
              <a:srgbClr val="ff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to queue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5800" y="4517640"/>
              <a:ext cx="1792440" cy="814320"/>
            </a:xfrm>
            <a:prstGeom prst="flowChartAlternateProcess">
              <a:avLst/>
            </a:prstGeom>
            <a:solidFill>
              <a:srgbClr val="ff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dex page 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d 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arse links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cxnSp>
          <p:nvCxnSpPr>
            <p:cNvPr id="160" name=""/>
            <p:cNvCxnSpPr>
              <a:stCxn id="157" idx="2"/>
              <a:endCxn id="158" idx="0"/>
            </p:cNvCxnSpPr>
            <p:nvPr/>
          </p:nvCxnSpPr>
          <p:spPr>
            <a:xfrm>
              <a:off x="2482560" y="3047400"/>
              <a:ext cx="1080" cy="302040"/>
            </a:xfrm>
            <a:prstGeom prst="straightConnector1">
              <a:avLst/>
            </a:prstGeom>
            <a:ln w="63360">
              <a:solidFill>
                <a:srgbClr val="ffcc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8" idx="2"/>
              <a:endCxn id="159" idx="0"/>
            </p:cNvCxnSpPr>
            <p:nvPr/>
          </p:nvCxnSpPr>
          <p:spPr>
            <a:xfrm>
              <a:off x="2482560" y="4190760"/>
              <a:ext cx="1080" cy="314280"/>
            </a:xfrm>
            <a:prstGeom prst="straightConnector1">
              <a:avLst/>
            </a:prstGeom>
            <a:ln w="63360">
              <a:solidFill>
                <a:srgbClr val="ffcc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9" idx="2"/>
              <a:endCxn id="155" idx="0"/>
            </p:cNvCxnSpPr>
            <p:nvPr/>
          </p:nvCxnSpPr>
          <p:spPr>
            <a:xfrm>
              <a:off x="2482560" y="5344560"/>
              <a:ext cx="1080" cy="271800"/>
            </a:xfrm>
            <a:prstGeom prst="straightConnector1">
              <a:avLst/>
            </a:prstGeom>
            <a:ln w="63360">
              <a:solidFill>
                <a:srgbClr val="ffcc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5" idx="1"/>
              <a:endCxn id="157" idx="1"/>
            </p:cNvCxnSpPr>
            <p:nvPr/>
          </p:nvCxnSpPr>
          <p:spPr>
            <a:xfrm flipH="1" rot="10800000">
              <a:off x="1572840" y="2626200"/>
              <a:ext cx="2160" cy="3410280"/>
            </a:xfrm>
            <a:prstGeom prst="bentConnector3">
              <a:avLst>
                <a:gd name="adj1" fmla="val -40100000"/>
              </a:avLst>
            </a:prstGeom>
            <a:ln w="63360">
              <a:solidFill>
                <a:srgbClr val="ffcc99"/>
              </a:solidFill>
              <a:miter/>
              <a:tailEnd len="med" type="triangle" w="med"/>
            </a:ln>
          </p:spPr>
        </p:cxnSp>
        <p:sp>
          <p:nvSpPr>
            <p:cNvPr id="164" name=""/>
            <p:cNvSpPr/>
            <p:nvPr/>
          </p:nvSpPr>
          <p:spPr>
            <a:xfrm>
              <a:off x="786960" y="1599840"/>
              <a:ext cx="3176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ctr">
              <a:sp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rawling</a:t>
              </a:r>
              <a:r>
                <a:rPr b="1" lang="en-US" sz="2400" spc="-1" strike="noStrike">
                  <a:solidFill>
                    <a:srgbClr val="ff99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BB4-08F1-40AB-B10F-D288260E9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Queuing discipline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andard graph exploration: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Rando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BF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DFS (+ depth limits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Priority based on query-independent rank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Highest indegre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Highest potential PageRank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559-8C5E-4BCC-90D5-7ECE7AA34F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Load balancing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nterna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Response tim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ize of answer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No. of threads, no. of open connections, etc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rver overload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Queuing disciplin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786-732D-4F30-B368-CC3C0FC656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Ranking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Query-independent rankin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각 문서에 대한 가중치 부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Query-dependent rankin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벡터 모델의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cosine measur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서 분석 기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Ad-hoc factor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Publication, loc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Human annotation –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광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서 연관성 기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Query-independent: PageRank, in-degre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Query-dependent: HIT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48F-548F-4F80-80A2-A238C7DA21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문서 연관성 기법</a:t>
            </a: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(PageRank)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hyperlink information of the Web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Links often connect related page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A link between pages is a recommendation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B39-068D-42E5-BDEB-38CFA510B5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52200"/>
            <a:ext cx="7964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PageRank: </a:t>
            </a:r>
            <a:r>
              <a:rPr b="0" lang="ko-KR" sz="4000" spc="-1" strike="noStrike">
                <a:solidFill>
                  <a:srgbClr val="00ffcc"/>
                </a:solidFill>
                <a:latin typeface="굴림"/>
              </a:rPr>
              <a:t>Query-independent ranking</a:t>
            </a:r>
            <a:endParaRPr b="0" lang="en-US" sz="40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 페이지의 그래프 표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u, v) : page </a:t>
            </a:r>
            <a:r>
              <a:rPr b="0" i="1" lang="ko-KR" sz="2400" spc="-1" strike="noStrike">
                <a:solidFill>
                  <a:srgbClr val="ffffff"/>
                </a:solidFill>
                <a:latin typeface="굴림"/>
              </a:rPr>
              <a:t>u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page </a:t>
            </a:r>
            <a:r>
              <a:rPr b="0" i="1" lang="ko-KR" sz="2400" spc="-1" strike="noStrike">
                <a:solidFill>
                  <a:srgbClr val="ffffff"/>
                </a:solidFill>
                <a:latin typeface="굴림"/>
              </a:rPr>
              <a:t>v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로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 페이지의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In-degree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및 그 페이지에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link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된 페이지의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quality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에 의해 결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 페이지의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ageRank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는 사용자가 그 페이지에 머무는 시간에 비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Google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에서 사용하는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ranking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법 중 하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B25-6B03-4303-9C70-1AAE2F0162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HITS: </a:t>
            </a:r>
            <a:r>
              <a:rPr b="0" lang="en-US" sz="4000" spc="-1" strike="noStrike">
                <a:solidFill>
                  <a:srgbClr val="00ffcc"/>
                </a:solidFill>
                <a:latin typeface="굴림"/>
              </a:rPr>
              <a:t>Query-dependent ranking</a:t>
            </a:r>
            <a:endParaRPr b="0" lang="en-US" sz="40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iven a query find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ood sources of content (authorities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Good sources of links (hubs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Better authority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comes from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in-edges from </a:t>
            </a:r>
            <a:r>
              <a:rPr b="0" lang="en-US" sz="2800" spc="-1" strike="noStrike">
                <a:solidFill>
                  <a:srgbClr val="339933"/>
                </a:solidFill>
                <a:latin typeface="굴림"/>
              </a:rPr>
              <a:t>good hubs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Being a </a:t>
            </a:r>
            <a:r>
              <a:rPr b="0" lang="en-US" sz="2800" spc="-1" strike="noStrike">
                <a:solidFill>
                  <a:srgbClr val="339933"/>
                </a:solidFill>
                <a:latin typeface="굴림"/>
              </a:rPr>
              <a:t>better hub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comes from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out-edges to 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good authorities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96080" y="1905120"/>
            <a:ext cx="1142640" cy="1287000"/>
            <a:chOff x="7696080" y="1905120"/>
            <a:chExt cx="1142640" cy="1287000"/>
          </a:xfrm>
        </p:grpSpPr>
        <p:sp>
          <p:nvSpPr>
            <p:cNvPr id="178" name=""/>
            <p:cNvSpPr/>
            <p:nvPr/>
          </p:nvSpPr>
          <p:spPr>
            <a:xfrm>
              <a:off x="8405640" y="2199960"/>
              <a:ext cx="433080" cy="7560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00920" y="2162880"/>
              <a:ext cx="560520" cy="15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97680" y="2554200"/>
              <a:ext cx="570240" cy="10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877880" y="2753280"/>
              <a:ext cx="601920" cy="177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97520" y="1905120"/>
              <a:ext cx="233280" cy="412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7520" y="2342160"/>
              <a:ext cx="233280" cy="412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2779200"/>
              <a:ext cx="233280" cy="412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696080" y="3581280"/>
            <a:ext cx="1142640" cy="1218960"/>
            <a:chOff x="7696080" y="3581280"/>
            <a:chExt cx="1142640" cy="1218960"/>
          </a:xfrm>
        </p:grpSpPr>
        <p:sp>
          <p:nvSpPr>
            <p:cNvPr id="186" name=""/>
            <p:cNvSpPr/>
            <p:nvPr/>
          </p:nvSpPr>
          <p:spPr>
            <a:xfrm>
              <a:off x="7696080" y="3771720"/>
              <a:ext cx="420120" cy="71604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58960" y="4330440"/>
              <a:ext cx="543600" cy="144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55720" y="4084200"/>
              <a:ext cx="553320" cy="10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036280" y="3737880"/>
              <a:ext cx="583920" cy="16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12640" y="3581280"/>
              <a:ext cx="226080" cy="391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12640" y="3994920"/>
              <a:ext cx="226080" cy="391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10840" y="4408920"/>
              <a:ext cx="226080" cy="391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67E-0494-4FEA-BCEC-E9A538A4CD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Modified HITS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문제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Some edges are “wrong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Multiple edges from same autho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Automatically generated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해결방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굴림"/>
              </a:rPr>
              <a:t>Edge weightin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문제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Topic drif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 jaguar + ca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pages about </a:t>
            </a:r>
            <a:r>
              <a:rPr b="0" i="1" lang="en-US" sz="2400" spc="-1" strike="noStrike">
                <a:solidFill>
                  <a:srgbClr val="ffffff"/>
                </a:solidFill>
                <a:latin typeface="굴림"/>
              </a:rPr>
              <a:t>cars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해결방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Analyze content and assign </a:t>
            </a:r>
            <a:r>
              <a:rPr b="0" lang="en-US" sz="2400" spc="-1" strike="noStrike">
                <a:solidFill>
                  <a:srgbClr val="ff0000"/>
                </a:solidFill>
                <a:latin typeface="굴림"/>
              </a:rPr>
              <a:t>topic scores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to node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4DC-F570-4CD4-91FC-3345B2E39F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HITS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실험결과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90720" y="1676520"/>
          <a:ext cx="7772400" cy="479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6520"/>
                    <a:ext cx="7772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C4D-A9D9-4B63-839C-49F810FA1F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PageRank vs. HITS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Computation: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Once for all documents and queries (offline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Query-independen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  <a:ea typeface="굴림"/>
              </a:rPr>
              <a:t>–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  <a:ea typeface="굴림"/>
              </a:rPr>
              <a:t>requires combination with query-dependent criteria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Hard to spa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600200"/>
            <a:ext cx="3886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Computation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Requires computation for each quer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Query-dependen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Relatively easy to spa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Quality depends on quality of start se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Gives hubs as well as authoritie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E5B-A0D5-40AC-BD07-175647D44A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검색엔진 개발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국외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Lycos : CMU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연구 프로젝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1994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Excite : Stanford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원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OpenText 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워싱턴 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HotBo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U.C. Berkley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의 검색엔진을 발전시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Altavista : DEC(1995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Google : MI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InkTomi, Northernligh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453-4705-4C6C-89BC-2C8A68FF87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Connectivity Server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asic operation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InEdges(URL u, int k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OutEdges(URL u, int k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Difficulti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Memory usage: 180M nodes, 1B edge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reprocessing time: day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Query time: 0.0001sec/result UR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DD4-C1BA-4F09-9DBB-C1CEF9D4BB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72080" y="3386160"/>
            <a:ext cx="3135600" cy="91692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808080"/>
                </a:solidFill>
                <a:latin typeface="Arial"/>
              </a:rPr>
              <a:t>www.foobar.com/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808080"/>
                </a:solidFill>
                <a:latin typeface="Arial"/>
              </a:rPr>
              <a:t>www.foobar.com/gandalf.ht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808080"/>
                </a:solidFill>
                <a:latin typeface="Arial"/>
              </a:rPr>
              <a:t>www.foograb.com/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5209560" y="3386160"/>
            <a:ext cx="2324880" cy="91692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808080"/>
                </a:solidFill>
                <a:latin typeface="Arial"/>
              </a:rPr>
              <a:t>0 www.foobar.com/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808080"/>
                </a:solidFill>
                <a:latin typeface="Arial"/>
              </a:rPr>
              <a:t>15 gandalf.htm 2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808080"/>
                </a:solidFill>
                <a:latin typeface="Arial"/>
              </a:rPr>
              <a:t>7 grab.com/  4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4394160" y="3386160"/>
            <a:ext cx="630360" cy="485640"/>
          </a:xfrm>
          <a:prstGeom prst="rightArrow">
            <a:avLst>
              <a:gd name="adj1" fmla="val 50000"/>
              <a:gd name="adj2" fmla="val 32450"/>
            </a:avLst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455840" y="292896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iginal tex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305680" y="292896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lta Encoding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752560" y="4716360"/>
            <a:ext cx="4538880" cy="766800"/>
          </a:xfrm>
          <a:prstGeom prst="flowChartProcess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4716360"/>
            <a:ext cx="0" cy="76680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514680" y="4883040"/>
            <a:ext cx="27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808080"/>
                </a:solidFill>
                <a:latin typeface="Arial"/>
              </a:rPr>
              <a:t>gandalf.ht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754360" y="4856040"/>
            <a:ext cx="6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2926080" y="5455080"/>
            <a:ext cx="318960" cy="667080"/>
          </a:xfrm>
          <a:custGeom>
            <a:avLst/>
            <a:gdLst>
              <a:gd name="textAreaLeft" fmla="*/ 0 w 318960"/>
              <a:gd name="textAreaRight" fmla="*/ 115200 w 318960"/>
              <a:gd name="textAreaTop" fmla="*/ 17280 h 667080"/>
              <a:gd name="textAreaBottom" fmla="*/ 649800 h 6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1957320" y="58863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ze of shared prefix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6483240" y="4716360"/>
            <a:ext cx="0" cy="76680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6567840" y="4829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752200" y="3857760"/>
            <a:ext cx="2552760" cy="85860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7147080" y="3857760"/>
            <a:ext cx="144360" cy="85860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6269400" y="5823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de I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URL database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828800"/>
            <a:ext cx="777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orted list of URLs is 8.7 GB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48 bytes/URL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499"/>
              </a:spcBef>
              <a:buClr>
                <a:srgbClr val="ff9966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Delta encoding reduces it to 3.8 GB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21 bytes/URL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D93-E220-479E-BDF5-17BAC1724A41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Other I.R. issues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Duplicate filtering 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복 문서 제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갱신 주기 문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색결과 관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Clustering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www.northernlight.co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Summarization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Directory servic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Document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classification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야별 전문화된 검색엔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F95-E305-4D68-B32D-9A92E8A218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Duplicate filtering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Near-duplicate document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Computing pair-wise edit distanc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A short sketch for each documen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Near-duplicate hosts(mirrors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Pre-filtering technique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IP-bas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URL-string bas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ffff99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Similar hostnames, similar path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URL-string &amp; hyperlink bas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Hostname &amp; hyperlink based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8AA-6B04-4433-918A-C53542AA08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User interface &amp; visualization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Category or directory overview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MeSHBrow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catter/Gath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2/3-dimensional overview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Query specification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Venn diagra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Filter-flow visualiz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Block-oriented diagram visualiz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Current document set in the context of other information type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6EF-3AC0-4C83-9312-5BA3A89CB0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79520"/>
            <a:ext cx="75438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MeSHBrowse interface for category labels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32" name="Fig10.4-Mesh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8153640" cy="51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457-C939-4D59-A91C-DED9FA35E2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Scatter/Gather clustering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35" name="Fig10.6-Scatter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82296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769-4307-4D07-B288-DD780E0A69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Three-dim. clustering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38" name="Fig10.7-3D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800100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EBC-FBEB-4A85-9B4E-B8C3054685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Two-dim. Web pages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41" name="Fig10.8-2D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4FA-0D17-4B25-9CA2-5F0CC91560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Venn diagram visualization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44" name="Fig10.10-VQuery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772400" cy="505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F16-0A36-4081-8614-8E36F1E4A5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검색엔진 개발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국내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immani 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글과 컴퓨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까치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0000"/>
                </a:solidFill>
                <a:latin typeface="굴림"/>
              </a:rPr>
              <a:t>대구대 동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Naver(98.06) 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삼성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D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Empas(99.11) : </a:t>
            </a:r>
            <a:r>
              <a:rPr b="0" lang="ko-KR" sz="3200" spc="-1" strike="noStrike">
                <a:solidFill>
                  <a:srgbClr val="ff0000"/>
                </a:solidFill>
                <a:latin typeface="굴림"/>
              </a:rPr>
              <a:t>숭실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HanMir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와카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WiseNut(01.0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portal sites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DA5-ACD3-46E2-83F6-FE94E5011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Query-terms placed in abstract graphical space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47" name="Fig10.18-VIBE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92468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57D-72F5-49B8-A122-4663D3CBD5D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Graphical depiction of Web link structure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50" name="Fig10.22-Mapuccino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696080" cy="487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E23-575C-49EA-BBEC-78D7655EAD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결론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 검색엔진 소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웹 문서 특성 및 사용자 특성 고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웹 정보검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문서 수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Ranking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문서 연관성 기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PageRank, HIT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&gt; Monika Henzinge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Google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Web Information Retrieval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http://www.henzinger.com/~monika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6EA-AAFB-4E44-B3E8-3F4CB46547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http://kr.wisenut.com/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wisenut-1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904-6A4C-4D46-B05A-11C0E1B62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http://kr.wisenut.com/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0" name="wisenut-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FB8-CC8D-4EDB-8403-FB7318E13E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검색엔진의 발전과정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색 모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boolean model </a:t>
            </a:r>
            <a:r>
              <a:rPr b="0" lang="ko-K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vector mod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질의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Keyword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검색 </a:t>
            </a:r>
            <a:r>
              <a:rPr b="0" lang="ko-K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자연어 검색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기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Image, sound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검색결과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clusterin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H/W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Workstation </a:t>
            </a:r>
            <a:r>
              <a:rPr b="0" lang="ko-K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PC serv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5B3-7E20-476D-BF18-BF66582371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763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77E-712C-4FB8-8414-216EA817D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47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검색엔진 평가 방법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재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recall ratio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정답문서를 검색한 비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확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cision ratio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검색된 문서 중 정답문서의 비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F-measur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재현율과 정확률을 하나의 값으로 표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R precision(precision at rank </a:t>
            </a:r>
            <a:r>
              <a:rPr b="0" i="1" lang="ko-KR" sz="2800" spc="-1" strike="noStrike">
                <a:solidFill>
                  <a:srgbClr val="ffffff"/>
                </a:solidFill>
                <a:latin typeface="굴림"/>
              </a:rPr>
              <a:t>n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상위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n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개의 검색결과에 대한 적합한 문서 비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810-1D1F-48EA-AC3C-3F2E3FA773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6:51:45Z</dcterms:created>
  <dc:creator>Kang</dc:creator>
  <dc:description/>
  <dc:language>en-US</dc:language>
  <cp:lastModifiedBy>Kang</cp:lastModifiedBy>
  <dcterms:modified xsi:type="dcterms:W3CDTF">2001-09-21T05:10:59Z</dcterms:modified>
  <cp:revision>32</cp:revision>
  <dc:subject/>
  <dc:title>인터넷 검색엔진</dc:title>
</cp:coreProperties>
</file>