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907588" cy="6858000"/>
  <p:notesSz cx="67421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9A20-DA75-49C7-BDED-EAB035C88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1A5F-9565-4B6F-8738-DC4A3C902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ABA5-4E03-4D61-85A5-F41B537FE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59136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4412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59136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B809-955A-45B4-9768-5797367A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51EAD-62AA-41C5-8D3D-7E957CF4A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6822-DC39-4D52-8AD0-76773A3B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DD15-CB6D-4872-BEC0-5FC6F3DAE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CAD7A-AE3E-4187-9521-1D62F055B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D0532-5E77-44C9-8B98-7955D72B1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502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A8A4-DC88-4BB8-A500-3E90A0EF8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BB845-B5CF-4D9F-8E5B-FDC0FC807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indent="0" algn="ctr"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7820-CF6C-49D2-AC0A-81B18000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FA70-AC9E-434F-A632-00FCAEEBE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A4EEA-E6FB-411B-ACA3-4B0635D71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30BAD-D354-4C47-A7EC-B1715F709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86B89-EF25-4046-A13D-C8C40B3D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59136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438240" y="144756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4412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59136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438240" y="3875400"/>
            <a:ext cx="271116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3B76-7E99-434D-A909-2248E472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3E35-D38B-43AD-9C5B-B3E3EF4D6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4B2C-1F1F-4701-904F-6BE3A0908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89EF-6C6A-4B23-A768-879441BBA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43040" y="291600"/>
            <a:ext cx="8502480" cy="37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5544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5221E-536B-4BD4-B192-3FD9AF544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44AF-820C-408F-85DA-ED4FFE17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58720" y="387540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07E0-7D8C-4ADB-B925-14C38279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41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58720" y="1447560"/>
            <a:ext cx="410868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44120" y="3875400"/>
            <a:ext cx="8420040" cy="221688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indent="0">
              <a:spcBef>
                <a:spcPts val="1049"/>
              </a:spcBef>
              <a:buNone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76B5-D125-429C-B87A-0D0A3E1C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50505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505050"/>
                </a:solidFill>
                <a:latin typeface="Arial"/>
              </a:rPr>
              <a:t>http://nlp.kookmin.ac.k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CEE89-1206-47B5-B1A5-328244521A90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743040" y="291600"/>
            <a:ext cx="8502480" cy="81612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744120" y="1447560"/>
            <a:ext cx="8420040" cy="464796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663480" indent="-21744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998640" indent="-220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279440" indent="-166680">
              <a:spcBef>
                <a:spcPts val="1049"/>
              </a:spcBef>
              <a:buClr>
                <a:srgbClr val="ff0000"/>
              </a:buClr>
              <a:buFont typeface="Arial"/>
              <a:buChar char="–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1560600" indent="-166680">
              <a:spcBef>
                <a:spcPts val="1049"/>
              </a:spcBef>
              <a:buClr>
                <a:srgbClr val="ff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1560600" indent="-1666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77800" y="1106640"/>
            <a:ext cx="8667720" cy="6480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20520" bIns="20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kookmin" descr=""/>
          <p:cNvPicPr/>
          <p:nvPr/>
        </p:nvPicPr>
        <p:blipFill>
          <a:blip r:embed="rId2"/>
          <a:stretch/>
        </p:blipFill>
        <p:spPr>
          <a:xfrm>
            <a:off x="330120" y="6324480"/>
            <a:ext cx="409680" cy="38124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536400" y="6238800"/>
            <a:ext cx="2394000" cy="2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560" rIns="88560" tIns="-15480" bIns="-15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dt" idx="4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ftr" idx="5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6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50505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13C23-F7D5-4169-A303-EC45DCBDC36B}" type="slidenum">
              <a:rPr b="0" lang="en-US" sz="1000" spc="-1" strike="noStrike">
                <a:solidFill>
                  <a:srgbClr val="50505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88920" rIns="8892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en-US" sz="3600" spc="-1" strike="noStrike">
                <a:solidFill>
                  <a:srgbClr val="cd0355"/>
                </a:solidFill>
                <a:latin typeface="Arial"/>
              </a:rPr>
              <a:t>Click to edit the title text format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pic>
        <p:nvPicPr>
          <p:cNvPr id="48" name="kookmin" descr=""/>
          <p:cNvPicPr/>
          <p:nvPr/>
        </p:nvPicPr>
        <p:blipFill>
          <a:blip r:embed="rId2"/>
          <a:stretch/>
        </p:blipFill>
        <p:spPr>
          <a:xfrm>
            <a:off x="330120" y="380880"/>
            <a:ext cx="736560" cy="6858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55440" indent="0" algn="ctr">
              <a:spcBef>
                <a:spcPts val="1049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501480" indent="0" algn="ctr">
              <a:spcBef>
                <a:spcPts val="901"/>
              </a:spcBef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5960" algn="ctr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27320" algn="ctr">
              <a:spcBef>
                <a:spcPts val="751"/>
              </a:spcBef>
              <a:buClr>
                <a:srgbClr val="ff0000"/>
              </a:buClr>
              <a:buFont typeface="Arial"/>
              <a:buChar char="–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770120" algn="ctr">
              <a:spcBef>
                <a:spcPts val="675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77012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2680" y="1219320"/>
            <a:ext cx="842004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문장의 자동 띄어쓰기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85720" y="4002120"/>
            <a:ext cx="6933960" cy="163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5544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강 승 식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55440" indent="0" algn="ctr">
              <a:lnSpc>
                <a:spcPct val="120000"/>
              </a:lnSpc>
              <a:spcBef>
                <a:spcPts val="1049"/>
              </a:spcBef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굴림체"/>
                <a:ea typeface="굴림체"/>
              </a:rPr>
              <a:t>국민대학교 컴퓨터학부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6E025-4FC1-4D7C-9626-51713C0F0894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533520" y="533520"/>
            <a:ext cx="8420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어절인식 알고리즘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돋움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19320" y="1523880"/>
            <a:ext cx="7391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int set_spaces(sent, i, j, sp_inde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if (is_word(sent, i, j)) return 0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if (j-i == 3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음절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/* 2+1, 1+2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유형 인식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else if (j-i == 4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음절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/* 2+2, 1+3, 3+1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유형 인식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else  /*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양방향 최장일치 어절 인식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*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   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if (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끝어절이 불완전어절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) return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끝어절인덱스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  <a:ea typeface="돋움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DF16-5B61-4EBD-AEA8-1E565A0A8181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어절인식 오류 교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1.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어절블록 경계 오류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: ‘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수정하여만 들었다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2.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블록내 어절 인식 오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3. 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음절어 오류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: ‘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한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두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세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네’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, ‘-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ㄹ수있다’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4.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기타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쉼표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따옴표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영문자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조사 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4CE-8AE8-4492-8F9C-AD00246969A9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20040" cy="99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실험 및 평가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60240" y="1447920"/>
            <a:ext cx="8585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실험데이터 크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문장집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1 : 1,88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어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공백위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5,79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문장집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2 : 2,59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어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공백위치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7,9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실험결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문장집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1 : 97.2%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공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, 92.9%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어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문장집합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2 : 97.4%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공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, 93.2%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어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평         균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: 97.3%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공백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, 93.2%(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돋움"/>
              </a:rPr>
              <a:t>어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돋움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5F38-7308-4C84-834E-54CD0374B44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304920"/>
            <a:ext cx="84200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결   론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‘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어절 인식법’에 의한 한글 문장의 자동 띄어쓰기 방법 제안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어절블록 양방향 최장일치법 사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통계적 기법에 비해 기억공간 및 실행효율면에서 우수함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1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정보검색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문자인식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음성인식 등 띄어쓰기 관련분야에서 활용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CCCB7-0FE6-4C09-8E6C-06F93B14347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한글 띄어쓰기 문제 유형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44120" y="1878120"/>
            <a:ext cx="8420040" cy="4132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복합명사의 분해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---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자동색인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기계번역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복합조사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복합어미의 분해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--- </a:t>
            </a: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구문분석 등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보조용언과 의존명사의 띄어쓰기 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  <a:ea typeface="굴림"/>
              </a:rPr>
              <a:t>--- speller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줄바꿈 위치에서 띄어쓰기 문제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lnSpc>
                <a:spcPct val="120000"/>
              </a:lnSpc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zh-CN" sz="2800" spc="-1" strike="noStrike">
                <a:solidFill>
                  <a:srgbClr val="000099"/>
                </a:solidFill>
                <a:latin typeface="Arial"/>
                <a:ea typeface="굴림"/>
              </a:rPr>
              <a:t>한글 문장의 자동 띄어쓰기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D61D7-2482-4A34-A3FC-93D9D6A88FD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160" y="380520"/>
            <a:ext cx="842004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자동 띄어쓰기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: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필요성</a:t>
            </a:r>
            <a:r>
              <a:rPr b="1" i="1" lang="en-US" sz="3600" spc="-1" strike="noStrike">
                <a:solidFill>
                  <a:srgbClr val="cd0355"/>
                </a:solidFill>
                <a:latin typeface="Arial"/>
                <a:ea typeface="굴림"/>
              </a:rPr>
              <a:t>, </a:t>
            </a:r>
            <a:r>
              <a:rPr b="1" i="1" lang="zh-CN" sz="3600" spc="-1" strike="noStrike">
                <a:solidFill>
                  <a:srgbClr val="cd0355"/>
                </a:solidFill>
                <a:latin typeface="Arial"/>
                <a:ea typeface="굴림"/>
              </a:rPr>
              <a:t>활용분야</a:t>
            </a:r>
            <a:endParaRPr b="1" i="1" lang="en-US" sz="3600" spc="-1" strike="noStrike">
              <a:solidFill>
                <a:srgbClr val="cd035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07920" y="2057040"/>
            <a:ext cx="842040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줄바꿈 위치에서 띄어쓰기 문제                  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&lt;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예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&gt;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문자인식에 의한 정보자료 구축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정보검색 시스템의 자동색인     데이터베이스의 어떤 항목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공백없이 저장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연속어절 음성인식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: </a:t>
            </a: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음성인식된 문장의 띄어쓰기 문제 해결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31920" indent="-331920">
              <a:spcBef>
                <a:spcPts val="1049"/>
              </a:spcBef>
              <a:buClr>
                <a:srgbClr val="000099"/>
              </a:buClr>
              <a:buSzPct val="70000"/>
              <a:buFont typeface="Wingdings" charset="2"/>
              <a:buChar char=""/>
              <a:tabLst>
                <a:tab algn="l" pos="885960"/>
                <a:tab algn="l" pos="1771560"/>
                <a:tab algn="l" pos="2657520"/>
                <a:tab algn="l" pos="3543480"/>
                <a:tab algn="l" pos="4429080"/>
                <a:tab algn="l" pos="5315040"/>
                <a:tab algn="l" pos="6200640"/>
                <a:tab algn="l" pos="7086600"/>
                <a:tab algn="l" pos="7972560"/>
                <a:tab algn="l" pos="8858160"/>
                <a:tab algn="l" pos="9744120"/>
                <a:tab algn="l" pos="10630080"/>
              </a:tabLst>
            </a:pPr>
            <a:r>
              <a:rPr b="0" lang="ko-KR" sz="2800" spc="-1" strike="noStrike">
                <a:solidFill>
                  <a:srgbClr val="000099"/>
                </a:solidFill>
                <a:latin typeface="Arial"/>
                <a:ea typeface="굴림"/>
              </a:rPr>
              <a:t>문서 작성시 자동 띄어쓰기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A15B-DF1A-4E77-8E78-410CF8AB7E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60240" y="2286000"/>
            <a:ext cx="85852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n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음절로 구성된 문장의 띄어쓰기 문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2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i-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i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i+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공백이 삽입될 수 있는 위치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: 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공백의 수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0, 1, 2, …, n-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개 가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                     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0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+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+ … + 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C</a:t>
            </a:r>
            <a:r>
              <a:rPr b="0" lang="ko-KR" sz="24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 =  2</a:t>
            </a:r>
            <a:r>
              <a:rPr b="0" lang="ko-KR" sz="2400" spc="-1" strike="noStrike" baseline="30000">
                <a:solidFill>
                  <a:srgbClr val="000000"/>
                </a:solidFill>
                <a:latin typeface="Arial"/>
                <a:ea typeface="돋움"/>
              </a:rPr>
              <a:t>n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380880"/>
            <a:ext cx="842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돋움"/>
              </a:rPr>
              <a:t>자동 띄어쓰기 </a:t>
            </a:r>
            <a:r>
              <a:rPr b="1" lang="en-US" sz="4000" spc="-1" strike="noStrike">
                <a:solidFill>
                  <a:srgbClr val="d60093"/>
                </a:solidFill>
                <a:latin typeface="Arial"/>
                <a:ea typeface="돋움"/>
              </a:rPr>
              <a:t>: </a:t>
            </a:r>
            <a:r>
              <a:rPr b="1" lang="zh-CN" sz="4000" spc="-1" strike="noStrike">
                <a:solidFill>
                  <a:srgbClr val="d60093"/>
                </a:solidFill>
                <a:latin typeface="Arial"/>
                <a:ea typeface="돋움"/>
              </a:rPr>
              <a:t>문제 정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FEACE-83EE-4349-A35F-F199D114A35D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09480" y="457200"/>
            <a:ext cx="8420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자동 띄어쓰기</a:t>
            </a:r>
            <a:r>
              <a:rPr b="1" lang="en-US" sz="4000" spc="-1" strike="noStrike">
                <a:solidFill>
                  <a:srgbClr val="d60093"/>
                </a:solidFill>
                <a:latin typeface="Times New Roman"/>
              </a:rPr>
              <a:t>: </a:t>
            </a:r>
            <a:r>
              <a:rPr b="1" lang="zh-CN" sz="4000" spc="-1" strike="noStrike">
                <a:solidFill>
                  <a:srgbClr val="d60093"/>
                </a:solidFill>
                <a:latin typeface="Times New Roman"/>
              </a:rPr>
              <a:t>공백삽입 접근법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n-1)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개의 공백 삽입 가능 위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백삽입 여부 결정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통계적 기법에 의한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igram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음절 특성 정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공백이 삽입될 확률 계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심광섭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(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임계치를 초과한 경우에만 공백 삽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형태소 분석기에 의한 확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382A4-CC4C-4C3F-B464-B646ADAA33C7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533520" y="457200"/>
            <a:ext cx="842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자동 띄어쓰기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돋움"/>
              </a:rPr>
              <a:t>: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어절인식 접근법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1523880"/>
            <a:ext cx="8420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어절 인식 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  어절 앞뒤에 공백 삽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순방향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역방향 알고리즘 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돋움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문장의 처음 또는 끝부분부터 순서대로 어절을 인식  </a:t>
            </a:r>
            <a:r>
              <a:rPr b="0" lang="ko-KR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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backtracking 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기법 활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양방향 최장일치법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문장의 양쪽끝에서 어절을 인식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 순방향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ko-KR" sz="2400" spc="-1" strike="noStrike">
                <a:solidFill>
                  <a:srgbClr val="000000"/>
                </a:solidFill>
                <a:latin typeface="Times New Roman"/>
              </a:rPr>
              <a:t>역방향 알고리즘의 오류 감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859-AE98-4240-9A16-9DB43169C8BC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609480" y="457200"/>
            <a:ext cx="8420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자동 띄어쓰기</a:t>
            </a:r>
            <a:r>
              <a:rPr b="1" lang="en-US" sz="4000" spc="-1" strike="noStrike">
                <a:solidFill>
                  <a:srgbClr val="008000"/>
                </a:solidFill>
                <a:latin typeface="Arial"/>
                <a:ea typeface="돋움"/>
              </a:rPr>
              <a:t>: </a:t>
            </a: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문제점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나는 학생 이다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기초지 방자 치단 체 행 정전 산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농가 부채 탕감 조치를 발표했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만상 환유 예대상 인중 장기 자금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400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만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778A-92D8-4002-8CEB-1F9C1A6E25E6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60240" y="1752480"/>
            <a:ext cx="8585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전파 오류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(triggered error)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문제 해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문장을 어절블록들로 분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  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[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2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i-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i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] [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i+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j-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] [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j+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-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s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n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어절블록 내에서 양방향 최장일치 알고리즘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520" y="533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어절블록 양방향 알고리즘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1DBD-30DF-4935-8C5D-B400F8CB4024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533520"/>
            <a:ext cx="84200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돋움"/>
              </a:rPr>
              <a:t>어절블록 인식 방법</a:t>
            </a:r>
            <a:r>
              <a:rPr b="0" lang="en-US" sz="4400" spc="-1" strike="noStrike">
                <a:solidFill>
                  <a:srgbClr val="008000"/>
                </a:solidFill>
                <a:latin typeface="Arial"/>
                <a:ea typeface="돋움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60240" y="1447920"/>
            <a:ext cx="858528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조사 음절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70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여개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어미 음절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130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여개 활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7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조사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어미의 첫음절 특성 사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고빈도 조사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어미의 첫음절 특성 사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고빈도 조사의 첫음절 특성 사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구문분석과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2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의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미분석이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라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3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는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j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어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려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e</a:t>
            </a:r>
            <a:r>
              <a:rPr b="0" lang="ko-KR" sz="3200" spc="-1" strike="noStrike" baseline="-25000">
                <a:solidFill>
                  <a:srgbClr val="000000"/>
                </a:solidFill>
                <a:latin typeface="Arial"/>
                <a:ea typeface="돋움"/>
              </a:rPr>
              <a:t>1</a:t>
            </a:r>
            <a:r>
              <a:rPr b="0" lang="ko-KR" sz="3200" spc="-1" strike="noStrike">
                <a:solidFill>
                  <a:srgbClr val="000000"/>
                </a:solidFill>
                <a:latin typeface="Arial"/>
                <a:ea typeface="돋움"/>
              </a:rPr>
              <a:t>운문제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한성대학교 강승식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AFF23-6045-47F8-9938-7FA6149A78F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98-10-1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1:05:54Z</dcterms:created>
  <dc:creator>강승식</dc:creator>
  <dc:description/>
  <dc:language>en-US</dc:language>
  <cp:lastModifiedBy>강승식</cp:lastModifiedBy>
  <cp:lastPrinted>1997-10-08T07:57:46Z</cp:lastPrinted>
  <dcterms:modified xsi:type="dcterms:W3CDTF">2002-07-05T07:50:31Z</dcterms:modified>
  <cp:revision>32</cp:revision>
  <dc:subject/>
  <dc:title>Communicating Bad News</dc:title>
</cp:coreProperties>
</file>