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273-86D0-4BC4-B69D-0B9B79863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4120" y="394848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E2C5-AA13-451E-ACE1-126DD2B0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412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872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39C2-5AC9-46B9-97BF-8E150C75A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136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412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136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48A6-9E5F-4EDF-AA11-5BBB9B596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A76C-3D91-4A4F-856D-8119FD4A2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4DCC-21C5-44E4-9CE3-43ADD22FB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B123F-AA66-495D-B1D2-31CC3B0B0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F323D-87D1-4F75-B74D-AD0AE0540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8689-AD67-4F52-B0EF-EAAB4FB9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3040" y="291600"/>
            <a:ext cx="80899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6DAFD-8F81-449C-B424-2A9C93B29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412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35713-40EF-4BC4-8F88-5BA2F584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7BA3-BE7B-4A2C-956A-1478E1AB8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872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154AA-AD0D-41B0-96F2-588063AF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4120" y="394848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2266-FDE5-4E51-B22B-F6E161EA5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4120" y="394848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D008E-5E9A-49F5-B008-D19A161C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412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872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9B4F-1FA1-40D2-8B55-04E71E85E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9136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38240" y="160020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412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9136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38240" y="3948480"/>
            <a:ext cx="27111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CEBA-90B0-4EEC-BEDB-AF5BBF6E3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27AE-C7D2-410A-862A-CD5C87FBF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62EB-268E-4348-9C62-71A5F9D98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041D-4F60-429F-BDBE-E82CE833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3040" y="291600"/>
            <a:ext cx="808992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166D8-DAC1-4039-8A89-4331DAAF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412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F3CE-ED76-45FD-9D96-A6A98C90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8720" y="394848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E363-8E09-4653-BC1C-9469E6D16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8720" y="1600200"/>
            <a:ext cx="410868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4120" y="3948480"/>
            <a:ext cx="842004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741C-F308-4386-8907-24309BB6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83470-DB17-46AA-AE59-6860A9068732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lnSpc>
                <a:spcPct val="9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lnSpc>
                <a:spcPct val="9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7800" y="1106640"/>
            <a:ext cx="866772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30120" y="6324480"/>
            <a:ext cx="40968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36400" y="6238800"/>
            <a:ext cx="239400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04C2C-7E12-4D13-8990-EB74B961C73F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30120" y="380880"/>
            <a:ext cx="73656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fr-CA" sz="3200" spc="-1" strike="noStrike">
                <a:solidFill>
                  <a:srgbClr val="cd0355"/>
                </a:solidFill>
                <a:latin typeface="Times New Roman"/>
                <a:ea typeface="바탕"/>
              </a:rPr>
              <a:t>Automatically Detecting and Correcting Input Mode Switching Errors by N-gram Statistics</a:t>
            </a:r>
            <a:r>
              <a:rPr b="1" i="1" lang="ko-KR" sz="4000" spc="-1" strike="noStrike">
                <a:solidFill>
                  <a:srgbClr val="cd0355"/>
                </a:solidFill>
                <a:latin typeface="Times New Roman"/>
                <a:ea typeface="Times New Roman"/>
              </a:rPr>
              <a:t> </a:t>
            </a:r>
            <a:endParaRPr b="1" i="1" lang="en-US" sz="40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85720" y="36572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544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lnSpc>
                <a:spcPct val="12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2800" spc="-1" strike="noStrike">
                <a:solidFill>
                  <a:srgbClr val="000099"/>
                </a:solidFill>
                <a:latin typeface="Times New Roman"/>
                <a:ea typeface="굴림"/>
              </a:rPr>
              <a:t>Seung-Shik Kang, Kookmin Univers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9E0F7-C76B-4AA9-90AE-C0A0C5B69D6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29F220FD-0506-4930-9ABD-8EA85215B989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Initialization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744120" y="13712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Algorithm initialize() {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 </a:t>
            </a: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int i, j=0;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 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 </a:t>
            </a: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if (input_mode == Korean)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    </a:t>
            </a: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korStr </a:t>
            </a:r>
            <a:r>
              <a:rPr b="0" lang="ko-KR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←</a:t>
            </a: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input string;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 </a:t>
            </a: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else engStr </a:t>
            </a:r>
            <a:r>
              <a:rPr b="0" lang="ko-KR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← </a:t>
            </a: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input string;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 </a:t>
            </a:r>
            <a:r>
              <a:rPr b="1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set_ekmap(korStr, engStr, ekMap);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    </a:t>
            </a: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// initialize korStr or engStr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    </a:t>
            </a: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// ekMap[] : E-K mapping index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 </a:t>
            </a: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while (i &lt; strlen(engstr)) {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    </a:t>
            </a: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i = get_index_syl_start(j);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    </a:t>
            </a: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j = get_index_syl_end(i);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    </a:t>
            </a: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syl = get_one_syl(korStr, i, j);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    </a:t>
            </a:r>
            <a:r>
              <a:rPr b="1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if (</a:t>
            </a:r>
            <a:r>
              <a:rPr b="1" i="1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freq</a:t>
            </a:r>
            <a:r>
              <a:rPr b="1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(syl) &gt; 0)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	</a:t>
            </a:r>
            <a:r>
              <a:rPr b="1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    </a:t>
            </a:r>
            <a:r>
              <a:rPr b="1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ekmark[i~j] = MARK_k;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    </a:t>
            </a:r>
            <a:r>
              <a:rPr b="1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else ekmark[i~j] = MARK_e;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 </a:t>
            </a: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}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}</a:t>
            </a:r>
            <a:r>
              <a:rPr b="0" lang="ko-KR" sz="2100" spc="-1" strike="noStrike">
                <a:solidFill>
                  <a:srgbClr val="000099"/>
                </a:solidFill>
                <a:latin typeface="굴림체"/>
                <a:ea typeface="굴림체"/>
              </a:rPr>
              <a:t> 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017C-AFDB-4FBD-A3B2-53B6F5C55AE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285E4B-F6B5-475C-9D20-7F2F151A1F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Automatic Conversion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19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Type of input string by </a:t>
            </a:r>
            <a:r>
              <a:rPr b="0" i="1" lang="ko-KR" sz="3200" spc="-1" strike="noStrike">
                <a:solidFill>
                  <a:srgbClr val="000099"/>
                </a:solidFill>
                <a:latin typeface="Arial"/>
                <a:ea typeface="굴림"/>
              </a:rPr>
              <a:t>ekMark[]</a:t>
            </a:r>
            <a:endParaRPr b="0" lang="en-US" sz="32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Type 1. A sequence of ‘e’ or ‘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</a:t>
            </a:r>
            <a:r>
              <a:rPr b="0" lang="fr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violate syllable construction ru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Type 2. A sequence of ‘k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</a:t>
            </a:r>
            <a:r>
              <a:rPr b="0" lang="fr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need a recalculation of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Type 3. A combination of ‘e’ and ‘k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       </a:t>
            </a:r>
            <a:r>
              <a:rPr b="0" lang="fr-CA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fr-CA" sz="2800" spc="-1" strike="noStrike">
                <a:solidFill>
                  <a:srgbClr val="000000"/>
                </a:solidFill>
                <a:latin typeface="Times New Roman"/>
                <a:ea typeface="바탕"/>
              </a:rPr>
              <a:t>need a recalculation of proba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6661-629B-46C8-8B0D-961B777694B7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4750D7-1B7B-49CD-B7AC-78696746185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ko-KR" sz="3600" spc="-1" strike="noStrike">
                <a:solidFill>
                  <a:srgbClr val="cd0355"/>
                </a:solidFill>
                <a:latin typeface="Arial"/>
                <a:ea typeface="굴림"/>
              </a:rPr>
              <a:t>Determination of E-K Substring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8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Korean probability of a substring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8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P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K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 =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Arial"/>
                <a:ea typeface="굴림"/>
              </a:rPr>
              <a:t>English probability of a substring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8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P</a:t>
            </a:r>
            <a:r>
              <a:rPr b="0" lang="ko-KR" sz="2300" spc="-1" strike="noStrike" baseline="-25000">
                <a:solidFill>
                  <a:srgbClr val="000000"/>
                </a:solidFill>
                <a:latin typeface="Arial"/>
                <a:ea typeface="굴림"/>
              </a:rPr>
              <a:t>E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 =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300" spc="-1" strike="noStrike">
                <a:solidFill>
                  <a:srgbClr val="000099"/>
                </a:solidFill>
                <a:latin typeface="Times New Roman"/>
                <a:ea typeface="바탕"/>
              </a:rPr>
              <a:t>Normalization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8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300" spc="-1" strike="noStrike">
                <a:solidFill>
                  <a:srgbClr val="000000"/>
                </a:solidFill>
                <a:latin typeface="Times New Roman"/>
                <a:ea typeface="바탕"/>
              </a:rPr>
              <a:t>P</a:t>
            </a:r>
            <a:r>
              <a:rPr b="0" lang="fr-CA" sz="23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E</a:t>
            </a:r>
            <a:r>
              <a:rPr b="0" lang="fr-CA" sz="2300" spc="-1" strike="noStrike">
                <a:solidFill>
                  <a:srgbClr val="000000"/>
                </a:solidFill>
                <a:latin typeface="Times New Roman"/>
                <a:ea typeface="바탕"/>
              </a:rPr>
              <a:t> = P</a:t>
            </a:r>
            <a:r>
              <a:rPr b="0" lang="fr-CA" sz="23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E</a:t>
            </a:r>
            <a:r>
              <a:rPr b="0" lang="fr-CA" sz="2300" spc="-1" strike="noStrike">
                <a:solidFill>
                  <a:srgbClr val="000000"/>
                </a:solidFill>
                <a:latin typeface="Times New Roman"/>
                <a:ea typeface="바탕"/>
              </a:rPr>
              <a:t> * n</a:t>
            </a:r>
            <a:r>
              <a:rPr b="0" lang="fr-CA" sz="23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syllable</a:t>
            </a:r>
            <a:r>
              <a:rPr b="0" lang="fr-CA" sz="2300" spc="-1" strike="noStrike">
                <a:solidFill>
                  <a:srgbClr val="000000"/>
                </a:solidFill>
                <a:latin typeface="Times New Roman"/>
                <a:ea typeface="바탕"/>
              </a:rPr>
              <a:t> / n</a:t>
            </a:r>
            <a:r>
              <a:rPr b="0" lang="fr-CA" sz="23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trigram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32576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2057400" y="2286000"/>
                <a:ext cx="18288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43" name=""/>
          <p:cNvSpPr/>
          <p:nvPr/>
        </p:nvSpPr>
        <p:spPr>
          <a:xfrm>
            <a:off x="4576680" y="3252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4" name=""/>
              <p:cNvSpPr txBox="1"/>
              <p:nvPr/>
            </p:nvSpPr>
            <p:spPr>
              <a:xfrm>
                <a:off x="2057400" y="4191120"/>
                <a:ext cx="182880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j</m:t>
                        </m:r>
                      </m:sub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823F-F28E-4973-B214-102F47A18DE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368177-B0C7-452D-AD60-6592EB8382F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Error-prone Dictionary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Substrings that frequently cause E-K ambigu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Error-prone dictionar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&lt;substring, K/E/I&gt;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K: ‘substring’ is Kore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E: ‘substring’ is Englis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I : depends on the input-mode that user chan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AF45-C7AD-4214-9636-79F12B214A50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2CED4-E07B-4E85-84AB-D9E8A0977D4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Experiments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굴림"/>
              </a:rPr>
              <a:t>Brown corpus </a:t>
            </a: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en-US" sz="23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굴림"/>
              </a:rPr>
              <a:t> English words only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굴림"/>
              </a:rPr>
              <a:t>Newspaper </a:t>
            </a: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en-US" sz="23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굴림"/>
              </a:rPr>
              <a:t> Korean words only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굴림"/>
              </a:rPr>
              <a:t>Textbook </a:t>
            </a: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굴림"/>
              </a:rPr>
              <a:t>	</a:t>
            </a:r>
            <a:r>
              <a:rPr b="0" lang="en-US" sz="23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굴림"/>
              </a:rPr>
              <a:t> Korean words with English words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굴림"/>
              </a:rPr>
              <a:t>Mixed words only </a:t>
            </a:r>
            <a:r>
              <a:rPr b="0" lang="en-US" sz="23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en-US" sz="2300" spc="-1" strike="noStrike">
                <a:solidFill>
                  <a:srgbClr val="000099"/>
                </a:solidFill>
                <a:latin typeface="Arial"/>
                <a:ea typeface="굴림"/>
              </a:rPr>
              <a:t> E-K mixed words only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1219320" y="3276720"/>
            <a:ext cx="6952320" cy="2662200"/>
            <a:chOff x="1219320" y="3276720"/>
            <a:chExt cx="6952320" cy="2662200"/>
          </a:xfrm>
        </p:grpSpPr>
        <p:grpSp>
          <p:nvGrpSpPr>
            <p:cNvPr id="250" name=""/>
            <p:cNvGrpSpPr/>
            <p:nvPr/>
          </p:nvGrpSpPr>
          <p:grpSpPr>
            <a:xfrm>
              <a:off x="1226520" y="3278880"/>
              <a:ext cx="6936120" cy="2657160"/>
              <a:chOff x="1226520" y="3278880"/>
              <a:chExt cx="6936120" cy="2657160"/>
            </a:xfrm>
          </p:grpSpPr>
          <p:grpSp>
            <p:nvGrpSpPr>
              <p:cNvPr id="251" name=""/>
              <p:cNvGrpSpPr/>
              <p:nvPr/>
            </p:nvGrpSpPr>
            <p:grpSpPr>
              <a:xfrm>
                <a:off x="1226520" y="3278880"/>
                <a:ext cx="2904840" cy="531360"/>
                <a:chOff x="1226520" y="3278880"/>
                <a:chExt cx="2904840" cy="5313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1369080" y="3278880"/>
                  <a:ext cx="261972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Test da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1226520" y="3278880"/>
                  <a:ext cx="290484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4132080" y="3278880"/>
                <a:ext cx="1897560" cy="531360"/>
                <a:chOff x="4132080" y="3278880"/>
                <a:chExt cx="1897560" cy="5313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4274640" y="3278880"/>
                  <a:ext cx="161172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No. of word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4132080" y="3278880"/>
                  <a:ext cx="189756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6030360" y="3278880"/>
                <a:ext cx="2132280" cy="531360"/>
                <a:chOff x="6030360" y="3278880"/>
                <a:chExt cx="2132280" cy="53136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6172920" y="3278880"/>
                  <a:ext cx="184716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ccuracy(%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030360" y="3278880"/>
                  <a:ext cx="213228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0" name=""/>
              <p:cNvGrpSpPr/>
              <p:nvPr/>
            </p:nvGrpSpPr>
            <p:grpSpPr>
              <a:xfrm>
                <a:off x="1226520" y="3810240"/>
                <a:ext cx="2904840" cy="531360"/>
                <a:chOff x="1226520" y="3810240"/>
                <a:chExt cx="2904840" cy="53136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1369080" y="3810240"/>
                  <a:ext cx="261972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Brown corpu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(English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>
                  <a:off x="1226520" y="3810240"/>
                  <a:ext cx="290484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" name=""/>
              <p:cNvGrpSpPr/>
              <p:nvPr/>
            </p:nvGrpSpPr>
            <p:grpSpPr>
              <a:xfrm>
                <a:off x="4132080" y="3810240"/>
                <a:ext cx="1897560" cy="531360"/>
                <a:chOff x="4132080" y="3810240"/>
                <a:chExt cx="1897560" cy="531360"/>
              </a:xfrm>
            </p:grpSpPr>
            <p:sp>
              <p:nvSpPr>
                <p:cNvPr id="264" name=""/>
                <p:cNvSpPr/>
                <p:nvPr/>
              </p:nvSpPr>
              <p:spPr>
                <a:xfrm>
                  <a:off x="4274640" y="3810240"/>
                  <a:ext cx="161172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,012,9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4132080" y="3810240"/>
                  <a:ext cx="189756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6" name=""/>
              <p:cNvGrpSpPr/>
              <p:nvPr/>
            </p:nvGrpSpPr>
            <p:grpSpPr>
              <a:xfrm>
                <a:off x="6030360" y="3810240"/>
                <a:ext cx="2132280" cy="531360"/>
                <a:chOff x="6030360" y="3810240"/>
                <a:chExt cx="2132280" cy="531360"/>
              </a:xfrm>
            </p:grpSpPr>
            <p:sp>
              <p:nvSpPr>
                <p:cNvPr id="267" name=""/>
                <p:cNvSpPr/>
                <p:nvPr/>
              </p:nvSpPr>
              <p:spPr>
                <a:xfrm>
                  <a:off x="6172920" y="3810240"/>
                  <a:ext cx="184716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9.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6030360" y="3810240"/>
                  <a:ext cx="213228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226520" y="4341960"/>
                <a:ext cx="2904840" cy="531360"/>
                <a:chOff x="1226520" y="4341960"/>
                <a:chExt cx="2904840" cy="53136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1369080" y="4341960"/>
                  <a:ext cx="261972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Newspaper(Korean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1226520" y="4341960"/>
                  <a:ext cx="290484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4132080" y="4341960"/>
                <a:ext cx="1897560" cy="531360"/>
                <a:chOff x="4132080" y="4341960"/>
                <a:chExt cx="1897560" cy="53136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4274640" y="4341960"/>
                  <a:ext cx="161172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8,76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4132080" y="4341960"/>
                  <a:ext cx="189756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5" name=""/>
              <p:cNvGrpSpPr/>
              <p:nvPr/>
            </p:nvGrpSpPr>
            <p:grpSpPr>
              <a:xfrm>
                <a:off x="6030360" y="4341960"/>
                <a:ext cx="2132280" cy="531360"/>
                <a:chOff x="6030360" y="4341960"/>
                <a:chExt cx="2132280" cy="531360"/>
              </a:xfrm>
            </p:grpSpPr>
            <p:sp>
              <p:nvSpPr>
                <p:cNvPr id="276" name=""/>
                <p:cNvSpPr/>
                <p:nvPr/>
              </p:nvSpPr>
              <p:spPr>
                <a:xfrm>
                  <a:off x="6172920" y="4341960"/>
                  <a:ext cx="184716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9.9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7" name=""/>
                <p:cNvSpPr/>
                <p:nvPr/>
              </p:nvSpPr>
              <p:spPr>
                <a:xfrm>
                  <a:off x="6030360" y="4341960"/>
                  <a:ext cx="213228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8" name=""/>
              <p:cNvGrpSpPr/>
              <p:nvPr/>
            </p:nvGrpSpPr>
            <p:grpSpPr>
              <a:xfrm>
                <a:off x="1226520" y="4873320"/>
                <a:ext cx="2904840" cy="531000"/>
                <a:chOff x="1226520" y="4873320"/>
                <a:chExt cx="2904840" cy="5310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1369080" y="4873320"/>
                  <a:ext cx="2619720" cy="53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Textbook(mixed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226520" y="4873320"/>
                  <a:ext cx="2904840" cy="53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4132080" y="4873320"/>
                <a:ext cx="1897560" cy="531000"/>
                <a:chOff x="4132080" y="4873320"/>
                <a:chExt cx="1897560" cy="5310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4274640" y="4873320"/>
                  <a:ext cx="1611720" cy="53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6,27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4132080" y="4873320"/>
                  <a:ext cx="1897560" cy="53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6030360" y="4873320"/>
                <a:ext cx="2132280" cy="531000"/>
                <a:chOff x="6030360" y="4873320"/>
                <a:chExt cx="2132280" cy="5310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6172920" y="4873320"/>
                  <a:ext cx="1847160" cy="531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8.8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030360" y="4873320"/>
                  <a:ext cx="2132280" cy="531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226520" y="5404680"/>
                <a:ext cx="2904840" cy="531360"/>
                <a:chOff x="1226520" y="5404680"/>
                <a:chExt cx="2904840" cy="53136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369080" y="5404680"/>
                  <a:ext cx="261972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Mixed words onl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226520" y="5404680"/>
                  <a:ext cx="290484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4132080" y="5404680"/>
                <a:ext cx="1897560" cy="531360"/>
                <a:chOff x="4132080" y="5404680"/>
                <a:chExt cx="1897560" cy="53136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4274640" y="5404680"/>
                  <a:ext cx="161172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4,13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4132080" y="5404680"/>
                  <a:ext cx="189756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6030360" y="5404680"/>
                <a:ext cx="2132280" cy="531360"/>
                <a:chOff x="6030360" y="5404680"/>
                <a:chExt cx="2132280" cy="53136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6172920" y="5404680"/>
                  <a:ext cx="1847160" cy="531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8.4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6030360" y="5404680"/>
                  <a:ext cx="2132280" cy="531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6" name=""/>
            <p:cNvSpPr/>
            <p:nvPr/>
          </p:nvSpPr>
          <p:spPr>
            <a:xfrm>
              <a:off x="1219320" y="3276720"/>
              <a:ext cx="6952320" cy="26622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A53C-6468-4CE0-B78B-D8847F17A3E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D37A5E-A978-475E-BA96-9F7068FF7C4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Concluding Remarks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017720" y="1600200"/>
            <a:ext cx="8115120" cy="448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14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Times New Roman"/>
                <a:ea typeface="굴림체"/>
              </a:rPr>
              <a:t>Statistical method to detecting/correcting input-mode switching erro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4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Times New Roman"/>
                <a:ea typeface="굴림체"/>
              </a:rPr>
              <a:t>English trigram/bigram &amp; Korean syllable frequenc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4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Times New Roman"/>
                <a:ea typeface="굴림체"/>
              </a:rPr>
              <a:t>Accurac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40000"/>
              </a:lnSpc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over 99% for monolingu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40000"/>
              </a:lnSpc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Times New Roman"/>
                <a:ea typeface="굴림체"/>
              </a:rPr>
              <a:t>about 98.5% E-K mixed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9A83A-1FB3-4BE6-99E8-FE2FEA8E7B9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E1E39C-39B6-410E-BA83-1290BE23F717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Contents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38120" indent="-4381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Input-mode switching bet’n English and Kore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Statistical data for Korean and Englis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84160" indent="-4381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N-gram(English) and syllable data(Kore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Automatic conversion algorithm wit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84160" indent="-4381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Data struc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Error-prone dictionary for exceptional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Experimen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Conclusio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8416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960D-9640-4950-BBD7-14B2BC1734A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1DB30-589C-44B8-ACAD-C33870204B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Input-mode Switching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38120" indent="-4381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Bilingual writing system in Korean tex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84160" indent="-4381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Mixture of two character sets in Korean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-4381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English alphabet &amp; Korean charact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EUC-K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Frequent switching of input-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Users forget switching the input-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blem solving methodolog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884160" indent="-4381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User-friendly switching key: E-K key, shift-space, 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Change the shape of a cursor or mouse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AutoNum type="arabicPeriod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Automatic switching of input-mode &amp; automatic conversion of input st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A5DA-2C2D-4D39-B029-C244F748C59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298723-D5F0-419E-B866-D32EF666133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Input-mode Switching Errors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Example 1. Korean string for Englis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며새ㅡㅁ샻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채ㅜㅍㄷㄱ냐ㅐㅜ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0" lang="ko-KR" sz="24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뇬ㅅ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automatic       conversion              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Example 2. English string for Kore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4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gksdud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wkehd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wjsghks</a:t>
            </a:r>
            <a:r>
              <a:rPr b="0" lang="fr-CA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Times New Roman"/>
                <a:ea typeface="바탕"/>
              </a:rPr>
              <a:t>tltmx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 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바탕"/>
              </a:rPr>
              <a:t>한영    자동    전환      시스템</a:t>
            </a:r>
            <a:r>
              <a:rPr b="0" lang="ko-KR" sz="23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7704-A921-48B3-A13B-67A36451244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F357F-EB4C-45EF-BC4D-2EB96B45E1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Related Works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바탕"/>
              </a:rPr>
              <a:t>Yoo(1995)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tecting English word in Korean mode by scanning 3 letters of a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verted a string into English that violate the syllable construction rules of the Korean language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Lee(2001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Word-phrase mode algorith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ght-to-left manner at the end of the 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edictive mode 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ft-to-right manner: real-time applications</a:t>
            </a:r>
            <a:r>
              <a:rPr b="0" lang="ko-KR" sz="2300" spc="-1" strike="noStrike">
                <a:solidFill>
                  <a:srgbClr val="000000"/>
                </a:solidFill>
                <a:latin typeface="바탕"/>
                <a:ea typeface="Times New Roman"/>
              </a:rPr>
              <a:t> 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05BCA-BEF3-494F-96AF-62D6B06C65D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CBDC04-06F8-4AF4-AE8B-36B9188D19A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Types of words in Korean tex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438120" indent="-438120" algn="just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99"/>
                </a:solidFill>
                <a:latin typeface="Times New Roman"/>
                <a:ea typeface="바탕"/>
              </a:rPr>
              <a:t>Types of input string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lvl="1" marL="884160" indent="-438120" algn="just">
              <a:lnSpc>
                <a:spcPct val="8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a word of Korean syllables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 algn="just">
              <a:lnSpc>
                <a:spcPct val="8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a word of English alphabets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84160" indent="-438120">
              <a:lnSpc>
                <a:spcPct val="80000"/>
              </a:lnSpc>
              <a:spcBef>
                <a:spcPts val="825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a word of Korean-English mixed string</a:t>
            </a:r>
            <a:r>
              <a:rPr b="0" lang="ko-KR" sz="2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English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는’   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English _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subject-mar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study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했다’  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study_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pa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216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‘</a:t>
            </a:r>
            <a:r>
              <a:rPr b="0" lang="ko-KR" sz="2200" spc="-1" strike="noStrike">
                <a:solidFill>
                  <a:srgbClr val="000000"/>
                </a:solidFill>
                <a:latin typeface="바탕"/>
                <a:ea typeface="바탕"/>
              </a:rPr>
              <a:t>한국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IBM</a:t>
            </a:r>
            <a:r>
              <a:rPr b="0" lang="ko-KR" sz="2200" spc="-1" strike="noStrike">
                <a:solidFill>
                  <a:srgbClr val="000000"/>
                </a:solidFill>
                <a:latin typeface="바탕"/>
                <a:ea typeface="바탕"/>
              </a:rPr>
              <a:t>은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’  </a:t>
            </a:r>
            <a:r>
              <a:rPr b="0" lang="ko-KR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 </a:t>
            </a:r>
            <a:r>
              <a:rPr b="0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Korea_IBM_</a:t>
            </a:r>
            <a:r>
              <a:rPr b="0" i="1" lang="ko-KR" sz="2200" spc="-1" strike="noStrike">
                <a:solidFill>
                  <a:srgbClr val="000000"/>
                </a:solidFill>
                <a:latin typeface="Times New Roman"/>
                <a:ea typeface="바탕"/>
              </a:rPr>
              <a:t>subject-mar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38120" indent="-43812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200" spc="-1" strike="noStrike">
                <a:solidFill>
                  <a:srgbClr val="000099"/>
                </a:solidFill>
                <a:latin typeface="Times New Roman"/>
                <a:ea typeface="바탕"/>
              </a:rPr>
              <a:t>Types of input string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Type 1. mono-lingual string of K</a:t>
            </a:r>
            <a:r>
              <a:rPr b="0" lang="fr-CA" sz="1800" spc="-1" strike="noStrike" baseline="30000">
                <a:solidFill>
                  <a:srgbClr val="000000"/>
                </a:solidFill>
                <a:latin typeface="Times New Roman"/>
                <a:ea typeface="바탕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Type 2. mono-lingual string of E</a:t>
            </a:r>
            <a:r>
              <a:rPr b="0" lang="fr-CA" sz="1800" spc="-1" strike="noStrike" baseline="30000">
                <a:solidFill>
                  <a:srgbClr val="000000"/>
                </a:solidFill>
                <a:latin typeface="Times New Roman"/>
                <a:ea typeface="바탕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Type 3. bilingual string of E</a:t>
            </a:r>
            <a:r>
              <a:rPr b="0" lang="fr-CA" sz="1800" spc="-1" strike="noStrike" baseline="30000">
                <a:solidFill>
                  <a:srgbClr val="000000"/>
                </a:solidFill>
                <a:latin typeface="Times New Roman"/>
                <a:ea typeface="바탕"/>
              </a:rPr>
              <a:t>+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K</a:t>
            </a:r>
            <a:r>
              <a:rPr b="0" lang="fr-CA" sz="1800" spc="-1" strike="noStrike" baseline="30000">
                <a:solidFill>
                  <a:srgbClr val="000000"/>
                </a:solidFill>
                <a:latin typeface="Times New Roman"/>
                <a:ea typeface="바탕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Type 4. bilingual string of K</a:t>
            </a:r>
            <a:r>
              <a:rPr b="0" lang="fr-CA" sz="1800" spc="-1" strike="noStrike" baseline="30000">
                <a:solidFill>
                  <a:srgbClr val="000000"/>
                </a:solidFill>
                <a:latin typeface="Times New Roman"/>
                <a:ea typeface="바탕"/>
              </a:rPr>
              <a:t>+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E</a:t>
            </a:r>
            <a:r>
              <a:rPr b="0" lang="fr-CA" sz="1800" spc="-1" strike="noStrike" baseline="30000">
                <a:solidFill>
                  <a:srgbClr val="000000"/>
                </a:solidFill>
                <a:latin typeface="Times New Roman"/>
                <a:ea typeface="바탕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43812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Type 5. bilingual string of K</a:t>
            </a:r>
            <a:r>
              <a:rPr b="0" lang="fr-CA" sz="1800" spc="-1" strike="noStrike" baseline="30000">
                <a:solidFill>
                  <a:srgbClr val="000000"/>
                </a:solidFill>
                <a:latin typeface="Times New Roman"/>
                <a:ea typeface="바탕"/>
              </a:rPr>
              <a:t>+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E</a:t>
            </a:r>
            <a:r>
              <a:rPr b="0" lang="fr-CA" sz="1800" spc="-1" strike="noStrike" baseline="30000">
                <a:solidFill>
                  <a:srgbClr val="000000"/>
                </a:solidFill>
                <a:latin typeface="Times New Roman"/>
                <a:ea typeface="바탕"/>
              </a:rPr>
              <a:t>+</a:t>
            </a:r>
            <a:r>
              <a:rPr b="0" lang="fr-CA" sz="1800" spc="-1" strike="noStrike">
                <a:solidFill>
                  <a:srgbClr val="000000"/>
                </a:solidFill>
                <a:latin typeface="Times New Roman"/>
                <a:ea typeface="바탕"/>
              </a:rPr>
              <a:t>K</a:t>
            </a:r>
            <a:r>
              <a:rPr b="0" lang="fr-CA" sz="1800" spc="-1" strike="noStrike" baseline="30000">
                <a:solidFill>
                  <a:srgbClr val="000000"/>
                </a:solidFill>
                <a:latin typeface="Times New Roman"/>
                <a:ea typeface="바탕"/>
              </a:rPr>
              <a:t>+</a:t>
            </a:r>
            <a:r>
              <a:rPr b="0" lang="ko-KR" sz="19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endParaRPr b="0" lang="en-US" sz="19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F88C-626C-42ED-8736-56FCD08295B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DB8ED1-7582-44DE-8DE9-5304145CF7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N-gram Statistics for English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Trigram/bigram probabilities: dictionary of 68,000 word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8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2400" spc="-1" strike="noStrike">
                <a:solidFill>
                  <a:srgbClr val="000099"/>
                </a:solidFill>
                <a:latin typeface="Times New Roman"/>
                <a:ea typeface="굴림"/>
              </a:rPr>
              <a:t>Ex) ‘study’, ‘student’, ‘enter’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2400" spc="-1" strike="noStrike">
                <a:solidFill>
                  <a:srgbClr val="000099"/>
                </a:solidFill>
                <a:latin typeface="Times New Roman"/>
                <a:ea typeface="굴림"/>
              </a:rPr>
              <a:t> 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2400" spc="-1" strike="noStrike">
                <a:solidFill>
                  <a:srgbClr val="000099"/>
                </a:solidFill>
                <a:latin typeface="Times New Roman"/>
                <a:ea typeface="굴림"/>
              </a:rPr>
              <a:t>	</a:t>
            </a:r>
            <a:r>
              <a:rPr b="0" i="1" lang="ko-KR" sz="2400" spc="-1" strike="noStrike">
                <a:solidFill>
                  <a:srgbClr val="000099"/>
                </a:solidFill>
                <a:latin typeface="Times New Roman"/>
                <a:ea typeface="굴림"/>
              </a:rPr>
              <a:t>WB: {st}, {st}, {en}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2400" spc="-1" strike="noStrike">
                <a:solidFill>
                  <a:srgbClr val="000099"/>
                </a:solidFill>
                <a:latin typeface="Times New Roman"/>
                <a:ea typeface="굴림"/>
              </a:rPr>
              <a:t>	</a:t>
            </a:r>
            <a:r>
              <a:rPr b="0" i="1" lang="ko-KR" sz="2400" spc="-1" strike="noStrike">
                <a:solidFill>
                  <a:srgbClr val="000099"/>
                </a:solidFill>
                <a:latin typeface="Times New Roman"/>
                <a:ea typeface="굴림"/>
              </a:rPr>
              <a:t>WI: {tu, ud}, {tu, ud, de, en}, {nt, te}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2400" spc="-1" strike="noStrike">
                <a:solidFill>
                  <a:srgbClr val="000099"/>
                </a:solidFill>
                <a:latin typeface="Times New Roman"/>
                <a:ea typeface="굴림"/>
              </a:rPr>
              <a:t>	</a:t>
            </a:r>
            <a:r>
              <a:rPr b="0" i="1" lang="ko-KR" sz="2400" spc="-1" strike="noStrike">
                <a:solidFill>
                  <a:srgbClr val="000099"/>
                </a:solidFill>
                <a:latin typeface="Times New Roman"/>
                <a:ea typeface="굴림"/>
              </a:rPr>
              <a:t>WE: {dy}, {nt}, {er}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2400" spc="-1" strike="noStrike">
                <a:solidFill>
                  <a:srgbClr val="000099"/>
                </a:solidFill>
                <a:latin typeface="Times New Roman"/>
                <a:ea typeface="굴림"/>
              </a:rPr>
              <a:t> 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2400" spc="-1" strike="noStrike">
                <a:solidFill>
                  <a:srgbClr val="000099"/>
                </a:solidFill>
                <a:latin typeface="Times New Roman"/>
                <a:ea typeface="굴림"/>
              </a:rPr>
              <a:t>	</a:t>
            </a:r>
            <a:r>
              <a:rPr b="0" i="1" lang="ko-KR" sz="2400" spc="-1" strike="noStrike">
                <a:solidFill>
                  <a:srgbClr val="000099"/>
                </a:solidFill>
                <a:latin typeface="Times New Roman"/>
                <a:ea typeface="굴림"/>
              </a:rPr>
              <a:t>Freq(‘st’) : &lt;2, 0, 0&gt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2400" spc="-1" strike="noStrike">
                <a:solidFill>
                  <a:srgbClr val="000099"/>
                </a:solidFill>
                <a:latin typeface="Times New Roman"/>
                <a:ea typeface="굴림"/>
              </a:rPr>
              <a:t>	</a:t>
            </a:r>
            <a:r>
              <a:rPr b="0" i="1" lang="ko-KR" sz="2400" spc="-1" strike="noStrike">
                <a:solidFill>
                  <a:srgbClr val="000099"/>
                </a:solidFill>
                <a:latin typeface="Times New Roman"/>
                <a:ea typeface="굴림"/>
              </a:rPr>
              <a:t>Freq(‘tu’) : &lt;0, 2, 0&gt;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ko-KR" sz="2400" spc="-1" strike="noStrike">
                <a:solidFill>
                  <a:srgbClr val="000099"/>
                </a:solidFill>
                <a:latin typeface="Times New Roman"/>
                <a:ea typeface="굴림"/>
              </a:rPr>
              <a:t>	</a:t>
            </a:r>
            <a:r>
              <a:rPr b="0" i="1" lang="ko-KR" sz="2400" spc="-1" strike="noStrike">
                <a:solidFill>
                  <a:srgbClr val="000099"/>
                </a:solidFill>
                <a:latin typeface="Times New Roman"/>
                <a:ea typeface="굴림"/>
              </a:rPr>
              <a:t>Freq(‘nt’) : &lt;0, 1, 1&gt;</a:t>
            </a:r>
            <a:r>
              <a:rPr b="0" lang="ko-KR" sz="2400" spc="-1" strike="noStrike">
                <a:solidFill>
                  <a:srgbClr val="000099"/>
                </a:solidFill>
                <a:latin typeface="Arial"/>
                <a:ea typeface="굴림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195800" y="3110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95800" y="3110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19560" y="311004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560" rIns="88560" tIns="-43920" bIns="-4392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5105520" y="4419720"/>
                <a:ext cx="350496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req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req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2807-EB00-4E6F-935E-4A6CE2276B0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809B07-1624-4ACD-87AC-01FEE8C2EA3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Syllable Statistics for Korean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744120" y="1600200"/>
            <a:ext cx="842004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Probability for Korean syllab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90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  <a:ea typeface="굴림"/>
              </a:rPr>
              <a:t>Raw corpus: 12M word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514600" y="2590920"/>
                <a:ext cx="4495680" cy="18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  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req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req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5CF2-A307-4486-810B-60E64A7C998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D5D3495-EF7B-4795-8845-9E661DFE13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08992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Data Structure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744120" y="1371240"/>
            <a:ext cx="8420040" cy="4724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 fontScale="98000"/>
          </a:bodyPr>
          <a:p>
            <a:pPr marL="325080" indent="-3250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200" spc="-1" strike="noStrike">
                <a:solidFill>
                  <a:srgbClr val="000099"/>
                </a:solidFill>
                <a:latin typeface="Arial"/>
                <a:ea typeface="Times New Roman"/>
              </a:rPr>
              <a:t>char engStr[MAXCHAR];  // English String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25080" indent="-3250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200" spc="-1" strike="noStrike">
                <a:solidFill>
                  <a:srgbClr val="000099"/>
                </a:solidFill>
                <a:latin typeface="Arial"/>
                <a:ea typeface="Times New Roman"/>
              </a:rPr>
              <a:t>char korStr[MAXSYLL];    // Korean String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25080" indent="-325080">
              <a:lnSpc>
                <a:spcPct val="80000"/>
              </a:lnSpc>
              <a:spcBef>
                <a:spcPts val="82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200" spc="-1" strike="noStrike">
                <a:solidFill>
                  <a:srgbClr val="000099"/>
                </a:solidFill>
                <a:latin typeface="Arial"/>
                <a:ea typeface="Times New Roman"/>
              </a:rPr>
              <a:t>int ekMap[MAXCHAR];    // mapping engStr[] </a:t>
            </a:r>
            <a:r>
              <a:rPr b="0" lang="fr-CA" sz="2200" spc="-1" strike="noStrike">
                <a:solidFill>
                  <a:srgbClr val="000099"/>
                </a:solidFill>
                <a:latin typeface="Wingdings"/>
                <a:ea typeface="Wingdings"/>
              </a:rPr>
              <a:t></a:t>
            </a:r>
            <a:r>
              <a:rPr b="0" lang="fr-CA" sz="2200" spc="-1" strike="noStrike">
                <a:solidFill>
                  <a:srgbClr val="000099"/>
                </a:solidFill>
                <a:latin typeface="Arial"/>
                <a:ea typeface="Times New Roman"/>
              </a:rPr>
              <a:t> korStr[]</a:t>
            </a: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2508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200" spc="-1" strike="noStrike">
              <a:solidFill>
                <a:srgbClr val="000099"/>
              </a:solidFill>
              <a:latin typeface="Arial"/>
            </a:endParaRPr>
          </a:p>
          <a:p>
            <a:pPr marL="325080" indent="-325080">
              <a:lnSpc>
                <a:spcPct val="80000"/>
              </a:lnSpc>
              <a:spcBef>
                <a:spcPts val="675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200" spc="-1" strike="noStrike">
                <a:solidFill>
                  <a:srgbClr val="000099"/>
                </a:solidFill>
                <a:latin typeface="Arial"/>
                <a:ea typeface="Times New Roman"/>
              </a:rPr>
              <a:t>char ekMark[MAXCHAR]; // </a:t>
            </a:r>
            <a:r>
              <a:rPr b="0" lang="fr-CA" sz="1800" spc="-1" strike="noStrike">
                <a:solidFill>
                  <a:srgbClr val="000099"/>
                </a:solidFill>
                <a:latin typeface="Arial"/>
                <a:ea typeface="Times New Roman"/>
              </a:rPr>
              <a:t>MARK_K, MARK_k, MARK_E, MARK_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666880" y="1828800"/>
            <a:ext cx="4343040" cy="838080"/>
            <a:chOff x="2666880" y="1828800"/>
            <a:chExt cx="4343040" cy="838080"/>
          </a:xfrm>
        </p:grpSpPr>
        <p:grpSp>
          <p:nvGrpSpPr>
            <p:cNvPr id="110" name=""/>
            <p:cNvGrpSpPr/>
            <p:nvPr/>
          </p:nvGrpSpPr>
          <p:grpSpPr>
            <a:xfrm>
              <a:off x="2671200" y="1830600"/>
              <a:ext cx="4333320" cy="834480"/>
              <a:chOff x="2671200" y="1830600"/>
              <a:chExt cx="4333320" cy="834480"/>
            </a:xfrm>
          </p:grpSpPr>
          <p:grpSp>
            <p:nvGrpSpPr>
              <p:cNvPr id="111" name=""/>
              <p:cNvGrpSpPr/>
              <p:nvPr/>
            </p:nvGrpSpPr>
            <p:grpSpPr>
              <a:xfrm>
                <a:off x="2671200" y="1830600"/>
                <a:ext cx="618840" cy="367560"/>
                <a:chOff x="2671200" y="1830600"/>
                <a:chExt cx="618840" cy="3675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2758680" y="1830600"/>
                  <a:ext cx="4431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507960"/>
                      <a:tab algn="ctr" pos="1257480"/>
                      <a:tab algn="ctr" pos="2870280"/>
                      <a:tab algn="ctr" pos="4508640"/>
                      <a:tab algn="r" pos="57150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2671200" y="1830600"/>
                  <a:ext cx="618840" cy="36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3290400" y="1830600"/>
                <a:ext cx="618480" cy="367560"/>
                <a:chOff x="3290400" y="1830600"/>
                <a:chExt cx="618480" cy="3675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3377880" y="1830600"/>
                  <a:ext cx="4431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3290400" y="1830600"/>
                  <a:ext cx="618480" cy="36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909240" y="1830600"/>
                <a:ext cx="618840" cy="367560"/>
                <a:chOff x="3909240" y="1830600"/>
                <a:chExt cx="618840" cy="3675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996720" y="1830600"/>
                  <a:ext cx="4431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909240" y="1830600"/>
                  <a:ext cx="618840" cy="36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528440" y="1830600"/>
                <a:ext cx="618480" cy="367560"/>
                <a:chOff x="4528440" y="1830600"/>
                <a:chExt cx="618480" cy="3675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615920" y="1830600"/>
                  <a:ext cx="4431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528440" y="1830600"/>
                  <a:ext cx="618480" cy="36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5147280" y="1830600"/>
                <a:ext cx="618840" cy="367560"/>
                <a:chOff x="5147280" y="1830600"/>
                <a:chExt cx="618840" cy="3675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235120" y="1830600"/>
                  <a:ext cx="44280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5147280" y="1830600"/>
                  <a:ext cx="618840" cy="36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5766840" y="1830600"/>
                <a:ext cx="618480" cy="367560"/>
                <a:chOff x="5766840" y="1830600"/>
                <a:chExt cx="618480" cy="3675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5854320" y="1830600"/>
                  <a:ext cx="44316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5766840" y="1830600"/>
                  <a:ext cx="618480" cy="36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6385680" y="1830600"/>
                <a:ext cx="618840" cy="367560"/>
                <a:chOff x="6385680" y="1830600"/>
                <a:chExt cx="618840" cy="3675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6473520" y="1830600"/>
                  <a:ext cx="44280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...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385680" y="1830600"/>
                  <a:ext cx="618840" cy="36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671200" y="2198160"/>
                <a:ext cx="618840" cy="466920"/>
                <a:chOff x="2671200" y="2198160"/>
                <a:chExt cx="618840" cy="46692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758680" y="2198160"/>
                  <a:ext cx="443160" cy="46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24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671200" y="2198160"/>
                  <a:ext cx="618840" cy="46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290400" y="2198160"/>
                <a:ext cx="618480" cy="466920"/>
                <a:chOff x="3290400" y="2198160"/>
                <a:chExt cx="618480" cy="46692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377880" y="2198160"/>
                  <a:ext cx="443160" cy="46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24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t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290400" y="2198160"/>
                  <a:ext cx="618480" cy="46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3909240" y="2198160"/>
                <a:ext cx="618840" cy="466920"/>
                <a:chOff x="3909240" y="2198160"/>
                <a:chExt cx="618840" cy="46692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996720" y="2198160"/>
                  <a:ext cx="443160" cy="46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24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u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09240" y="2198160"/>
                  <a:ext cx="618840" cy="46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4528440" y="2198160"/>
                <a:ext cx="618480" cy="466920"/>
                <a:chOff x="4528440" y="2198160"/>
                <a:chExt cx="618480" cy="4669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4615920" y="2198160"/>
                  <a:ext cx="443160" cy="46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24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528440" y="2198160"/>
                  <a:ext cx="618480" cy="46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5147280" y="2198160"/>
                <a:ext cx="618840" cy="466920"/>
                <a:chOff x="5147280" y="2198160"/>
                <a:chExt cx="618840" cy="4669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5235120" y="2198160"/>
                  <a:ext cx="442800" cy="46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24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47280" y="2198160"/>
                  <a:ext cx="618840" cy="46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5766840" y="2198160"/>
                <a:ext cx="618480" cy="466920"/>
                <a:chOff x="5766840" y="2198160"/>
                <a:chExt cx="618480" cy="4669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854320" y="2198160"/>
                  <a:ext cx="443160" cy="46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‘</a:t>
                  </a: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\0’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5766840" y="2198160"/>
                  <a:ext cx="618480" cy="46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6385680" y="2198160"/>
                <a:ext cx="618840" cy="466920"/>
                <a:chOff x="6385680" y="2198160"/>
                <a:chExt cx="618840" cy="466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6473520" y="2198160"/>
                  <a:ext cx="442800" cy="466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6385680" y="2198160"/>
                  <a:ext cx="618840" cy="466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53" name=""/>
            <p:cNvSpPr/>
            <p:nvPr/>
          </p:nvSpPr>
          <p:spPr>
            <a:xfrm>
              <a:off x="2666880" y="1828800"/>
              <a:ext cx="4343040" cy="8380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2666880" y="3276720"/>
            <a:ext cx="4343040" cy="914400"/>
            <a:chOff x="2666880" y="3276720"/>
            <a:chExt cx="4343040" cy="914400"/>
          </a:xfrm>
        </p:grpSpPr>
        <p:grpSp>
          <p:nvGrpSpPr>
            <p:cNvPr id="155" name=""/>
            <p:cNvGrpSpPr/>
            <p:nvPr/>
          </p:nvGrpSpPr>
          <p:grpSpPr>
            <a:xfrm>
              <a:off x="2671200" y="3278880"/>
              <a:ext cx="4333320" cy="909720"/>
              <a:chOff x="2671200" y="3278880"/>
              <a:chExt cx="4333320" cy="9097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2671200" y="3278880"/>
                <a:ext cx="618840" cy="455040"/>
                <a:chOff x="2671200" y="3278880"/>
                <a:chExt cx="618840" cy="45504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758680" y="3278880"/>
                  <a:ext cx="44316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671200" y="3278880"/>
                  <a:ext cx="6188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290400" y="3278880"/>
                <a:ext cx="618480" cy="455040"/>
                <a:chOff x="3290400" y="3278880"/>
                <a:chExt cx="618480" cy="45504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377880" y="3278880"/>
                  <a:ext cx="44316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290400" y="3278880"/>
                  <a:ext cx="618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909240" y="3278880"/>
                <a:ext cx="618840" cy="455040"/>
                <a:chOff x="3909240" y="3278880"/>
                <a:chExt cx="618840" cy="4550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3996720" y="3278880"/>
                  <a:ext cx="44316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3909240" y="3278880"/>
                  <a:ext cx="6188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4528440" y="3278880"/>
                <a:ext cx="618480" cy="455040"/>
                <a:chOff x="4528440" y="3278880"/>
                <a:chExt cx="618480" cy="4550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4615920" y="3278880"/>
                  <a:ext cx="44316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4528440" y="3278880"/>
                  <a:ext cx="618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5147280" y="3278880"/>
                <a:ext cx="618840" cy="455040"/>
                <a:chOff x="5147280" y="3278880"/>
                <a:chExt cx="618840" cy="4550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235120" y="3278880"/>
                  <a:ext cx="44280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147280" y="3278880"/>
                  <a:ext cx="6188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766840" y="3278880"/>
                <a:ext cx="618480" cy="455040"/>
                <a:chOff x="5766840" y="3278880"/>
                <a:chExt cx="618480" cy="4550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854320" y="3278880"/>
                  <a:ext cx="44316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766840" y="3278880"/>
                  <a:ext cx="61848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6385680" y="3278880"/>
                <a:ext cx="618840" cy="455040"/>
                <a:chOff x="6385680" y="3278880"/>
                <a:chExt cx="618840" cy="4550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6473520" y="3278880"/>
                  <a:ext cx="442800" cy="45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...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6385680" y="3278880"/>
                  <a:ext cx="618840" cy="455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2671200" y="3733920"/>
                <a:ext cx="1237680" cy="454680"/>
                <a:chOff x="2671200" y="3733920"/>
                <a:chExt cx="1237680" cy="4546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2758680" y="3733920"/>
                  <a:ext cx="10623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ㄴ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2671200" y="3733920"/>
                  <a:ext cx="1237680" cy="45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3909240" y="3733920"/>
                <a:ext cx="1237680" cy="454680"/>
                <a:chOff x="3909240" y="3733920"/>
                <a:chExt cx="1237680" cy="4546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3996720" y="3733920"/>
                  <a:ext cx="106236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909240" y="3733920"/>
                  <a:ext cx="1237680" cy="45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5147280" y="3733920"/>
                <a:ext cx="1237680" cy="454680"/>
                <a:chOff x="5147280" y="3733920"/>
                <a:chExt cx="1237680" cy="4546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5235120" y="3733920"/>
                  <a:ext cx="10620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5147280" y="3733920"/>
                  <a:ext cx="1237680" cy="45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6385680" y="3733920"/>
                <a:ext cx="618840" cy="454680"/>
                <a:chOff x="6385680" y="3733920"/>
                <a:chExt cx="618840" cy="45468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6473520" y="3733920"/>
                  <a:ext cx="442800" cy="454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385680" y="3733920"/>
                  <a:ext cx="618840" cy="454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9" name=""/>
            <p:cNvSpPr/>
            <p:nvPr/>
          </p:nvSpPr>
          <p:spPr>
            <a:xfrm>
              <a:off x="2666880" y="3276720"/>
              <a:ext cx="4343040" cy="91440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2666880" y="4800600"/>
            <a:ext cx="4343040" cy="838080"/>
            <a:chOff x="2666880" y="4800600"/>
            <a:chExt cx="4343040" cy="838080"/>
          </a:xfrm>
        </p:grpSpPr>
        <p:grpSp>
          <p:nvGrpSpPr>
            <p:cNvPr id="191" name=""/>
            <p:cNvGrpSpPr/>
            <p:nvPr/>
          </p:nvGrpSpPr>
          <p:grpSpPr>
            <a:xfrm>
              <a:off x="2671200" y="4802760"/>
              <a:ext cx="4333320" cy="833400"/>
              <a:chOff x="2671200" y="4802760"/>
              <a:chExt cx="4333320" cy="833400"/>
            </a:xfrm>
          </p:grpSpPr>
          <p:grpSp>
            <p:nvGrpSpPr>
              <p:cNvPr id="192" name=""/>
              <p:cNvGrpSpPr/>
              <p:nvPr/>
            </p:nvGrpSpPr>
            <p:grpSpPr>
              <a:xfrm>
                <a:off x="2671200" y="4802760"/>
                <a:ext cx="618840" cy="416880"/>
                <a:chOff x="2671200" y="4802760"/>
                <a:chExt cx="618840" cy="41688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758680" y="4802760"/>
                  <a:ext cx="44316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671200" y="4802760"/>
                  <a:ext cx="618840" cy="41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290400" y="4802760"/>
                <a:ext cx="618480" cy="416880"/>
                <a:chOff x="3290400" y="4802760"/>
                <a:chExt cx="618480" cy="4168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377880" y="4802760"/>
                  <a:ext cx="44316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290400" y="4802760"/>
                  <a:ext cx="618480" cy="41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3909240" y="4802760"/>
                <a:ext cx="618840" cy="416880"/>
                <a:chOff x="3909240" y="4802760"/>
                <a:chExt cx="618840" cy="4168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3996720" y="4802760"/>
                  <a:ext cx="44316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909240" y="4802760"/>
                  <a:ext cx="618840" cy="41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528440" y="4802760"/>
                <a:ext cx="618480" cy="416880"/>
                <a:chOff x="4528440" y="4802760"/>
                <a:chExt cx="618480" cy="4168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4615920" y="4802760"/>
                  <a:ext cx="44316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528440" y="4802760"/>
                  <a:ext cx="618480" cy="41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5147280" y="4802760"/>
                <a:ext cx="618840" cy="416880"/>
                <a:chOff x="5147280" y="4802760"/>
                <a:chExt cx="618840" cy="4168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5235120" y="4802760"/>
                  <a:ext cx="44280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5147280" y="4802760"/>
                  <a:ext cx="618840" cy="41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5766840" y="4802760"/>
                <a:ext cx="618480" cy="416880"/>
                <a:chOff x="5766840" y="4802760"/>
                <a:chExt cx="618480" cy="4168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854320" y="4802760"/>
                  <a:ext cx="44316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5766840" y="4802760"/>
                  <a:ext cx="618480" cy="41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385680" y="4802760"/>
                <a:ext cx="618840" cy="416880"/>
                <a:chOff x="6385680" y="4802760"/>
                <a:chExt cx="618840" cy="4168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473520" y="4802760"/>
                  <a:ext cx="442800" cy="416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...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385680" y="4802760"/>
                  <a:ext cx="618840" cy="416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2671200" y="5219640"/>
                <a:ext cx="618840" cy="416520"/>
                <a:chOff x="2671200" y="5219640"/>
                <a:chExt cx="618840" cy="4165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2758680" y="5219640"/>
                  <a:ext cx="44316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0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2671200" y="5219640"/>
                  <a:ext cx="618840" cy="41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3290400" y="5219640"/>
                <a:ext cx="618480" cy="416520"/>
                <a:chOff x="3290400" y="5219640"/>
                <a:chExt cx="618480" cy="4165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3377880" y="5219640"/>
                  <a:ext cx="44316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3290400" y="5219640"/>
                  <a:ext cx="618480" cy="41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909240" y="5219640"/>
                <a:ext cx="618840" cy="416520"/>
                <a:chOff x="3909240" y="5219640"/>
                <a:chExt cx="618840" cy="4165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996720" y="5219640"/>
                  <a:ext cx="44316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909240" y="5219640"/>
                  <a:ext cx="618840" cy="41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528440" y="5219640"/>
                <a:ext cx="618480" cy="416520"/>
                <a:chOff x="4528440" y="5219640"/>
                <a:chExt cx="618480" cy="4165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615920" y="5219640"/>
                  <a:ext cx="44316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8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528440" y="5219640"/>
                  <a:ext cx="618480" cy="41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5147280" y="5219640"/>
                <a:ext cx="618840" cy="416520"/>
                <a:chOff x="5147280" y="5219640"/>
                <a:chExt cx="618840" cy="41652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235120" y="5219640"/>
                  <a:ext cx="4428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5147280" y="5219640"/>
                  <a:ext cx="618840" cy="41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766840" y="5219640"/>
                <a:ext cx="618480" cy="416520"/>
                <a:chOff x="5766840" y="5219640"/>
                <a:chExt cx="618480" cy="4165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854320" y="5219640"/>
                  <a:ext cx="44316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766840" y="5219640"/>
                  <a:ext cx="618480" cy="41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6385680" y="5219640"/>
                <a:ext cx="618840" cy="416520"/>
                <a:chOff x="6385680" y="5219640"/>
                <a:chExt cx="618840" cy="41652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6473520" y="5219640"/>
                  <a:ext cx="442800" cy="41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 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6385680" y="5219640"/>
                  <a:ext cx="618840" cy="416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4" name=""/>
            <p:cNvSpPr/>
            <p:nvPr/>
          </p:nvSpPr>
          <p:spPr>
            <a:xfrm>
              <a:off x="2666880" y="4800600"/>
              <a:ext cx="4343040" cy="8380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C7E-F9C0-4DA9-B0C9-55C243B65FF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435882-F2A4-436C-B17A-1EBEED61C3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05:54Z</dcterms:created>
  <dc:creator>강승식</dc:creator>
  <dc:description/>
  <dc:language>en-US</dc:language>
  <cp:lastModifiedBy>강승식</cp:lastModifiedBy>
  <cp:lastPrinted>1997-10-08T07:57:46Z</cp:lastPrinted>
  <dcterms:modified xsi:type="dcterms:W3CDTF">2002-07-05T08:23:09Z</dcterms:modified>
  <cp:revision>98</cp:revision>
  <dc:subject/>
  <dc:title>한국어 수사어절의 유형분류 및 정규화</dc:title>
</cp:coreProperties>
</file>