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D262-DD23-4BB3-BDAD-515C3C4A2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D1FE-6806-4543-BCDC-9DA3A425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F3A3-F585-40FF-A7F3-AA7682CC0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8439-C513-4CDF-8EEF-E39B7050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4320-D4F8-4CFB-AD6D-9DA5B49F7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5E1-00A2-4A78-963A-67CB5C03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641A-CAA0-4437-BCCB-5395F0685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0DD1-69AB-440E-951A-E7B806E68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9F5-1AF0-4CD0-ABE8-D53F47A91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1AFB-B8FC-4955-83EF-C4C14003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71632-FE69-4F87-B95E-A2D51B771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4807-C483-46AB-AB40-7D758FAC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0559-C5BA-49DD-A701-1AE7C2B96561}" type="slidenum"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한국어 정보처리의 현황 및 발전 방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강승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국민대학교 컴퓨터학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1D4C-932B-4E3E-A8B3-7FD3A7BBEA2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한국어 정보처리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발전방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LP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술은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응용 기술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과 더불어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초 기술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'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을 중심으로 발전해야 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응용 소프트웨어와 사용자들의 요구사항을 충분히 반영되어야 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핵심 연구주제에 대하여 다수의 연구자가 연구를 수행하여 연구 결과를 비교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평가하는 경쟁적인 연구체제 필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3082-FDA2-407B-9B5F-8886331604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한국어 정보처리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발전방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초기술에 대한 표준화가 이루어져야 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연구결과물을 자유롭게 활용할 수 있어야 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상호 의존적인 연구주제에 대한 공동연구가 필요하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한국어 정보처리 연구에 관한 전반적인 문제들을 효율적으로 관리하는 시스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543B-B59A-407B-8C63-0D6AE0C3E2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결   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한국어 정보처리의 발전 과정 고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초 기술과 응용 기술의 현황 고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지속적인 발전을 위한 추진 방향 제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59B9-AA4E-4BBE-AE4E-B45D77204BE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자연언어 처리의 중요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미래의 응용 소프트웨어는 사용자들의 습성과 특성을 알아내 쉽게 사용될 수 있도록 개발될 것이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사람의 말을 알아듣고 명령을 처리하는 시스템 등장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미 국회도서관 장서를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장의 디스켓에 저장할 수 있는 기술이 개발된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5EEC-6605-4DD2-9621-8255DEE6D78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한국어 정보처리 기술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초 기술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자 사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형태소 분석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구문분석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의미분석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한국어 생성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말뭉치 구축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응용 기술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맞춤법 검사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자동색인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계번역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주제어 추출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문서요약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계번역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자연언어 질의어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문자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음성 인식 후처리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지식관리 시스템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FBC-7333-4079-8DE9-CADF4F0A80B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한국어 정보처리 기술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계속</a:t>
            </a:r>
            <a:r>
              <a:rPr b="0" lang="ko-KR" sz="3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차세대 첨단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/W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기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자연언어 인터페이스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자동통역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키보드가 필요없는 컴퓨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필기체 인식 컴퓨터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인간 수준의 고품질 음성 인식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합성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한국어 정보처리 기술이 필수적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4D5B-4A9E-4E0C-92DB-8EDED10AB3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한국어 정보처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발전 과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1980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대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한글 입출력과 기계번역 중심으로 연구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1990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대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전자사전과 말뭉치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한국어 분석 등 기초기술 연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2000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대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구문분석 등 기초기술 성숙 및 응용 시스템 활성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484C-C97D-4C78-8C6D-F8314C3EC28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한국어 정보처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시기별 구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태동기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1980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~1984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한글 오토마타를 이용한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입출력 구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태소 분석과 구문분석 기초연구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준비기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1985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~1989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시제품 개발 및 기초연구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맞춤법 검사기 개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한영 기계번역 시제품 개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LP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필요성과 활용 가능성 확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0C145-A777-4167-9B3F-58D2975D5B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한국어 정보처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시기별 구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도약기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1990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~1994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전자 사전 및 말뭉치 구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계번역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태소 분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구문 분석 연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7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맞춤법 검사기 실용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CF52C-D956-4B37-B8DE-3B60E64E97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한국어 정보처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시기별 구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성장기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1995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~1999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인터넷과 정보검색 보편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태소 분석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계번역 기술에 관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형태소 분석기술을 자동색인으로 실용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기계번역 실용화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대용량 말뭉치 구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전반적으로 한국어 정보처리 기술이 활성화된 시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6D92-CFEF-4CD8-AF4B-4D38DF7478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한국어 정보처리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4400" spc="-1" strike="noStrike">
                <a:solidFill>
                  <a:srgbClr val="000000"/>
                </a:solidFill>
                <a:latin typeface="Times New Roman"/>
              </a:rPr>
              <a:t>시기별 구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성숙기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(2000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년 이후</a:t>
            </a:r>
            <a:r>
              <a:rPr b="0" lang="ko-KR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말뭉치와 형태소 분석 등을 기반으로 실용적인 구문분석기 개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주제어 추출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문서요약 등 구문분석 기술을 이용한 다양한 상용 시스템 개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</a:rPr>
              <a:t>전문용어 사전이 구축되어 기계번역 기술이 한 단계 높은 수준으로 발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AA88-42B8-4D7F-9DD6-BFC5E6D36CF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08T03:28:43Z</dcterms:created>
  <dc:creator>강승식</dc:creator>
  <dc:description/>
  <dc:language>en-US</dc:language>
  <cp:lastModifiedBy>강승식</cp:lastModifiedBy>
  <cp:lastPrinted>1999-03-08T04:05:01Z</cp:lastPrinted>
  <dcterms:modified xsi:type="dcterms:W3CDTF">2002-07-05T08:05:47Z</dcterms:modified>
  <cp:revision>4</cp:revision>
  <dc:subject/>
  <dc:title>자연언어 처리의 중요성</dc:title>
</cp:coreProperties>
</file>