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464F-C0BF-47CB-A456-C115BECD0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8C6-4E2A-4E9D-B3CC-6D55F2928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3C206-4073-4D66-93FD-A43CE05AA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5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288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5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288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221D-CFDE-4AB7-AFE6-322B789E9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B67A-1E93-4923-B0C1-454008261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81C92-62AB-4EE7-94D7-D0C9227C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AFBD-B388-45B6-B24E-11CB5249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50C08-712C-4977-B2A3-C356CF2F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1C82-2BD2-4405-9241-DE7083090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440" y="291600"/>
            <a:ext cx="7467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DC838-577D-4529-82B1-EE6D22C82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442-5B59-4C30-8EB2-41340239B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568A-4DF1-4E7D-A3CD-92F615CEE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EE9BE-FBBC-46C2-8E09-ECF403B74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F6AF-A683-4E17-8A5C-6A37CB43E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2A88-D717-409A-9D6D-7B0CEDA27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2A266-7DC1-412D-8844-5820153C2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5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288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5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288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FF23-3969-4C62-B9F8-B93461C74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AE65-B66E-4345-BEC6-8F1EF110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EE24-6C32-4C66-9A16-9BDFCC1C8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7865-CB92-4D3A-ABC6-5BA954A4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440" y="291600"/>
            <a:ext cx="7467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FF5C2-F803-4A71-9532-D8FA3025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6CD-62E5-4ED4-80F9-DB7BEA42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1AA7-5848-4824-B63D-38FAA9C5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86EA-F7F4-4728-A2BB-3D3BEA177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5CD19-A594-4E88-989B-D2D2FB7AC9C5}" type="slidenum">
              <a:rPr b="0" lang="ko-KR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0f1997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27944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56060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2844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840" bIns="-15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0526-367E-4D57-8C59-B17F469D0AB3}" type="slidenum">
              <a:rPr b="0" lang="ko-KR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0f1997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pic>
        <p:nvPicPr>
          <p:cNvPr id="47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50148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4000" spc="-1" strike="noStrike">
                <a:solidFill>
                  <a:srgbClr val="0f1997"/>
                </a:solidFill>
                <a:latin typeface="신명 태명조"/>
                <a:ea typeface="신명 태명조"/>
              </a:rPr>
              <a:t>조사 유형 및 복합명사 인식에</a:t>
            </a:r>
            <a:br>
              <a:rPr sz="4000"/>
            </a:br>
            <a:r>
              <a:rPr b="1" i="1" lang="zh-CN" sz="4000" spc="-1" strike="noStrike">
                <a:solidFill>
                  <a:srgbClr val="0f1997"/>
                </a:solidFill>
                <a:latin typeface="신명 태명조"/>
                <a:ea typeface="신명 태명조"/>
              </a:rPr>
              <a:t>의한 용어 가중치 부여 기법</a:t>
            </a:r>
            <a:endParaRPr b="1" i="1" lang="en-US" sz="40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37720" y="3657240"/>
            <a:ext cx="716292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55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강 승 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5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굴림"/>
              </a:rPr>
              <a:t>국민대학교 컴퓨터학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0f1997"/>
                </a:solidFill>
                <a:latin typeface="Arial"/>
                <a:ea typeface="굴림"/>
              </a:rPr>
              <a:t>결 론</a:t>
            </a: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한글문서에서 색인어 추출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복합명사의 가중치 부여 기법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용어 자체 특성에 의한 가중치 부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띄어쓴 복합명사의 가중치 부여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조사 유형에 따른 가중치 조절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실험 결과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2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사람의 주요어 추출 일치도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: 53.5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빈도에 의한 주요어 추출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: 41.0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가중치에 의한 주요어 추출 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	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44.3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6BFC-AEF7-474B-9D23-78942FF016D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0f1997"/>
                </a:solidFill>
                <a:latin typeface="Arial"/>
                <a:ea typeface="굴림"/>
              </a:rPr>
              <a:t>목 차</a:t>
            </a: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용어 가중치와 주제어 추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주제어 추출 정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가중치 부여 기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초기 가중치 부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띄어쓴 복합명사의 가중치 조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조사 유형에 따른 가중치 조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실험 및 평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체"/>
                <a:ea typeface="굴림체"/>
              </a:rPr>
              <a:t>결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A8E6-9A9D-4205-B4CB-A708276ABD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0f1997"/>
                </a:solidFill>
                <a:latin typeface="Arial"/>
                <a:ea typeface="굴림"/>
              </a:rPr>
              <a:t>용어 가중치와 주제어 추출</a:t>
            </a: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단순빈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TF)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와 역문헌빈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ID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영어의 명사구 색인 기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구성요소의 품사가 명사가 아닌 경우가 많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Artifical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Named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e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Automatic index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Keyword/keyphrase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추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논문에서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keyword/keyphrase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추출 기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7182-8EDA-42BD-8874-F2BAE81C1FF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440" y="685800"/>
            <a:ext cx="7467480" cy="380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200" spc="-1" strike="noStrike">
                <a:solidFill>
                  <a:srgbClr val="0f1997"/>
                </a:solidFill>
                <a:latin typeface="Arial"/>
                <a:ea typeface="굴림"/>
              </a:rPr>
              <a:t>용어 가중치 </a:t>
            </a:r>
            <a:r>
              <a:rPr b="1" i="1" lang="ko-KR" sz="3200" spc="-1" strike="noStrike">
                <a:solidFill>
                  <a:srgbClr val="0f1997"/>
                </a:solidFill>
                <a:latin typeface="Arial"/>
                <a:ea typeface="굴림"/>
              </a:rPr>
              <a:t>features</a:t>
            </a: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5000"/>
          </a:bodyPr>
          <a:p>
            <a:pPr marL="315000" indent="-315000" algn="just">
              <a:lnSpc>
                <a:spcPct val="8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용어의 출현빈도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: TF, IDF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어절 특성 – 용어가 출현한 어절의 특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206280" algn="just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복합명사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미등록어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206280" algn="just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음절명사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보통명사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206280" algn="just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명사의 길이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음절수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206280" algn="just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지금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현재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작년’ 등 부사성 명사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206280" algn="just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조사 유형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: ‘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은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는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이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가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을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를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의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도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에’ 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문장 특성 – 용어가 출현한 구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절의 특성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구문론적 기능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206280" algn="just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복합어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명사구 등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구성 여부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206280" algn="just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주절 혹은 종속절의 주어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목적어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보어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관형어 등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5000" indent="-315000" algn="just">
              <a:lnSpc>
                <a:spcPct val="8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문서 단위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--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용어가 출현한 문장의 중요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206280" algn="just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문장의 위치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제목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앞 부분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뒷 부분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중간 부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206280" algn="just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문장의 중요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30000" indent="-206280" algn="just">
              <a:lnSpc>
                <a:spcPct val="8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접속부사 등 수사 어구에 의한 문장의 중요도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15000" indent="-315000">
              <a:lnSpc>
                <a:spcPct val="80000"/>
              </a:lnSpc>
              <a:spcBef>
                <a:spcPts val="97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Coreference 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관계에 의한 용어의 중요도</a:t>
            </a:r>
            <a:r>
              <a:rPr b="0" lang="ko-KR" sz="26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37935-A5A2-4CF3-9BC0-51959F5BB59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200" spc="-1" strike="noStrike">
                <a:solidFill>
                  <a:srgbClr val="0f1997"/>
                </a:solidFill>
                <a:latin typeface="Arial"/>
                <a:ea typeface="굴림"/>
              </a:rPr>
              <a:t>가중치 부여 과정</a:t>
            </a: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14600" y="1523880"/>
            <a:ext cx="40384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6CBA-5F76-4EA2-B362-5986F4DEEF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0f1997"/>
                </a:solidFill>
                <a:latin typeface="Arial"/>
                <a:ea typeface="굴림"/>
              </a:rPr>
              <a:t>1. Noun Scoring: </a:t>
            </a:r>
            <a:r>
              <a:rPr b="1" i="1" lang="zh-CN" sz="3200" spc="-1" strike="noStrike">
                <a:solidFill>
                  <a:srgbClr val="0f1997"/>
                </a:solidFill>
                <a:latin typeface="Arial"/>
                <a:ea typeface="굴림"/>
              </a:rPr>
              <a:t>용어의 초기 가중치</a:t>
            </a: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2680" y="1600200"/>
            <a:ext cx="7086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 algn="just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복합명사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: 1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미등록어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영문자 포함 용어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: 0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보통명사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: 0.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음절 명사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: 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부사성 명사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: 0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숫자가 포함된 용어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: 0.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9459-507D-4427-BB4F-A6A8D30B4D0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200" spc="-1" strike="noStrike">
                <a:solidFill>
                  <a:srgbClr val="0f1997"/>
                </a:solidFill>
                <a:latin typeface="Arial"/>
                <a:ea typeface="굴림"/>
              </a:rPr>
              <a:t>2. NP Scoring: </a:t>
            </a:r>
            <a:r>
              <a:rPr b="1" i="1" lang="ko-KR" sz="3200" spc="-1" strike="noStrike">
                <a:solidFill>
                  <a:srgbClr val="0f1997"/>
                </a:solidFill>
                <a:latin typeface="Arial"/>
                <a:ea typeface="굴림"/>
              </a:rPr>
              <a:t>띄어쓴 복합명사</a:t>
            </a: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N + N + … + N’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유형의 가중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구성명사의 가중치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 복합명사 가중치와 유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이 보통명사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: x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정보 검색 시스템’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vs. 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정보검색시스템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이 미등록어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: x 1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N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의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N‘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유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학생의 날’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, 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정보의 검색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7DF50-5BBA-4167-BFEA-A31315F8C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15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200" spc="-1" strike="noStrike">
                <a:solidFill>
                  <a:srgbClr val="0f1997"/>
                </a:solidFill>
                <a:latin typeface="Arial"/>
                <a:ea typeface="굴림"/>
              </a:rPr>
              <a:t>3. Josa Scoring: </a:t>
            </a:r>
            <a:r>
              <a:rPr b="1" i="1" lang="ko-KR" sz="3200" spc="-1" strike="noStrike">
                <a:solidFill>
                  <a:srgbClr val="0f1997"/>
                </a:solidFill>
                <a:latin typeface="Arial"/>
                <a:ea typeface="굴림"/>
              </a:rPr>
              <a:t>용어의 역할에 따라</a:t>
            </a: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601640" y="1600200"/>
            <a:ext cx="68580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은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는’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: x1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이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가’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: x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을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를’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: x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도’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: x0.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의’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: x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에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에서’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: x0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기타 조사 </a:t>
            </a:r>
            <a:r>
              <a:rPr b="0" lang="ko-KR" sz="2800" spc="-1" strike="noStrike">
                <a:solidFill>
                  <a:srgbClr val="000000"/>
                </a:solidFill>
                <a:latin typeface="Arial"/>
                <a:ea typeface="굴림"/>
              </a:rPr>
              <a:t>: x0.3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6070-6183-4F7D-89BB-B02AA8E768C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3200" spc="-1" strike="noStrike">
                <a:solidFill>
                  <a:srgbClr val="0f1997"/>
                </a:solidFill>
                <a:latin typeface="Arial"/>
                <a:ea typeface="굴림"/>
              </a:rPr>
              <a:t>실험</a:t>
            </a:r>
            <a:r>
              <a:rPr b="0" i="1" lang="ko-KR" sz="3200" spc="-1" strike="noStrike">
                <a:solidFill>
                  <a:srgbClr val="0f1997"/>
                </a:solidFill>
                <a:latin typeface="Arial"/>
                <a:ea typeface="굴림"/>
              </a:rPr>
              <a:t>: </a:t>
            </a:r>
            <a:r>
              <a:rPr b="1" i="1" lang="ko-KR" sz="3200" spc="-1" strike="noStrike">
                <a:solidFill>
                  <a:srgbClr val="000000"/>
                </a:solidFill>
                <a:latin typeface="Arial"/>
                <a:ea typeface="굴림"/>
              </a:rPr>
              <a:t>주요어 추출 비교</a:t>
            </a:r>
            <a:endParaRPr b="1" i="1" lang="en-US" sz="3200" spc="-1" strike="noStrike">
              <a:solidFill>
                <a:srgbClr val="0f1997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93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실험문서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신문기사 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3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2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사람이 각 기사에 대해 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개씩의 주요어 추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3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H1: 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사람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1, H2: 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사람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2, K: 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가중치순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, F: </a:t>
            </a:r>
            <a:r>
              <a:rPr b="0" lang="ko-KR" sz="2500" spc="-1" strike="noStrike">
                <a:solidFill>
                  <a:srgbClr val="000000"/>
                </a:solidFill>
                <a:latin typeface="Arial"/>
                <a:ea typeface="굴림"/>
              </a:rPr>
              <a:t>고빈도어순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334800"/>
            <a:ext cx="127152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1430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3124080"/>
          <a:ext cx="7467480" cy="3047760"/>
        </p:xfrm>
        <a:graphic>
          <a:graphicData uri="http://schemas.openxmlformats.org/drawingml/2006/table">
            <a:tbl>
              <a:tblPr/>
              <a:tblGrid>
                <a:gridCol w="1477800"/>
                <a:gridCol w="1555920"/>
                <a:gridCol w="1461960"/>
                <a:gridCol w="1571760"/>
                <a:gridCol w="1400040"/>
              </a:tblGrid>
              <a:tr h="6717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ko-KR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H1-H2 </a:t>
                      </a:r>
                      <a:r>
                        <a:rPr b="0" lang="ko-KR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일치율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1" i="1" lang="zh-CN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가중치 부여 기법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1" i="1" lang="zh-CN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빈도에 의한 추출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9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K-H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K-H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-H1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F-H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89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53.5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3.0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5.5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36.0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굴림"/>
                        </a:rPr>
                        <a:t>41.0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평균 </a:t>
                      </a: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44.3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90000"/>
                        </a:lnSpc>
                        <a:spcBef>
                          <a:spcPts val="938"/>
                        </a:spcBef>
                        <a:tabLst>
                          <a:tab algn="l" pos="0"/>
                          <a:tab algn="l" pos="885960"/>
                          <a:tab algn="l" pos="1771560"/>
                          <a:tab algn="l" pos="2657520"/>
                          <a:tab algn="l" pos="3543480"/>
                          <a:tab algn="l" pos="4429080"/>
                          <a:tab algn="l" pos="5315040"/>
                          <a:tab algn="l" pos="6200640"/>
                          <a:tab algn="l" pos="7086600"/>
                          <a:tab algn="l" pos="7972560"/>
                          <a:tab algn="l" pos="8858160"/>
                          <a:tab algn="l" pos="9744120"/>
                          <a:tab algn="l" pos="10630080"/>
                        </a:tabLst>
                      </a:pPr>
                      <a:r>
                        <a:rPr b="0" lang="zh-CN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평균 </a:t>
                      </a:r>
                      <a:r>
                        <a:rPr b="0" lang="en-US" sz="2500" spc="-1" strike="noStrike">
                          <a:solidFill>
                            <a:srgbClr val="000099"/>
                          </a:solidFill>
                          <a:latin typeface="Arial"/>
                          <a:ea typeface="굴림"/>
                        </a:rPr>
                        <a:t>38.5%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B8A8-B09C-4E9A-A8D2-9D3C7065F5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7T01:58:56Z</dcterms:created>
  <dc:creator>xfilecom</dc:creator>
  <dc:description/>
  <dc:language>en-US</dc:language>
  <cp:lastModifiedBy>강승식</cp:lastModifiedBy>
  <dcterms:modified xsi:type="dcterms:W3CDTF">2002-07-05T08:07:42Z</dcterms:modified>
  <cp:revision>29</cp:revision>
  <dc:subject/>
  <dc:title>경험 규칙에 의한 대명사의 Coreference Resolution</dc:title>
</cp:coreProperties>
</file>