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8912-8A10-49FE-9868-47DC1B06F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479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817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360" y="4093920"/>
            <a:ext cx="817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5ADA-A9E8-4EBF-AFF0-B24C0CCA1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479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398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78240" y="1904760"/>
            <a:ext cx="398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360" y="4093920"/>
            <a:ext cx="398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78240" y="4093920"/>
            <a:ext cx="398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87D1-637D-4144-8402-7C1688586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479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2631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53720" y="1904760"/>
            <a:ext cx="2631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16720" y="1904760"/>
            <a:ext cx="2631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360" y="4093920"/>
            <a:ext cx="2631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53720" y="4093920"/>
            <a:ext cx="2631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16720" y="4093920"/>
            <a:ext cx="2631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04AA-91D1-46FA-96CC-68010CD551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297F-52D7-4382-B54C-31C4A9E8E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479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90360" y="1904760"/>
            <a:ext cx="81723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869B3-FF1D-492D-AF11-1CA273711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479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8172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96EB-FB0B-420E-B22D-7C7ECC78C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479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398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78240" y="1904760"/>
            <a:ext cx="398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2807-D24D-4408-A4C9-1938C5117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479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D695B-4601-435D-BFC1-5191143E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90360" y="479160"/>
            <a:ext cx="8172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C4532-DC35-4E6B-A9B5-307CBEED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479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398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78240" y="1904760"/>
            <a:ext cx="398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360" y="4093920"/>
            <a:ext cx="398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8D103-2E51-4EFE-AF14-42B8CB7C2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479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360" y="1904760"/>
            <a:ext cx="81723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682C-2591-45A2-AEAE-DC25B9A94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479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398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78240" y="1904760"/>
            <a:ext cx="398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78240" y="4093920"/>
            <a:ext cx="398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C4D57-8959-4D52-8A30-58AA489F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479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398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78240" y="1904760"/>
            <a:ext cx="398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360" y="4093920"/>
            <a:ext cx="817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1CD04-AFA5-4E62-BCD7-4735F228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360" y="479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817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90360" y="4093920"/>
            <a:ext cx="817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336D8-AD9F-45CD-8584-0DF1C9CE3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479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398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78240" y="1904760"/>
            <a:ext cx="398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0360" y="4093920"/>
            <a:ext cx="398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78240" y="4093920"/>
            <a:ext cx="398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68CD-B81C-45F6-9627-C0504925D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479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2631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53720" y="1904760"/>
            <a:ext cx="2631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16720" y="1904760"/>
            <a:ext cx="2631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90360" y="4093920"/>
            <a:ext cx="2631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53720" y="4093920"/>
            <a:ext cx="2631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16720" y="4093920"/>
            <a:ext cx="2631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7EA4-D4D0-4999-8B8A-DB08912F8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479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8172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587A-B8FA-40D3-9182-DE9966EA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479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398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78240" y="1904760"/>
            <a:ext cx="398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A74B-9922-4D7E-84C8-5367CFC0F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479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FF32-9FF0-4693-A476-7977C3160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360" y="479160"/>
            <a:ext cx="8172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A9CE-B972-4A2A-8569-929B3FE80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479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398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78240" y="1904760"/>
            <a:ext cx="398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360" y="4093920"/>
            <a:ext cx="398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3039-22A5-4367-93D9-5AAB16722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479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398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78240" y="1904760"/>
            <a:ext cx="398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78240" y="4093920"/>
            <a:ext cx="398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C3BA-35B4-46E6-9711-52B992F2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479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398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8240" y="1904760"/>
            <a:ext cx="398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4093920"/>
            <a:ext cx="817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8611-D2EB-4811-AEB6-8F16333FD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479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904760"/>
            <a:ext cx="8172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1292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B84FD-92F6-442E-B9E2-AFD11537318E}" type="datetime">
              <a:rPr b="0" lang="en-US" sz="1400" spc="-1" strike="noStrike">
                <a:solidFill>
                  <a:srgbClr val="ffffff"/>
                </a:solidFill>
                <a:latin typeface="굴림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EA124-1C4C-463C-B4C8-46138E2D6DF4}" type="slidenum">
              <a:rPr b="0" lang="en-US" sz="14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6" name=""/>
            <p:cNvSpPr/>
            <p:nvPr/>
          </p:nvSpPr>
          <p:spPr>
            <a:xfrm>
              <a:off x="0" y="1523880"/>
              <a:ext cx="9905760" cy="0"/>
            </a:xfrm>
            <a:prstGeom prst="line">
              <a:avLst/>
            </a:prstGeom>
            <a:ln w="1260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90360" y="0"/>
              <a:ext cx="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42680" y="1295280"/>
              <a:ext cx="247320" cy="228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41292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FF58-3E46-48E9-89F7-3E8218BBB7C4}" type="datetime">
              <a:rPr b="0" lang="en-US" sz="1400" spc="-1" strike="noStrike">
                <a:solidFill>
                  <a:srgbClr val="ffffff"/>
                </a:solidFill>
                <a:latin typeface="굴림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굴림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99113-A1E3-451C-8CFC-79F6AB3038B6}" type="slidenum">
              <a:rPr b="0" lang="en-US" sz="1400" spc="-1" strike="noStrike">
                <a:solidFill>
                  <a:srgbClr val="ffffff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1402920" y="220932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50" name=""/>
            <p:cNvSpPr/>
            <p:nvPr/>
          </p:nvSpPr>
          <p:spPr>
            <a:xfrm>
              <a:off x="1485720" y="3048120"/>
              <a:ext cx="247320" cy="228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276720"/>
              <a:ext cx="9905760" cy="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33400" y="0"/>
              <a:ext cx="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99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2680" y="1219320"/>
            <a:ext cx="8420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cc"/>
                </a:solidFill>
                <a:latin typeface="굴림"/>
              </a:rPr>
              <a:t>한국어 수사어절의 유형분류 및 정규화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80720" y="4038480"/>
            <a:ext cx="68518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강   승   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대학교 컴퓨터학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BEAB-5AFB-498F-A341-27925C1FF97C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19D54AF8-25B8-429C-A226-3DD65DE70D10}" type="datetime1">
              <a:rPr lang="en-US"/>
              <a:t>07/28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cc"/>
                </a:solidFill>
                <a:latin typeface="굴림"/>
              </a:rPr>
              <a:t>수사어절의 다양성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37720" y="1980720"/>
            <a:ext cx="8070840" cy="412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한글</a:t>
            </a:r>
            <a:r>
              <a:rPr b="1" i="1" lang="en-US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/</a:t>
            </a:r>
            <a:r>
              <a:rPr b="1" i="1" lang="zh-CN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숫자 혼용</a:t>
            </a:r>
            <a:r>
              <a:rPr b="1" i="1" lang="en-US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, </a:t>
            </a:r>
            <a:r>
              <a:rPr b="1" i="1" lang="zh-CN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띄어쓰기 방법 등에 따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6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 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2350000</a:t>
            </a:r>
            <a:r>
              <a:rPr b="0" lang="zh-CN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원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, 2,350,000</a:t>
            </a:r>
            <a:r>
              <a:rPr b="0" lang="zh-CN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원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, 235</a:t>
            </a:r>
            <a:r>
              <a:rPr b="0" lang="zh-CN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만원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, 2350</a:t>
            </a:r>
            <a:r>
              <a:rPr b="0" lang="zh-CN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천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 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2</a:t>
            </a:r>
            <a:r>
              <a:rPr b="0" lang="zh-CN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백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35</a:t>
            </a:r>
            <a:r>
              <a:rPr b="0" lang="zh-CN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만원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, 2</a:t>
            </a:r>
            <a:r>
              <a:rPr b="0" lang="zh-CN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백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3</a:t>
            </a:r>
            <a:r>
              <a:rPr b="0" lang="zh-CN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십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5</a:t>
            </a:r>
            <a:r>
              <a:rPr b="0" lang="zh-CN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만원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, </a:t>
            </a:r>
            <a:r>
              <a:rPr b="0" lang="zh-CN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이백삼십오만원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 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2</a:t>
            </a:r>
            <a:r>
              <a:rPr b="0" lang="zh-CN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백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35</a:t>
            </a:r>
            <a:r>
              <a:rPr b="0" lang="zh-CN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만원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, 2</a:t>
            </a:r>
            <a:r>
              <a:rPr b="0" lang="zh-CN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백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3</a:t>
            </a:r>
            <a:r>
              <a:rPr b="0" lang="zh-CN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십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5</a:t>
            </a:r>
            <a:r>
              <a:rPr b="0" lang="zh-CN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만원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, 2</a:t>
            </a:r>
            <a:r>
              <a:rPr b="0" lang="zh-CN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백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3</a:t>
            </a:r>
            <a:r>
              <a:rPr b="0" lang="zh-CN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십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5</a:t>
            </a:r>
            <a:r>
              <a:rPr b="0" lang="zh-CN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만원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 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2</a:t>
            </a:r>
            <a:r>
              <a:rPr b="0" lang="zh-CN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백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3</a:t>
            </a:r>
            <a:r>
              <a:rPr b="0" lang="zh-CN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십 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5</a:t>
            </a:r>
            <a:r>
              <a:rPr b="0" lang="zh-CN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만원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, </a:t>
            </a:r>
            <a:r>
              <a:rPr b="0" lang="zh-CN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이백 삼십오만원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  </a:t>
            </a:r>
            <a:r>
              <a:rPr b="0" lang="zh-CN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이백삼십오 만원</a:t>
            </a:r>
            <a:r>
              <a:rPr b="0" lang="en-US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, </a:t>
            </a:r>
            <a:r>
              <a:rPr b="0" lang="zh-CN" sz="3200" spc="-1" strike="noStrike">
                <a:solidFill>
                  <a:srgbClr val="ffff99"/>
                </a:solidFill>
                <a:latin typeface="Times New Roman"/>
                <a:ea typeface="굴림체"/>
              </a:rPr>
              <a:t>이백 삼십 오만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70E0-50BC-46D9-972D-B13966F5B10C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9B1B92-469E-47FB-AE1B-439AFCC1109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cc"/>
                </a:solidFill>
                <a:latin typeface="굴림"/>
              </a:rPr>
              <a:t>수사어절의 유형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3047760" cy="4267080"/>
          </a:xfrm>
          <a:prstGeom prst="rect">
            <a:avLst/>
          </a:prstGeom>
          <a:noFill/>
          <a:ln w="9360">
            <a:solidFill>
              <a:srgbClr val="00ffcc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굴림체"/>
                <a:ea typeface="굴림체"/>
              </a:rPr>
              <a:t>단일어절 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23500000</a:t>
            </a:r>
            <a:r>
              <a:rPr b="0" lang="zh-CN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23,500,000</a:t>
            </a:r>
            <a:r>
              <a:rPr b="0" lang="zh-CN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2350</a:t>
            </a:r>
            <a:r>
              <a:rPr b="0" lang="zh-CN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만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2,350</a:t>
            </a:r>
            <a:r>
              <a:rPr b="0" lang="zh-CN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만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천</a:t>
            </a:r>
            <a:r>
              <a:rPr b="0" lang="en-US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백</a:t>
            </a:r>
            <a:r>
              <a:rPr b="0" lang="en-US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50</a:t>
            </a:r>
            <a:r>
              <a:rPr b="0" lang="zh-CN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만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천</a:t>
            </a:r>
            <a:r>
              <a:rPr b="0" lang="en-US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백</a:t>
            </a:r>
            <a:r>
              <a:rPr b="0" lang="en-US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십만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이천삼백오십만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1905120"/>
            <a:ext cx="3124440" cy="4267080"/>
          </a:xfrm>
          <a:prstGeom prst="rect">
            <a:avLst/>
          </a:prstGeom>
          <a:noFill/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굴림체"/>
                <a:ea typeface="굴림체"/>
              </a:rPr>
              <a:t>복수어절 유형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천 </a:t>
            </a:r>
            <a:r>
              <a:rPr b="0" lang="en-US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백 </a:t>
            </a:r>
            <a:r>
              <a:rPr b="0" lang="en-US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십만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천 </a:t>
            </a:r>
            <a:r>
              <a:rPr b="0" lang="en-US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백 </a:t>
            </a:r>
            <a:r>
              <a:rPr b="0" lang="en-US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50</a:t>
            </a:r>
            <a:r>
              <a:rPr b="0" lang="zh-CN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만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천</a:t>
            </a:r>
            <a:r>
              <a:rPr b="0" lang="en-US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백 </a:t>
            </a:r>
            <a:r>
              <a:rPr b="0" lang="en-US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십만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천</a:t>
            </a:r>
            <a:r>
              <a:rPr b="0" lang="en-US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백</a:t>
            </a:r>
            <a:r>
              <a:rPr b="0" lang="en-US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십</a:t>
            </a:r>
            <a:r>
              <a:rPr b="0" lang="en-US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7</a:t>
            </a:r>
            <a:r>
              <a:rPr b="0" lang="zh-CN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억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천</a:t>
            </a:r>
            <a:r>
              <a:rPr b="0" lang="en-US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백</a:t>
            </a:r>
            <a:r>
              <a:rPr b="0" lang="en-US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십만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이천삼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오십칠만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이천 삼백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오십 칠만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477120" y="1905120"/>
            <a:ext cx="3047760" cy="4267080"/>
          </a:xfrm>
          <a:prstGeom prst="rect">
            <a:avLst/>
          </a:prstGeom>
          <a:noFill/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 u="sng">
                <a:solidFill>
                  <a:srgbClr val="ffffff"/>
                </a:solidFill>
                <a:uFillTx/>
                <a:latin typeface="굴림체"/>
                <a:ea typeface="굴림체"/>
              </a:rPr>
              <a:t>오류어절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백 삼십오만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백 </a:t>
            </a:r>
            <a:r>
              <a:rPr b="0" lang="en-US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십오만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백삼십 </a:t>
            </a:r>
            <a:r>
              <a:rPr b="0" lang="en-US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만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백 삼십 </a:t>
            </a:r>
            <a:r>
              <a:rPr b="0" lang="en-US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만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이백 삼십</a:t>
            </a:r>
            <a:r>
              <a:rPr b="0" lang="en-US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만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이백</a:t>
            </a:r>
            <a:r>
              <a:rPr b="0" lang="en-US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십오 만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이백 </a:t>
            </a:r>
            <a:r>
              <a:rPr b="0" lang="en-US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십 </a:t>
            </a:r>
            <a:r>
              <a:rPr b="0" lang="en-US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5</a:t>
            </a:r>
            <a:r>
              <a:rPr b="0" lang="zh-CN" sz="2800" spc="-1" strike="noStrike">
                <a:solidFill>
                  <a:srgbClr val="ffffff"/>
                </a:solidFill>
                <a:latin typeface="굴림체"/>
                <a:ea typeface="굴림체"/>
              </a:rPr>
              <a:t>만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7B18-0CBF-43CC-86CA-13FCAF73025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E8A00A-108C-4949-85BB-B2883A7C91C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457200"/>
            <a:ext cx="84200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cc"/>
                </a:solidFill>
                <a:latin typeface="굴림"/>
              </a:rPr>
              <a:t>수사어절 정규화 필요성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90720" y="2057040"/>
            <a:ext cx="811512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ffff"/>
                </a:solidFill>
                <a:latin typeface="굴림체"/>
                <a:ea typeface="굴림체"/>
              </a:rPr>
              <a:t>자동색인 </a:t>
            </a:r>
            <a:r>
              <a:rPr b="0" lang="ko-KR" sz="3600" spc="-1" strike="noStrike">
                <a:solidFill>
                  <a:srgbClr val="ffffff"/>
                </a:solidFill>
                <a:latin typeface="굴림체"/>
                <a:ea typeface="굴림체"/>
              </a:rPr>
              <a:t>: </a:t>
            </a:r>
            <a:r>
              <a:rPr b="0" lang="ko-KR" sz="3600" spc="-1" strike="noStrike">
                <a:solidFill>
                  <a:srgbClr val="ffffff"/>
                </a:solidFill>
                <a:latin typeface="굴림체"/>
                <a:ea typeface="굴림체"/>
              </a:rPr>
              <a:t>불용어 처리 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ffff"/>
                </a:solidFill>
                <a:latin typeface="굴림체"/>
                <a:ea typeface="굴림체"/>
              </a:rPr>
              <a:t>기계번역 </a:t>
            </a:r>
            <a:r>
              <a:rPr b="0" lang="ko-KR" sz="3600" spc="-1" strike="noStrike">
                <a:solidFill>
                  <a:srgbClr val="ffffff"/>
                </a:solidFill>
                <a:latin typeface="굴림체"/>
                <a:ea typeface="굴림체"/>
              </a:rPr>
              <a:t>: </a:t>
            </a:r>
            <a:r>
              <a:rPr b="0" lang="ko-KR" sz="3600" spc="-1" strike="noStrike">
                <a:solidFill>
                  <a:srgbClr val="ffffff"/>
                </a:solidFill>
                <a:latin typeface="굴림체"/>
                <a:ea typeface="굴림체"/>
              </a:rPr>
              <a:t>대역어 선정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ffff"/>
                </a:solidFill>
                <a:latin typeface="굴림체"/>
                <a:ea typeface="굴림체"/>
              </a:rPr>
              <a:t>맞춤법 검사 </a:t>
            </a:r>
            <a:r>
              <a:rPr b="0" lang="ko-KR" sz="3600" spc="-1" strike="noStrike">
                <a:solidFill>
                  <a:srgbClr val="ffffff"/>
                </a:solidFill>
                <a:latin typeface="굴림체"/>
                <a:ea typeface="굴림체"/>
              </a:rPr>
              <a:t>: </a:t>
            </a:r>
            <a:r>
              <a:rPr b="0" lang="ko-KR" sz="3600" spc="-1" strike="noStrike">
                <a:solidFill>
                  <a:srgbClr val="ffffff"/>
                </a:solidFill>
                <a:latin typeface="굴림체"/>
                <a:ea typeface="굴림체"/>
              </a:rPr>
              <a:t>오류어 검사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ffff"/>
                </a:solidFill>
                <a:latin typeface="굴림체"/>
                <a:ea typeface="굴림체"/>
              </a:rPr>
              <a:t>전자거래 시스템 </a:t>
            </a:r>
            <a:r>
              <a:rPr b="0" lang="ko-KR" sz="3600" spc="-1" strike="noStrike">
                <a:solidFill>
                  <a:srgbClr val="ffffff"/>
                </a:solidFill>
                <a:latin typeface="굴림체"/>
                <a:ea typeface="굴림체"/>
              </a:rPr>
              <a:t>: </a:t>
            </a:r>
            <a:r>
              <a:rPr b="0" lang="ko-KR" sz="3600" spc="-1" strike="noStrike">
                <a:solidFill>
                  <a:srgbClr val="ffffff"/>
                </a:solidFill>
                <a:latin typeface="굴림체"/>
                <a:ea typeface="굴림체"/>
              </a:rPr>
              <a:t>가격범위 인식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E029-9121-4CF1-B241-9EA843E9A9A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4296C2-550D-495B-9EBB-12E73E75EB6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57200" y="914400"/>
            <a:ext cx="8640000" cy="2089800"/>
            <a:chOff x="457200" y="914400"/>
            <a:chExt cx="8640000" cy="2089800"/>
          </a:xfrm>
        </p:grpSpPr>
        <p:sp>
          <p:nvSpPr>
            <p:cNvPr id="101" name=""/>
            <p:cNvSpPr/>
            <p:nvPr/>
          </p:nvSpPr>
          <p:spPr>
            <a:xfrm>
              <a:off x="1115640" y="2044440"/>
              <a:ext cx="1649160" cy="457200"/>
            </a:xfrm>
            <a:prstGeom prst="roundRect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N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63320" y="2197080"/>
              <a:ext cx="165240" cy="15228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352600" y="2171520"/>
              <a:ext cx="247320" cy="2286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35040" y="2247840"/>
              <a:ext cx="82080" cy="7632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3258720" y="2044440"/>
              <a:ext cx="1648800" cy="457200"/>
              <a:chOff x="3258720" y="2044440"/>
              <a:chExt cx="1648800" cy="457200"/>
            </a:xfrm>
          </p:grpSpPr>
          <p:sp>
            <p:nvSpPr>
              <p:cNvPr id="106" name=""/>
              <p:cNvSpPr/>
              <p:nvPr/>
            </p:nvSpPr>
            <p:spPr>
              <a:xfrm>
                <a:off x="3258720" y="2044440"/>
                <a:ext cx="1648800" cy="457200"/>
              </a:xfrm>
              <a:prstGeom prst="roundRect">
                <a:avLst>
                  <a:gd name="adj" fmla="val 5000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N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3506040" y="2196720"/>
                <a:ext cx="164880" cy="15264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495320" y="2171520"/>
                <a:ext cx="247320" cy="2286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77760" y="2247480"/>
                <a:ext cx="82440" cy="763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5401440" y="2044440"/>
              <a:ext cx="1648800" cy="457200"/>
              <a:chOff x="5401440" y="2044440"/>
              <a:chExt cx="1648800" cy="457200"/>
            </a:xfrm>
          </p:grpSpPr>
          <p:sp>
            <p:nvSpPr>
              <p:cNvPr id="111" name=""/>
              <p:cNvSpPr/>
              <p:nvPr/>
            </p:nvSpPr>
            <p:spPr>
              <a:xfrm>
                <a:off x="5401440" y="2044440"/>
                <a:ext cx="1648800" cy="457200"/>
              </a:xfrm>
              <a:prstGeom prst="roundRect">
                <a:avLst>
                  <a:gd name="adj" fmla="val 5000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N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648760" y="2196720"/>
                <a:ext cx="164880" cy="15264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638040" y="2171520"/>
                <a:ext cx="247320" cy="2286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6720480" y="2247480"/>
                <a:ext cx="82440" cy="763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2600280" y="2273040"/>
              <a:ext cx="906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743000" y="2273040"/>
              <a:ext cx="9061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7449840" y="2044440"/>
              <a:ext cx="1647360" cy="457200"/>
              <a:chOff x="7449840" y="2044440"/>
              <a:chExt cx="1647360" cy="457200"/>
            </a:xfrm>
          </p:grpSpPr>
          <p:sp>
            <p:nvSpPr>
              <p:cNvPr id="118" name=""/>
              <p:cNvSpPr/>
              <p:nvPr/>
            </p:nvSpPr>
            <p:spPr>
              <a:xfrm>
                <a:off x="7449840" y="2044440"/>
                <a:ext cx="1647360" cy="457200"/>
              </a:xfrm>
              <a:prstGeom prst="roundRect">
                <a:avLst>
                  <a:gd name="adj" fmla="val 50000"/>
                </a:avLst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 </a:t>
                </a:r>
                <a:r>
                  <a:rPr b="0" i="1" lang="en-US" sz="2400" spc="-1" strike="noStrike">
                    <a:solidFill>
                      <a:srgbClr val="ffffff"/>
                    </a:solidFill>
                    <a:latin typeface="Times New Roman"/>
                  </a:rPr>
                  <a:t>N 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696800" y="2196720"/>
                <a:ext cx="164880" cy="15264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685360" y="2171520"/>
                <a:ext cx="246960" cy="2286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767800" y="2247480"/>
                <a:ext cx="82440" cy="763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6886080" y="2273040"/>
              <a:ext cx="823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31160" y="1739880"/>
              <a:ext cx="3132000" cy="507960"/>
            </a:xfrm>
            <a:custGeom>
              <a:avLst/>
              <a:gdLst/>
              <a:ahLst/>
              <a:rect l="l" t="t" r="r" b="b"/>
              <a:pathLst>
                <a:path w="1920" h="536">
                  <a:moveTo>
                    <a:pt x="0" y="488"/>
                  </a:moveTo>
                  <a:cubicBezTo>
                    <a:pt x="320" y="244"/>
                    <a:pt x="640" y="0"/>
                    <a:pt x="960" y="8"/>
                  </a:cubicBezTo>
                  <a:cubicBezTo>
                    <a:pt x="1280" y="16"/>
                    <a:pt x="1600" y="276"/>
                    <a:pt x="1920" y="53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17480" y="1206360"/>
              <a:ext cx="5191920" cy="1079640"/>
            </a:xfrm>
            <a:custGeom>
              <a:avLst/>
              <a:gdLst/>
              <a:ahLst/>
              <a:rect l="l" t="t" r="r" b="b"/>
              <a:pathLst>
                <a:path w="1920" h="536">
                  <a:moveTo>
                    <a:pt x="0" y="488"/>
                  </a:moveTo>
                  <a:cubicBezTo>
                    <a:pt x="320" y="244"/>
                    <a:pt x="640" y="0"/>
                    <a:pt x="960" y="8"/>
                  </a:cubicBezTo>
                  <a:cubicBezTo>
                    <a:pt x="1280" y="16"/>
                    <a:pt x="1600" y="276"/>
                    <a:pt x="1920" y="53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723760" y="1993680"/>
              <a:ext cx="493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</a:rPr>
                <a:t>조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850560" y="1434960"/>
              <a:ext cx="493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</a:rPr>
                <a:t>억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97720" y="914400"/>
              <a:ext cx="49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</a:rPr>
                <a:t>만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894200" y="1968480"/>
              <a:ext cx="493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</a:rPr>
                <a:t>억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982200" y="1981080"/>
              <a:ext cx="495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</a:rPr>
                <a:t>만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988240" y="2666880"/>
              <a:ext cx="493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Times New Roman"/>
                </a:rPr>
                <a:t>만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2273040"/>
              <a:ext cx="658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26960" y="3492360"/>
            <a:ext cx="8749800" cy="2877480"/>
            <a:chOff x="426960" y="3492360"/>
            <a:chExt cx="8749800" cy="2877480"/>
          </a:xfrm>
        </p:grpSpPr>
        <p:grpSp>
          <p:nvGrpSpPr>
            <p:cNvPr id="133" name=""/>
            <p:cNvGrpSpPr/>
            <p:nvPr/>
          </p:nvGrpSpPr>
          <p:grpSpPr>
            <a:xfrm>
              <a:off x="8930160" y="4610160"/>
              <a:ext cx="246600" cy="228600"/>
              <a:chOff x="8930160" y="4610160"/>
              <a:chExt cx="246600" cy="228600"/>
            </a:xfrm>
          </p:grpSpPr>
          <p:sp>
            <p:nvSpPr>
              <p:cNvPr id="134" name=""/>
              <p:cNvSpPr/>
              <p:nvPr/>
            </p:nvSpPr>
            <p:spPr>
              <a:xfrm>
                <a:off x="8930160" y="4610160"/>
                <a:ext cx="246600" cy="2286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9012600" y="4686120"/>
                <a:ext cx="81720" cy="7632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8010000" y="4724280"/>
              <a:ext cx="9064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426960" y="3492360"/>
              <a:ext cx="8324280" cy="2877480"/>
              <a:chOff x="426960" y="3492360"/>
              <a:chExt cx="8324280" cy="2877480"/>
            </a:xfrm>
          </p:grpSpPr>
          <p:grpSp>
            <p:nvGrpSpPr>
              <p:cNvPr id="138" name=""/>
              <p:cNvGrpSpPr/>
              <p:nvPr/>
            </p:nvGrpSpPr>
            <p:grpSpPr>
              <a:xfrm>
                <a:off x="1992960" y="4610160"/>
                <a:ext cx="246600" cy="228600"/>
                <a:chOff x="1992960" y="4610160"/>
                <a:chExt cx="246600" cy="22860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992960" y="4610160"/>
                  <a:ext cx="246600" cy="2286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2075400" y="4686120"/>
                  <a:ext cx="81720" cy="763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" name=""/>
              <p:cNvSpPr/>
              <p:nvPr/>
            </p:nvSpPr>
            <p:spPr>
              <a:xfrm>
                <a:off x="921240" y="4660920"/>
                <a:ext cx="164880" cy="15228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2" name=""/>
              <p:cNvGrpSpPr/>
              <p:nvPr/>
            </p:nvGrpSpPr>
            <p:grpSpPr>
              <a:xfrm>
                <a:off x="3078000" y="4610160"/>
                <a:ext cx="246600" cy="228600"/>
                <a:chOff x="3078000" y="4610160"/>
                <a:chExt cx="246600" cy="228600"/>
              </a:xfrm>
            </p:grpSpPr>
            <p:sp>
              <p:nvSpPr>
                <p:cNvPr id="143" name=""/>
                <p:cNvSpPr/>
                <p:nvPr/>
              </p:nvSpPr>
              <p:spPr>
                <a:xfrm>
                  <a:off x="3078000" y="4610160"/>
                  <a:ext cx="246600" cy="2286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3160440" y="4686120"/>
                  <a:ext cx="81720" cy="763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5" name=""/>
              <p:cNvGrpSpPr/>
              <p:nvPr/>
            </p:nvGrpSpPr>
            <p:grpSpPr>
              <a:xfrm>
                <a:off x="4300920" y="4610160"/>
                <a:ext cx="246600" cy="228600"/>
                <a:chOff x="4300920" y="4610160"/>
                <a:chExt cx="246600" cy="2286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4300920" y="4610160"/>
                  <a:ext cx="246600" cy="2286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4383360" y="4686120"/>
                  <a:ext cx="81720" cy="763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8" name=""/>
              <p:cNvGrpSpPr/>
              <p:nvPr/>
            </p:nvGrpSpPr>
            <p:grpSpPr>
              <a:xfrm>
                <a:off x="5454360" y="4610160"/>
                <a:ext cx="246600" cy="228600"/>
                <a:chOff x="5454360" y="4610160"/>
                <a:chExt cx="246600" cy="228600"/>
              </a:xfrm>
            </p:grpSpPr>
            <p:sp>
              <p:nvSpPr>
                <p:cNvPr id="149" name=""/>
                <p:cNvSpPr/>
                <p:nvPr/>
              </p:nvSpPr>
              <p:spPr>
                <a:xfrm>
                  <a:off x="5454360" y="4610160"/>
                  <a:ext cx="246600" cy="2286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5536800" y="4686120"/>
                  <a:ext cx="81720" cy="763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6649560" y="4610160"/>
                <a:ext cx="246600" cy="228600"/>
                <a:chOff x="6649560" y="4610160"/>
                <a:chExt cx="246600" cy="22860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6649560" y="4610160"/>
                  <a:ext cx="246600" cy="2286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6732000" y="4686120"/>
                  <a:ext cx="81720" cy="763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7776000" y="4610160"/>
                <a:ext cx="246600" cy="228600"/>
                <a:chOff x="7776000" y="4610160"/>
                <a:chExt cx="246600" cy="22860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7776000" y="4610160"/>
                  <a:ext cx="246600" cy="2286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7858440" y="4686120"/>
                  <a:ext cx="81720" cy="763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7200" bIns="72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1731960" y="4064040"/>
                <a:ext cx="494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Times New Roman"/>
                  </a:rPr>
                  <a:t>천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1086480" y="4737240"/>
                <a:ext cx="906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2240280" y="4724280"/>
                <a:ext cx="82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393720" y="4724280"/>
                <a:ext cx="906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547880" y="4724280"/>
                <a:ext cx="906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729400" y="4724280"/>
                <a:ext cx="906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883200" y="4724280"/>
                <a:ext cx="9064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26960" y="4724280"/>
                <a:ext cx="49428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2899440" y="5410080"/>
                <a:ext cx="494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Times New Roman"/>
                  </a:rPr>
                  <a:t>백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171520" y="4788000"/>
                <a:ext cx="3310200" cy="241200"/>
              </a:xfrm>
              <a:custGeom>
                <a:avLst/>
                <a:gdLst/>
                <a:ahLst/>
                <a:rect l="l" t="t" r="r" b="b"/>
                <a:pathLst>
                  <a:path w="1920" h="536">
                    <a:moveTo>
                      <a:pt x="0" y="488"/>
                    </a:moveTo>
                    <a:cubicBezTo>
                      <a:pt x="320" y="244"/>
                      <a:pt x="640" y="0"/>
                      <a:pt x="960" y="8"/>
                    </a:cubicBezTo>
                    <a:cubicBezTo>
                      <a:pt x="1280" y="16"/>
                      <a:pt x="1600" y="276"/>
                      <a:pt x="1920" y="53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600360" y="4952880"/>
                <a:ext cx="494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Times New Roman"/>
                  </a:rPr>
                  <a:t>백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229200" y="4305240"/>
                <a:ext cx="2307600" cy="304920"/>
              </a:xfrm>
              <a:custGeom>
                <a:avLst/>
                <a:gdLst/>
                <a:ahLst/>
                <a:rect l="l" t="t" r="r" b="b"/>
                <a:pathLst>
                  <a:path w="1920" h="536">
                    <a:moveTo>
                      <a:pt x="0" y="488"/>
                    </a:moveTo>
                    <a:cubicBezTo>
                      <a:pt x="320" y="244"/>
                      <a:pt x="640" y="0"/>
                      <a:pt x="960" y="8"/>
                    </a:cubicBezTo>
                    <a:cubicBezTo>
                      <a:pt x="1280" y="16"/>
                      <a:pt x="1600" y="276"/>
                      <a:pt x="1920" y="53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053600" y="4051440"/>
                <a:ext cx="494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Times New Roman"/>
                  </a:rPr>
                  <a:t>백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712760" y="4432320"/>
                <a:ext cx="494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Times New Roman"/>
                  </a:rPr>
                  <a:t>백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003680" y="4381560"/>
                <a:ext cx="2060280" cy="304920"/>
              </a:xfrm>
              <a:custGeom>
                <a:avLst/>
                <a:gdLst/>
                <a:ahLst/>
                <a:rect l="l" t="t" r="r" b="b"/>
                <a:pathLst>
                  <a:path w="1920" h="536">
                    <a:moveTo>
                      <a:pt x="0" y="488"/>
                    </a:moveTo>
                    <a:cubicBezTo>
                      <a:pt x="320" y="244"/>
                      <a:pt x="640" y="0"/>
                      <a:pt x="960" y="8"/>
                    </a:cubicBezTo>
                    <a:cubicBezTo>
                      <a:pt x="1280" y="16"/>
                      <a:pt x="1600" y="276"/>
                      <a:pt x="1920" y="53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1031400" y="4813200"/>
                <a:ext cx="4450320" cy="673200"/>
              </a:xfrm>
              <a:custGeom>
                <a:avLst/>
                <a:gdLst/>
                <a:ahLst/>
                <a:rect l="l" t="t" r="r" b="b"/>
                <a:pathLst>
                  <a:path w="2592" h="672">
                    <a:moveTo>
                      <a:pt x="0" y="0"/>
                    </a:moveTo>
                    <a:cubicBezTo>
                      <a:pt x="432" y="336"/>
                      <a:pt x="864" y="672"/>
                      <a:pt x="1296" y="672"/>
                    </a:cubicBezTo>
                    <a:cubicBezTo>
                      <a:pt x="1728" y="672"/>
                      <a:pt x="2160" y="336"/>
                      <a:pt x="2592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1237320" y="4457880"/>
                <a:ext cx="672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1~9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476520" y="4444920"/>
                <a:ext cx="67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1~9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784120" y="4432320"/>
                <a:ext cx="672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1~9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078040" y="4444920"/>
                <a:ext cx="673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ff"/>
                    </a:solidFill>
                    <a:latin typeface="Times New Roman"/>
                  </a:rPr>
                  <a:t>1~9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7020720" y="4432320"/>
                <a:ext cx="494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Times New Roman"/>
                  </a:rPr>
                  <a:t>십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976320" y="4813200"/>
                <a:ext cx="6882120" cy="1295640"/>
              </a:xfrm>
              <a:custGeom>
                <a:avLst/>
                <a:gdLst/>
                <a:ahLst/>
                <a:rect l="l" t="t" r="r" b="b"/>
                <a:pathLst>
                  <a:path w="2592" h="672">
                    <a:moveTo>
                      <a:pt x="0" y="0"/>
                    </a:moveTo>
                    <a:cubicBezTo>
                      <a:pt x="432" y="336"/>
                      <a:pt x="864" y="672"/>
                      <a:pt x="1296" y="672"/>
                    </a:cubicBezTo>
                    <a:cubicBezTo>
                      <a:pt x="1728" y="672"/>
                      <a:pt x="2160" y="336"/>
                      <a:pt x="2592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4163400" y="6032520"/>
                <a:ext cx="494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Times New Roman"/>
                  </a:rPr>
                  <a:t>십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2157480" y="4800600"/>
                <a:ext cx="5686920" cy="762120"/>
              </a:xfrm>
              <a:custGeom>
                <a:avLst/>
                <a:gdLst/>
                <a:ahLst/>
                <a:rect l="l" t="t" r="r" b="b"/>
                <a:pathLst>
                  <a:path w="2592" h="672">
                    <a:moveTo>
                      <a:pt x="0" y="0"/>
                    </a:moveTo>
                    <a:cubicBezTo>
                      <a:pt x="432" y="336"/>
                      <a:pt x="864" y="672"/>
                      <a:pt x="1296" y="672"/>
                    </a:cubicBezTo>
                    <a:cubicBezTo>
                      <a:pt x="1728" y="672"/>
                      <a:pt x="2160" y="336"/>
                      <a:pt x="2592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712760" y="5499000"/>
                <a:ext cx="494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Times New Roman"/>
                  </a:rPr>
                  <a:t>십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3229200" y="3797280"/>
                <a:ext cx="4697640" cy="812880"/>
              </a:xfrm>
              <a:custGeom>
                <a:avLst/>
                <a:gdLst/>
                <a:ahLst/>
                <a:rect l="l" t="t" r="r" b="b"/>
                <a:pathLst>
                  <a:path w="2592" h="672">
                    <a:moveTo>
                      <a:pt x="0" y="0"/>
                    </a:moveTo>
                    <a:cubicBezTo>
                      <a:pt x="432" y="336"/>
                      <a:pt x="864" y="672"/>
                      <a:pt x="1296" y="672"/>
                    </a:cubicBezTo>
                    <a:cubicBezTo>
                      <a:pt x="1728" y="672"/>
                      <a:pt x="2160" y="336"/>
                      <a:pt x="2592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371920" y="3492360"/>
                <a:ext cx="494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Times New Roman"/>
                  </a:rPr>
                  <a:t>십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322720" y="4419720"/>
                <a:ext cx="494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Times New Roman"/>
                  </a:rPr>
                  <a:t>천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flipV="1">
                <a:off x="5564160" y="4191120"/>
                <a:ext cx="2279880" cy="419040"/>
              </a:xfrm>
              <a:custGeom>
                <a:avLst/>
                <a:gdLst/>
                <a:ahLst/>
                <a:rect l="l" t="t" r="r" b="b"/>
                <a:pathLst>
                  <a:path w="2592" h="672">
                    <a:moveTo>
                      <a:pt x="0" y="0"/>
                    </a:moveTo>
                    <a:cubicBezTo>
                      <a:pt x="432" y="336"/>
                      <a:pt x="864" y="672"/>
                      <a:pt x="1296" y="672"/>
                    </a:cubicBezTo>
                    <a:cubicBezTo>
                      <a:pt x="1728" y="672"/>
                      <a:pt x="2160" y="336"/>
                      <a:pt x="2592" y="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512040" y="4140360"/>
                <a:ext cx="494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600" spc="-1" strike="noStrike">
                    <a:solidFill>
                      <a:srgbClr val="ffffff"/>
                    </a:solidFill>
                    <a:latin typeface="Times New Roman"/>
                  </a:rPr>
                  <a:t>십</a:t>
                </a:r>
                <a:endParaRPr b="0" lang="en-US" sz="16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7" name=""/>
          <p:cNvSpPr/>
          <p:nvPr/>
        </p:nvSpPr>
        <p:spPr>
          <a:xfrm>
            <a:off x="4724280" y="2362320"/>
            <a:ext cx="2971800" cy="609480"/>
          </a:xfrm>
          <a:custGeom>
            <a:avLst/>
            <a:gdLst/>
            <a:ahLst/>
            <a:rect l="l" t="t" r="r" b="b"/>
            <a:pathLst>
              <a:path w="1104" h="432">
                <a:moveTo>
                  <a:pt x="0" y="0"/>
                </a:moveTo>
                <a:cubicBezTo>
                  <a:pt x="172" y="216"/>
                  <a:pt x="344" y="432"/>
                  <a:pt x="528" y="432"/>
                </a:cubicBezTo>
                <a:cubicBezTo>
                  <a:pt x="712" y="432"/>
                  <a:pt x="908" y="216"/>
                  <a:pt x="1104" y="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68315-E735-4FA5-864E-7471C41AA7B8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66FCB4-C4B1-40F6-AE6F-97548B24ECC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4200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cc"/>
                </a:solidFill>
                <a:latin typeface="굴림"/>
              </a:rPr>
              <a:t>수사어절 인식 알고리즘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1828800"/>
            <a:ext cx="5638680" cy="4495680"/>
          </a:xfrm>
          <a:prstGeom prst="rect">
            <a:avLst/>
          </a:prstGeom>
          <a:noFill/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Algorithm is_num_string(char *word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while (*word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    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if (*word == ‘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천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/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백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/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십’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       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Adjust sip; a19=h19=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    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else if (*word == ‘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조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/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억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/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만’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       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Adjust man; sip=1000; a19=h19=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    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else if (*word == ‘1-9’ or ‘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일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-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구’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       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a19 = 1;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또는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h19 = 1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    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else if (*word == ‘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원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/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달러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/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엔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/…’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       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return “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수사어절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+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명사”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    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el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       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if (n_h19 &gt; 1 || n_a19 &gt; 3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	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   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return “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수사어절 추정”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       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else return “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수사어절 아님”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    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word++; /*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다음 음절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or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숫자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*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돋움"/>
              </a:rPr>
              <a:t>      </a:t>
            </a:r>
            <a:r>
              <a:rPr b="0" lang="ko-KR" sz="2000" spc="-1" strike="noStrike">
                <a:solidFill>
                  <a:srgbClr val="ffffff"/>
                </a:solidFill>
                <a:latin typeface="Arial"/>
                <a:ea typeface="돋움"/>
              </a:rPr>
              <a:t>return 1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1828800"/>
            <a:ext cx="3353040" cy="5214600"/>
          </a:xfrm>
          <a:prstGeom prst="rect">
            <a:avLst/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int man=100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   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/* ‘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조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/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억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/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만’ 순서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*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int sip=100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   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/* ‘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천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/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백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/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십’ 순서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*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int a19=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   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/* ‘1-9’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발견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? *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int h19=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   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/* ‘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일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-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구’ 발견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? *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int n_a19=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   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/* ‘1-9’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의 개수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*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int n_h19=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   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/* ‘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일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-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구’ 개수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*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C5F3-F11A-4E44-B25F-58BFAA6A5463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BA5254-BC1F-48B1-9861-2FAD65F1364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cc"/>
                </a:solidFill>
                <a:latin typeface="굴림"/>
              </a:rPr>
              <a:t>수사어절 정규화 예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92" name=""/>
          <p:cNvSpPr/>
          <p:nvPr/>
        </p:nvSpPr>
        <p:spPr>
          <a:xfrm>
            <a:off x="660240" y="1752480"/>
            <a:ext cx="87123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5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체"/>
                <a:ea typeface="굴림체"/>
              </a:rPr>
              <a:t>	</a:t>
            </a:r>
            <a:r>
              <a:rPr b="1" lang="ko-KR" sz="3200" spc="-1" strike="noStrike">
                <a:solidFill>
                  <a:srgbClr val="ffffff"/>
                </a:solidFill>
                <a:latin typeface="굴림체"/>
                <a:ea typeface="굴림체"/>
              </a:rPr>
              <a:t>이십삼</a:t>
            </a:r>
            <a:r>
              <a:rPr b="1" lang="ko-KR" sz="3200" spc="-1" strike="noStrike" u="sng">
                <a:solidFill>
                  <a:srgbClr val="ffffff"/>
                </a:solidFill>
                <a:uFillTx/>
                <a:latin typeface="굴림체"/>
                <a:ea typeface="굴림체"/>
              </a:rPr>
              <a:t>억</a:t>
            </a:r>
            <a:r>
              <a:rPr b="1" lang="ko-KR" sz="3200" spc="-1" strike="noStrike">
                <a:solidFill>
                  <a:srgbClr val="ffffff"/>
                </a:solidFill>
                <a:latin typeface="굴림체"/>
                <a:ea typeface="굴림체"/>
              </a:rPr>
              <a:t>사천오백육십</a:t>
            </a:r>
            <a:r>
              <a:rPr b="1" lang="ko-KR" sz="3200" spc="-1" strike="noStrike" u="sng">
                <a:solidFill>
                  <a:srgbClr val="ffffff"/>
                </a:solidFill>
                <a:uFillTx/>
                <a:latin typeface="굴림체"/>
                <a:ea typeface="굴림체"/>
              </a:rPr>
              <a:t>만</a:t>
            </a:r>
            <a:r>
              <a:rPr b="1" lang="ko-KR" sz="3200" spc="-1" strike="noStrike">
                <a:solidFill>
                  <a:srgbClr val="ffffff"/>
                </a:solidFill>
                <a:latin typeface="굴림체"/>
                <a:ea typeface="굴림체"/>
              </a:rPr>
              <a:t>칠천백팔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체"/>
                <a:ea typeface="굴림체"/>
              </a:rPr>
              <a:t>	</a:t>
            </a:r>
            <a:r>
              <a:rPr b="1" lang="ko-KR" sz="3200" spc="-1" strike="noStrike" u="sng">
                <a:solidFill>
                  <a:srgbClr val="ffffff"/>
                </a:solidFill>
                <a:uFillTx/>
                <a:latin typeface="굴림체"/>
                <a:ea typeface="굴림체"/>
              </a:rPr>
              <a:t>2</a:t>
            </a:r>
            <a:r>
              <a:rPr b="1" lang="ko-KR" sz="3200" spc="-1" strike="noStrike" u="sng">
                <a:solidFill>
                  <a:srgbClr val="ffffff"/>
                </a:solidFill>
                <a:uFillTx/>
                <a:latin typeface="굴림체"/>
                <a:ea typeface="굴림체"/>
              </a:rPr>
              <a:t>십</a:t>
            </a:r>
            <a:r>
              <a:rPr b="1" lang="ko-KR" sz="3200" spc="-1" strike="noStrike" u="sng">
                <a:solidFill>
                  <a:srgbClr val="ffffff"/>
                </a:solidFill>
                <a:uFillTx/>
                <a:latin typeface="굴림체"/>
                <a:ea typeface="굴림체"/>
              </a:rPr>
              <a:t>3</a:t>
            </a:r>
            <a:r>
              <a:rPr b="1" lang="ko-KR" sz="3200" spc="-1" strike="noStrike">
                <a:solidFill>
                  <a:srgbClr val="ffffff"/>
                </a:solidFill>
                <a:latin typeface="굴림체"/>
                <a:ea typeface="굴림체"/>
              </a:rPr>
              <a:t> </a:t>
            </a:r>
            <a:r>
              <a:rPr b="1" lang="ko-KR" sz="3200" spc="-1" strike="noStrike">
                <a:solidFill>
                  <a:srgbClr val="ffffff"/>
                </a:solidFill>
                <a:latin typeface="굴림체"/>
                <a:ea typeface="굴림체"/>
              </a:rPr>
              <a:t>억 </a:t>
            </a:r>
            <a:r>
              <a:rPr b="1" lang="ko-KR" sz="3200" spc="-1" strike="noStrike" u="sng">
                <a:solidFill>
                  <a:srgbClr val="ffffff"/>
                </a:solidFill>
                <a:uFillTx/>
                <a:latin typeface="굴림체"/>
                <a:ea typeface="굴림체"/>
              </a:rPr>
              <a:t>4</a:t>
            </a:r>
            <a:r>
              <a:rPr b="1" lang="ko-KR" sz="3200" spc="-1" strike="noStrike" u="sng">
                <a:solidFill>
                  <a:srgbClr val="ffffff"/>
                </a:solidFill>
                <a:uFillTx/>
                <a:latin typeface="굴림체"/>
                <a:ea typeface="굴림체"/>
              </a:rPr>
              <a:t>천</a:t>
            </a:r>
            <a:r>
              <a:rPr b="1" lang="ko-KR" sz="3200" spc="-1" strike="noStrike" u="sng">
                <a:solidFill>
                  <a:srgbClr val="ffffff"/>
                </a:solidFill>
                <a:uFillTx/>
                <a:latin typeface="굴림체"/>
                <a:ea typeface="굴림체"/>
              </a:rPr>
              <a:t>5</a:t>
            </a:r>
            <a:r>
              <a:rPr b="1" lang="ko-KR" sz="3200" spc="-1" strike="noStrike" u="sng">
                <a:solidFill>
                  <a:srgbClr val="ffffff"/>
                </a:solidFill>
                <a:uFillTx/>
                <a:latin typeface="굴림체"/>
                <a:ea typeface="굴림체"/>
              </a:rPr>
              <a:t>백</a:t>
            </a:r>
            <a:r>
              <a:rPr b="1" lang="ko-KR" sz="3200" spc="-1" strike="noStrike" u="sng">
                <a:solidFill>
                  <a:srgbClr val="ffffff"/>
                </a:solidFill>
                <a:uFillTx/>
                <a:latin typeface="굴림체"/>
                <a:ea typeface="굴림체"/>
              </a:rPr>
              <a:t>6</a:t>
            </a:r>
            <a:r>
              <a:rPr b="1" lang="ko-KR" sz="3200" spc="-1" strike="noStrike" u="sng">
                <a:solidFill>
                  <a:srgbClr val="ffffff"/>
                </a:solidFill>
                <a:uFillTx/>
                <a:latin typeface="굴림체"/>
                <a:ea typeface="굴림체"/>
              </a:rPr>
              <a:t>십</a:t>
            </a:r>
            <a:r>
              <a:rPr b="1" lang="ko-KR" sz="3200" spc="-1" strike="noStrike">
                <a:solidFill>
                  <a:srgbClr val="ffffff"/>
                </a:solidFill>
                <a:latin typeface="굴림체"/>
                <a:ea typeface="굴림체"/>
              </a:rPr>
              <a:t> 만 </a:t>
            </a:r>
            <a:r>
              <a:rPr b="1" lang="ko-KR" sz="3200" spc="-1" strike="noStrike" u="sng">
                <a:solidFill>
                  <a:srgbClr val="ffffff"/>
                </a:solidFill>
                <a:uFillTx/>
                <a:latin typeface="굴림체"/>
                <a:ea typeface="굴림체"/>
              </a:rPr>
              <a:t>7</a:t>
            </a:r>
            <a:r>
              <a:rPr b="1" lang="ko-KR" sz="3200" spc="-1" strike="noStrike" u="sng">
                <a:solidFill>
                  <a:srgbClr val="ffffff"/>
                </a:solidFill>
                <a:uFillTx/>
                <a:latin typeface="굴림체"/>
                <a:ea typeface="굴림체"/>
              </a:rPr>
              <a:t>천백</a:t>
            </a:r>
            <a:r>
              <a:rPr b="1" lang="ko-KR" sz="3200" spc="-1" strike="noStrike" u="sng">
                <a:solidFill>
                  <a:srgbClr val="ffffff"/>
                </a:solidFill>
                <a:uFillTx/>
                <a:latin typeface="굴림체"/>
                <a:ea typeface="굴림체"/>
              </a:rPr>
              <a:t>8</a:t>
            </a:r>
            <a:r>
              <a:rPr b="1" lang="ko-KR" sz="3200" spc="-1" strike="noStrike" u="sng">
                <a:solidFill>
                  <a:srgbClr val="ffffff"/>
                </a:solidFill>
                <a:uFillTx/>
                <a:latin typeface="굴림체"/>
                <a:ea typeface="굴림체"/>
              </a:rPr>
              <a:t>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체"/>
                <a:ea typeface="굴림체"/>
              </a:rPr>
              <a:t>	</a:t>
            </a:r>
            <a:r>
              <a:rPr b="1" lang="ko-KR" sz="3200" spc="-1" strike="noStrike" u="sng">
                <a:solidFill>
                  <a:srgbClr val="ffffff"/>
                </a:solidFill>
                <a:uFillTx/>
                <a:latin typeface="굴림체"/>
                <a:ea typeface="굴림체"/>
              </a:rPr>
              <a:t>0 0 2 3</a:t>
            </a:r>
            <a:r>
              <a:rPr b="1" lang="ko-KR" sz="3200" spc="-1" strike="noStrike">
                <a:solidFill>
                  <a:srgbClr val="ffffff"/>
                </a:solidFill>
                <a:latin typeface="굴림체"/>
                <a:ea typeface="굴림체"/>
              </a:rPr>
              <a:t> </a:t>
            </a:r>
            <a:r>
              <a:rPr b="1" lang="ko-KR" sz="3200" spc="-1" strike="noStrike" u="sng">
                <a:solidFill>
                  <a:srgbClr val="ffffff"/>
                </a:solidFill>
                <a:uFillTx/>
                <a:latin typeface="굴림체"/>
                <a:ea typeface="굴림체"/>
              </a:rPr>
              <a:t>4 5 6 0</a:t>
            </a:r>
            <a:r>
              <a:rPr b="1" lang="ko-KR" sz="3200" spc="-1" strike="noStrike">
                <a:solidFill>
                  <a:srgbClr val="ffffff"/>
                </a:solidFill>
                <a:latin typeface="굴림체"/>
                <a:ea typeface="굴림체"/>
              </a:rPr>
              <a:t> </a:t>
            </a:r>
            <a:r>
              <a:rPr b="1" lang="ko-KR" sz="3200" spc="-1" strike="noStrike" u="sng">
                <a:solidFill>
                  <a:srgbClr val="ffffff"/>
                </a:solidFill>
                <a:uFillTx/>
                <a:latin typeface="굴림체"/>
                <a:ea typeface="굴림체"/>
              </a:rPr>
              <a:t>7 1 8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체"/>
                <a:ea typeface="굴림체"/>
              </a:rPr>
              <a:t>	</a:t>
            </a:r>
            <a:r>
              <a:rPr b="1" lang="ko-KR" sz="3200" spc="-1" strike="noStrike">
                <a:solidFill>
                  <a:srgbClr val="ffffff"/>
                </a:solidFill>
                <a:latin typeface="굴림체"/>
                <a:ea typeface="굴림체"/>
              </a:rPr>
              <a:t>2 3 4 5 6 0 7 1 8 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CB2A1-6550-449B-8B86-708B5CDD3108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B62C45-B2DC-4D6D-8DD3-75169705941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33160" y="380880"/>
            <a:ext cx="842004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cc"/>
                </a:solidFill>
                <a:latin typeface="굴림"/>
              </a:rPr>
              <a:t>수사어절 변환 알고리즘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828800"/>
            <a:ext cx="4800600" cy="4495680"/>
          </a:xfrm>
          <a:prstGeom prst="rect">
            <a:avLst/>
          </a:prstGeom>
          <a:noFill/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Algorithm numeral2number(char *st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 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char temp[MAX], *n1=str, *n2=temp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 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while (*n1)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   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if (*n1 == ‘1/2/.../9’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        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*n2++ = *n1++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   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else if (*n1 == ‘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일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/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이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/.../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구’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        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*n2++ = conv2arabic(*n1++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   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else if (is_10unit(*n1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        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*n2++ = *n1++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        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/*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십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/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백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/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천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/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만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/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억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/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조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*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   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else if (*n1 == ','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        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   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else break;  /* error *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 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 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conv_num_unit(temp, str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00600" y="1828800"/>
            <a:ext cx="5257800" cy="552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Algorithm conv_num_unit(char *in, *ou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 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int i=0, man1=9, man2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 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char *pb=in, *pe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 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out = “000…0”; /* ‘0’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으로 초기화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*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 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while (*pb &amp;&amp; (pe=get_MAN_unit(pb))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   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man2 = get_10000x_id(*pe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   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if (man1-man2 == 2)/* no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억단위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*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      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i = i + 4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   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else if (man1 &lt;= man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      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return; /*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조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-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억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-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만 순서오류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*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   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man1 = man2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   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set_1000_unit(pb, pe, out, i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   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i = i + 4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   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pb = pe+1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   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out[i+4] = ‘\0’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  </a:t>
            </a:r>
            <a:r>
              <a:rPr b="1" lang="ko-KR" sz="2000" spc="-1" strike="noStrike">
                <a:solidFill>
                  <a:srgbClr val="ffffff"/>
                </a:solidFill>
                <a:latin typeface="굴림체"/>
                <a:ea typeface="굴림체"/>
              </a:rPr>
              <a:t>remove_leading_0s(out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3698-8F60-41AE-93A9-CC80DE1E605C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3A4E47-5C85-444E-8F0A-EC6AF3E0AD1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cc"/>
                </a:solidFill>
                <a:latin typeface="굴림"/>
              </a:rPr>
              <a:t>결   론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255320" y="2050920"/>
            <a:ext cx="7877160" cy="403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ffff"/>
                </a:solidFill>
                <a:latin typeface="굴림체"/>
                <a:ea typeface="굴림체"/>
              </a:rPr>
              <a:t>한글</a:t>
            </a:r>
            <a:r>
              <a:rPr b="0" lang="ko-KR" sz="3600" spc="-1" strike="noStrike">
                <a:solidFill>
                  <a:srgbClr val="ffffff"/>
                </a:solidFill>
                <a:latin typeface="굴림체"/>
                <a:ea typeface="굴림체"/>
              </a:rPr>
              <a:t>/</a:t>
            </a:r>
            <a:r>
              <a:rPr b="0" lang="ko-KR" sz="3600" spc="-1" strike="noStrike">
                <a:solidFill>
                  <a:srgbClr val="ffffff"/>
                </a:solidFill>
                <a:latin typeface="굴림체"/>
                <a:ea typeface="굴림체"/>
              </a:rPr>
              <a:t>숫자 혼용어절의 유형 분류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ffff"/>
                </a:solidFill>
                <a:latin typeface="굴림체"/>
                <a:ea typeface="굴림체"/>
              </a:rPr>
              <a:t>수사어절 인식 알고리즘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ffff"/>
                </a:solidFill>
                <a:latin typeface="굴림체"/>
                <a:ea typeface="굴림체"/>
              </a:rPr>
              <a:t>수사어절 정규화 알고리즘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ffff"/>
                </a:solidFill>
                <a:latin typeface="굴림체"/>
                <a:ea typeface="굴림체"/>
              </a:rPr>
              <a:t>띄어쓴 수사어절의 결합 및 정규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F787-278C-4249-B0BE-586F490E65D8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BA57B6-91D5-4803-856D-434F91507166}" type="datetime1">
              <a:rPr lang="en-US"/>
              <a:t>07/28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05:54Z</dcterms:created>
  <dc:creator>강승식</dc:creator>
  <dc:description/>
  <dc:language>en-US</dc:language>
  <cp:lastModifiedBy>강승식</cp:lastModifiedBy>
  <cp:lastPrinted>1997-10-08T07:57:46Z</cp:lastPrinted>
  <dcterms:modified xsi:type="dcterms:W3CDTF">2002-07-05T08:21:08Z</dcterms:modified>
  <cp:revision>50</cp:revision>
  <dc:subject/>
  <dc:title>한국어 수사어절의 유형분류 및 정규화</dc:title>
</cp:coreProperties>
</file>