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6EB2-34BE-4A19-B827-797F2C99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724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9EEF-AB92-4C67-8D60-18D5E313B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99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31F5-EB7C-493B-AC08-E16D8EDCB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52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288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72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52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288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77D4-576A-4600-B164-FC5134EBB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C260-57C6-4AB4-8FEB-735975202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891E-AAAC-4C24-9681-5613071C9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A4AE-7A2F-4CF9-94C6-4185F01A7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D9FB1-C74D-4EBD-8308-526B6ED6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D310-09EE-4AC5-A239-AE7B1E09E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440" y="291600"/>
            <a:ext cx="746748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lnSpc>
                <a:spcPct val="90000"/>
              </a:lnSpc>
              <a:spcBef>
                <a:spcPts val="862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EF1D0-E95C-46CA-AAB1-A15FDE960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F2A2-CEAC-41DA-A449-D4CDE1C0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lnSpc>
                <a:spcPct val="90000"/>
              </a:lnSpc>
              <a:spcBef>
                <a:spcPts val="862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4F35-FACB-41B3-A319-E997F052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99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BF2B-52CB-4B61-ACB2-CAB1AC26B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FD89E-9AFA-4009-9BC5-B08F413D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724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5104-094D-4F8F-9C34-7A32687FF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99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4082-EDF0-4A93-8DC7-7BF43B60E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524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288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72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524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288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46435-30B0-496E-A9D9-D272F0907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F9E5-25CB-4B62-90FE-87DC136EC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FDD4-B8E1-4EC5-895E-DB2C9BD3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6F206-F4A8-4C43-8126-574BB253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440" y="291600"/>
            <a:ext cx="746748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lnSpc>
                <a:spcPct val="90000"/>
              </a:lnSpc>
              <a:spcBef>
                <a:spcPts val="862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4041-F053-41C0-A285-DC6AD8C6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102A-39A7-4FC6-BD52-23275F17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99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844C-B96B-4661-A6BF-291E95E8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724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99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724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BCCB-D2E7-4C32-9CF8-5FA84F51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05050"/>
                </a:solidFill>
                <a:latin typeface="Arial"/>
              </a:rPr>
              <a:t>http://nlp.kookmin.ac.k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5060-A36C-4418-97BF-E177F2B90633}" type="slidenum">
              <a:rPr b="0" lang="ko-KR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2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724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-22068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3" marL="1279440" indent="-16668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4" marL="1560600" indent="-166680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5" marL="1560600" indent="-166680">
              <a:lnSpc>
                <a:spcPct val="90000"/>
              </a:lnSpc>
              <a:spcBef>
                <a:spcPts val="862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6" marL="1560600" indent="-166680">
              <a:lnSpc>
                <a:spcPct val="90000"/>
              </a:lnSpc>
              <a:spcBef>
                <a:spcPts val="862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33520" y="1106640"/>
            <a:ext cx="8001000" cy="64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kookmin" descr=""/>
          <p:cNvPicPr/>
          <p:nvPr/>
        </p:nvPicPr>
        <p:blipFill>
          <a:blip r:embed="rId2"/>
          <a:stretch/>
        </p:blipFill>
        <p:spPr>
          <a:xfrm>
            <a:off x="304920" y="6324480"/>
            <a:ext cx="377640" cy="3812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495360" y="6238800"/>
            <a:ext cx="2209680" cy="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25B4A-7DB1-4F19-8213-2D1785BCEB84}" type="slidenum">
              <a:rPr b="0" lang="ko-KR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2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pic>
        <p:nvPicPr>
          <p:cNvPr id="48" name="kookmin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679320" cy="685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440" indent="0" algn="ctr">
              <a:lnSpc>
                <a:spcPct val="90000"/>
              </a:lnSpc>
              <a:spcBef>
                <a:spcPts val="862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501480" indent="0" algn="ctr">
              <a:lnSpc>
                <a:spcPct val="90000"/>
              </a:lnSpc>
              <a:spcBef>
                <a:spcPts val="862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885960" algn="ctr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27320" algn="ctr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1770120" algn="ctr">
              <a:lnSpc>
                <a:spcPct val="90000"/>
              </a:lnSpc>
              <a:spcBef>
                <a:spcPts val="862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17701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177012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066320"/>
            <a:ext cx="7721640" cy="129564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200" spc="-1" strike="noStrike">
                <a:solidFill>
                  <a:srgbClr val="d60093"/>
                </a:solidFill>
                <a:latin typeface="Arial"/>
                <a:ea typeface="굴림"/>
              </a:rPr>
              <a:t>Automatic Segmentation of Words using Syllable Bigram Statistics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24382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Autofit/>
          </a:bodyPr>
          <a:p>
            <a:pPr marL="554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굴림"/>
              </a:rPr>
              <a:t>Seung-Shik Kang, Kookmin University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en-US" sz="3200" spc="-1" strike="noStrike">
                <a:solidFill>
                  <a:srgbClr val="d60093"/>
                </a:solidFill>
                <a:latin typeface="Arial"/>
                <a:ea typeface="굴림"/>
              </a:rPr>
              <a:t>Example: Automatic Word Spacing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724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lnSpc>
                <a:spcPct val="110000"/>
              </a:lnSpc>
              <a:spcBef>
                <a:spcPts val="788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100" spc="-1" strike="noStrike">
                <a:solidFill>
                  <a:srgbClr val="000099"/>
                </a:solidFill>
                <a:latin typeface="궁서체"/>
                <a:ea typeface="궁서체"/>
              </a:rPr>
              <a:t>1200</a:t>
            </a:r>
            <a:r>
              <a:rPr b="0" lang="ko-KR" sz="2100" spc="-1" strike="noStrike">
                <a:solidFill>
                  <a:srgbClr val="000099"/>
                </a:solidFill>
                <a:latin typeface="궁서체"/>
                <a:ea typeface="궁서체"/>
              </a:rPr>
              <a:t>만 어절규모의 원시 말뭉치로부터 추출된 한글 음절쌍의 공백빈도 수를 이용하여 자동띄어 쓰기 및 띄어 쓰기 오류어 인식 실험을 하였다</a:t>
            </a:r>
            <a:r>
              <a:rPr b="0" lang="ko-KR" sz="2100" spc="-1" strike="noStrike">
                <a:solidFill>
                  <a:srgbClr val="000099"/>
                </a:solidFill>
                <a:latin typeface="궁서체"/>
                <a:ea typeface="궁서체"/>
              </a:rPr>
              <a:t>. 156,487</a:t>
            </a:r>
            <a:r>
              <a:rPr b="0" lang="ko-KR" sz="2100" spc="-1" strike="noStrike">
                <a:solidFill>
                  <a:srgbClr val="000099"/>
                </a:solidFill>
                <a:latin typeface="궁서체"/>
                <a:ea typeface="궁서체"/>
              </a:rPr>
              <a:t>개의 음절쌍을 이용했을 때 자동띄어 쓰기 정확도는 </a:t>
            </a:r>
            <a:r>
              <a:rPr b="0" lang="ko-KR" sz="2100" spc="-1" strike="noStrike">
                <a:solidFill>
                  <a:srgbClr val="000099"/>
                </a:solidFill>
                <a:latin typeface="궁서체"/>
                <a:ea typeface="궁서체"/>
              </a:rPr>
              <a:t>97.7%</a:t>
            </a:r>
            <a:r>
              <a:rPr b="0" lang="ko-KR" sz="2100" spc="-1" strike="noStrike">
                <a:solidFill>
                  <a:srgbClr val="000099"/>
                </a:solidFill>
                <a:latin typeface="궁서체"/>
                <a:ea typeface="궁서체"/>
              </a:rPr>
              <a:t>로서 기존의 연구에서 문법 형태소의 음절 특성 혹은 </a:t>
            </a:r>
            <a:r>
              <a:rPr b="0" lang="en-US" sz="2100" spc="-1" strike="noStrike">
                <a:solidFill>
                  <a:srgbClr val="000099"/>
                </a:solidFill>
                <a:latin typeface="궁서체"/>
                <a:ea typeface="궁서체"/>
              </a:rPr>
              <a:t>bigram</a:t>
            </a:r>
            <a:r>
              <a:rPr b="0" lang="ko-KR" sz="2100" spc="-1" strike="noStrike">
                <a:solidFill>
                  <a:srgbClr val="000099"/>
                </a:solidFill>
                <a:latin typeface="궁서체"/>
                <a:ea typeface="궁서체"/>
              </a:rPr>
              <a:t>정보를 이용하고 형태소 분석기를 이용하는 방법보다 더 높은 정확도를 얻을 수 있었다</a:t>
            </a:r>
            <a:r>
              <a:rPr b="0" lang="ko-KR" sz="2100" spc="-1" strike="noStrike">
                <a:solidFill>
                  <a:srgbClr val="000099"/>
                </a:solidFill>
                <a:latin typeface="궁서체"/>
                <a:ea typeface="궁서체"/>
              </a:rPr>
              <a:t>. </a:t>
            </a:r>
            <a:r>
              <a:rPr b="0" lang="ko-KR" sz="2100" spc="-1" strike="noStrike">
                <a:solidFill>
                  <a:srgbClr val="000099"/>
                </a:solidFill>
                <a:latin typeface="궁서체"/>
                <a:ea typeface="궁서체"/>
              </a:rPr>
              <a:t>영어 알파벳의 빈도 정보 및 </a:t>
            </a:r>
            <a:r>
              <a:rPr b="0" lang="en-US" sz="2100" spc="-1" strike="noStrike">
                <a:solidFill>
                  <a:srgbClr val="000099"/>
                </a:solidFill>
                <a:latin typeface="궁서체"/>
                <a:ea typeface="궁서체"/>
              </a:rPr>
              <a:t>bigram</a:t>
            </a:r>
            <a:r>
              <a:rPr b="0" lang="ko-KR" sz="2100" spc="-1" strike="noStrike">
                <a:solidFill>
                  <a:srgbClr val="000099"/>
                </a:solidFill>
                <a:latin typeface="궁서체"/>
                <a:ea typeface="궁서체"/>
              </a:rPr>
              <a:t>정보는 문서 압축기술 등 다양한 목적으로 활용되어 왔다</a:t>
            </a:r>
            <a:r>
              <a:rPr b="0" lang="ko-KR" sz="2100" spc="-1" strike="noStrike">
                <a:solidFill>
                  <a:srgbClr val="000099"/>
                </a:solidFill>
                <a:latin typeface="궁서체"/>
                <a:ea typeface="궁서체"/>
              </a:rPr>
              <a:t>. </a:t>
            </a:r>
            <a:r>
              <a:rPr b="0" lang="ko-KR" sz="2100" spc="-1" strike="noStrike">
                <a:solidFill>
                  <a:srgbClr val="000099"/>
                </a:solidFill>
                <a:latin typeface="궁서체"/>
                <a:ea typeface="궁서체"/>
              </a:rPr>
              <a:t>한글의 경우에는 음절빈도 및 </a:t>
            </a:r>
            <a:r>
              <a:rPr b="0" lang="en-US" sz="2100" spc="-1" strike="noStrike">
                <a:solidFill>
                  <a:srgbClr val="000099"/>
                </a:solidFill>
                <a:latin typeface="궁서체"/>
                <a:ea typeface="궁서체"/>
              </a:rPr>
              <a:t>bigram</a:t>
            </a:r>
            <a:r>
              <a:rPr b="0" lang="ko-KR" sz="2100" spc="-1" strike="noStrike">
                <a:solidFill>
                  <a:srgbClr val="000099"/>
                </a:solidFill>
                <a:latin typeface="궁서체"/>
                <a:ea typeface="궁서체"/>
              </a:rPr>
              <a:t>빈도를 자동띄어 쓰기 뿐만 아니라 맞춤법 오류의 인식</a:t>
            </a:r>
            <a:r>
              <a:rPr b="0" lang="ko-KR" sz="2100" spc="-1" strike="noStrike">
                <a:solidFill>
                  <a:srgbClr val="000099"/>
                </a:solidFill>
                <a:latin typeface="궁서체"/>
                <a:ea typeface="궁서체"/>
              </a:rPr>
              <a:t>, </a:t>
            </a:r>
            <a:r>
              <a:rPr b="0" lang="ko-KR" sz="2100" spc="-1" strike="noStrike">
                <a:solidFill>
                  <a:srgbClr val="000099"/>
                </a:solidFill>
                <a:latin typeface="궁서체"/>
                <a:ea typeface="궁서체"/>
              </a:rPr>
              <a:t>철자 오류교정</a:t>
            </a:r>
            <a:r>
              <a:rPr b="0" lang="ko-KR" sz="2100" spc="-1" strike="noStrike">
                <a:solidFill>
                  <a:srgbClr val="000099"/>
                </a:solidFill>
                <a:latin typeface="궁서체"/>
                <a:ea typeface="궁서체"/>
              </a:rPr>
              <a:t>, </a:t>
            </a:r>
            <a:r>
              <a:rPr b="0" lang="ko-KR" sz="2100" spc="-1" strike="noStrike">
                <a:solidFill>
                  <a:srgbClr val="000099"/>
                </a:solidFill>
                <a:latin typeface="궁서체"/>
                <a:ea typeface="궁서체"/>
              </a:rPr>
              <a:t>대용량 데이터의 효율적인 구축 방법 등 한국어 정보처리에 매우 유익하게 활용될 수 있을 것으로 기대된다</a:t>
            </a:r>
            <a:r>
              <a:rPr b="0" lang="ko-KR" sz="2100" spc="-1" strike="noStrike">
                <a:solidFill>
                  <a:srgbClr val="000099"/>
                </a:solidFill>
                <a:latin typeface="궁서체"/>
                <a:ea typeface="궁서체"/>
              </a:rPr>
              <a:t>.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39E2E-F73D-46E9-9013-580E3160148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en-US" sz="3200" spc="-1" strike="noStrike">
                <a:solidFill>
                  <a:srgbClr val="d60093"/>
                </a:solidFill>
                <a:latin typeface="Arial"/>
                <a:ea typeface="굴림"/>
              </a:rPr>
              <a:t>Conclusion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1920" indent="-331920">
              <a:lnSpc>
                <a:spcPct val="80000"/>
              </a:lnSpc>
              <a:spcBef>
                <a:spcPts val="115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Times New Roman"/>
                <a:ea typeface="굴림"/>
              </a:rPr>
              <a:t>Syllable Bigram for Korean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80000"/>
              </a:lnSpc>
              <a:spcBef>
                <a:spcPts val="11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Syllable bigram with space lo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80000"/>
              </a:lnSpc>
              <a:spcBef>
                <a:spcPts val="11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Space-insertion probabil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115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Times New Roman"/>
                <a:ea typeface="굴림"/>
              </a:rPr>
              <a:t>Only a small set of disyllables are frequently used in Korean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80000"/>
              </a:lnSpc>
              <a:spcBef>
                <a:spcPts val="11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Syllable pairs: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100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80000"/>
              </a:lnSpc>
              <a:spcBef>
                <a:spcPts val="11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Only 156,487 covers 99.5%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115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Times New Roman"/>
                <a:ea typeface="굴림"/>
              </a:rPr>
              <a:t>Experiments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80000"/>
              </a:lnSpc>
              <a:spcBef>
                <a:spcPts val="11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Word segment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80000"/>
              </a:lnSpc>
              <a:spcBef>
                <a:spcPts val="11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Word spacing at the end of a lin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80000"/>
              </a:lnSpc>
              <a:spcBef>
                <a:spcPts val="115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Detection of word spacing err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80000"/>
              </a:lnSpc>
              <a:spcBef>
                <a:spcPts val="115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Times New Roman"/>
                <a:ea typeface="굴림"/>
              </a:rPr>
              <a:t>Demo page --- </a:t>
            </a:r>
            <a:r>
              <a:rPr b="1" lang="en-US" sz="2300" spc="-1" strike="noStrike">
                <a:solidFill>
                  <a:srgbClr val="ff3300"/>
                </a:solidFill>
                <a:latin typeface="Times New Roman"/>
                <a:ea typeface="굴림"/>
              </a:rPr>
              <a:t>http://nlp.kookmin.ac.kr/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5622-5DFD-4055-B544-5E1AE7AE855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en-US" sz="3200" spc="-1" strike="noStrike">
                <a:solidFill>
                  <a:srgbClr val="d60093"/>
                </a:solidFill>
                <a:latin typeface="Arial"/>
                <a:ea typeface="굴림"/>
              </a:rPr>
              <a:t>Contents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7720" y="1676520"/>
            <a:ext cx="7797960" cy="4572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0">
              <a:lnSpc>
                <a:spcPct val="140000"/>
              </a:lnSpc>
              <a:spcBef>
                <a:spcPts val="13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99"/>
                </a:solidFill>
                <a:latin typeface="Times New Roman"/>
                <a:ea typeface="굴림"/>
              </a:rPr>
              <a:t>1. </a:t>
            </a:r>
            <a:r>
              <a:rPr b="0" lang="en-US" sz="2300" spc="-1" strike="noStrike">
                <a:solidFill>
                  <a:srgbClr val="000099"/>
                </a:solidFill>
                <a:latin typeface="Times New Roman"/>
                <a:ea typeface="굴림"/>
              </a:rPr>
              <a:t>Introduction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140000"/>
              </a:lnSpc>
              <a:spcBef>
                <a:spcPts val="13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99"/>
                </a:solidFill>
                <a:latin typeface="Times New Roman"/>
                <a:ea typeface="굴림"/>
              </a:rPr>
              <a:t>2. </a:t>
            </a:r>
            <a:r>
              <a:rPr b="0" lang="en-US" sz="2300" spc="-1" strike="noStrike">
                <a:solidFill>
                  <a:srgbClr val="000099"/>
                </a:solidFill>
                <a:latin typeface="Times New Roman"/>
                <a:ea typeface="굴림"/>
              </a:rPr>
              <a:t>Syllable Bigram Statistics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140000"/>
              </a:lnSpc>
              <a:spcBef>
                <a:spcPts val="13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99"/>
                </a:solidFill>
                <a:latin typeface="Times New Roman"/>
                <a:ea typeface="굴림"/>
              </a:rPr>
              <a:t>3. </a:t>
            </a:r>
            <a:r>
              <a:rPr b="0" lang="en-US" sz="2300" spc="-1" strike="noStrike">
                <a:solidFill>
                  <a:srgbClr val="000099"/>
                </a:solidFill>
                <a:latin typeface="Times New Roman"/>
                <a:ea typeface="굴림"/>
              </a:rPr>
              <a:t>Space-Insertion Probability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0">
              <a:lnSpc>
                <a:spcPct val="140000"/>
              </a:lnSpc>
              <a:spcBef>
                <a:spcPts val="13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99"/>
                </a:solidFill>
                <a:latin typeface="Times New Roman"/>
                <a:ea typeface="굴림"/>
              </a:rPr>
              <a:t>4. </a:t>
            </a:r>
            <a:r>
              <a:rPr b="0" lang="en-US" sz="2300" spc="-1" strike="noStrike">
                <a:solidFill>
                  <a:srgbClr val="000099"/>
                </a:solidFill>
                <a:latin typeface="Times New Roman"/>
                <a:ea typeface="굴림"/>
              </a:rPr>
              <a:t>Experiments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140000"/>
              </a:lnSpc>
              <a:spcBef>
                <a:spcPts val="13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Automatic Word-Spac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140000"/>
              </a:lnSpc>
              <a:spcBef>
                <a:spcPts val="13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Line-end Word Spac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140000"/>
              </a:lnSpc>
              <a:spcBef>
                <a:spcPts val="13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Word-spacing Error Detec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1920" indent="0">
              <a:lnSpc>
                <a:spcPct val="140000"/>
              </a:lnSpc>
              <a:spcBef>
                <a:spcPts val="13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99"/>
                </a:solidFill>
                <a:latin typeface="Times New Roman"/>
                <a:ea typeface="굴림"/>
              </a:rPr>
              <a:t>5. </a:t>
            </a:r>
            <a:r>
              <a:rPr b="0" lang="en-US" sz="2300" spc="-1" strike="noStrike">
                <a:solidFill>
                  <a:srgbClr val="000099"/>
                </a:solidFill>
                <a:latin typeface="Times New Roman"/>
                <a:ea typeface="굴림"/>
              </a:rPr>
              <a:t>Conclusion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4DB9-2B4C-444C-9A82-1FB0CBC542E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440" y="455760"/>
            <a:ext cx="7467480" cy="6523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en-US" sz="3200" spc="-1" strike="noStrike">
                <a:solidFill>
                  <a:srgbClr val="d60093"/>
                </a:solidFill>
                <a:latin typeface="Arial"/>
                <a:ea typeface="굴림"/>
              </a:rPr>
              <a:t>Bigram Features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1920" indent="-331920">
              <a:lnSpc>
                <a:spcPct val="90000"/>
              </a:lnSpc>
              <a:spcBef>
                <a:spcPts val="71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Times New Roman"/>
                <a:ea typeface="굴림"/>
              </a:rPr>
              <a:t>Syllable unigram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11,172 syllab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2,350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for KS C-5601-1987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Ex.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surname, character recogni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1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Times New Roman"/>
                <a:ea typeface="굴림"/>
              </a:rPr>
              <a:t>Syllable bigram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11,172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x11,172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  <a:ea typeface="신명조"/>
              </a:rPr>
              <a:t>(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100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M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), 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 2,350x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2,350 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  <a:ea typeface="신명조"/>
              </a:rPr>
              <a:t>(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≈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5M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Ex. given name</a:t>
            </a:r>
            <a:r>
              <a:rPr b="0" lang="ko-KR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, </a:t>
            </a: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decomposition of compound nou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711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Times New Roman"/>
                <a:ea typeface="굴림"/>
              </a:rPr>
              <a:t>Bigram applications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Error correction: word-spacing, character recognition, et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711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Proper noun detection: foreign name, Chinese noun, et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17ED-FDD1-4FAB-A3AF-5DD9C99C6C7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en-US" sz="3200" spc="-1" strike="noStrike">
                <a:solidFill>
                  <a:srgbClr val="d60093"/>
                </a:solidFill>
                <a:latin typeface="Arial"/>
                <a:ea typeface="굴림"/>
              </a:rPr>
              <a:t>Extracting Syllable Pairs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1920" indent="-331920">
              <a:lnSpc>
                <a:spcPct val="90000"/>
              </a:lnSpc>
              <a:spcBef>
                <a:spcPts val="1287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Times New Roman"/>
                <a:ea typeface="굴림"/>
              </a:rPr>
              <a:t>Raw corpus of</a:t>
            </a:r>
            <a:r>
              <a:rPr b="0" lang="ko-KR" sz="2300" spc="-1" strike="noStrike">
                <a:solidFill>
                  <a:srgbClr val="000099"/>
                </a:solidFill>
                <a:latin typeface="Times New Roman"/>
                <a:ea typeface="굴림"/>
              </a:rPr>
              <a:t> 12</a:t>
            </a:r>
            <a:r>
              <a:rPr b="0" lang="en-US" sz="2300" spc="-1" strike="noStrike">
                <a:solidFill>
                  <a:srgbClr val="000099"/>
                </a:solidFill>
                <a:latin typeface="Times New Roman"/>
                <a:ea typeface="굴림"/>
              </a:rPr>
              <a:t>M words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lnSpc>
                <a:spcPct val="90000"/>
              </a:lnSpc>
              <a:spcBef>
                <a:spcPts val="1287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  <a:ea typeface="굴림"/>
              </a:rPr>
              <a:t>Newspapers, Krist Collection, KTSET, etc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1287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Times New Roman"/>
                <a:ea typeface="굴림"/>
              </a:rPr>
              <a:t>Total number of disyllables</a:t>
            </a:r>
            <a:r>
              <a:rPr b="0" lang="ko-KR" sz="2300" spc="-1" strike="noStrike">
                <a:solidFill>
                  <a:srgbClr val="000099"/>
                </a:solidFill>
                <a:latin typeface="Times New Roman"/>
                <a:ea typeface="굴림"/>
              </a:rPr>
              <a:t> : 256,189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990720" y="3048120"/>
            <a:ext cx="3276000" cy="3124080"/>
            <a:chOff x="990720" y="3048120"/>
            <a:chExt cx="3276000" cy="3124080"/>
          </a:xfrm>
        </p:grpSpPr>
        <p:grpSp>
          <p:nvGrpSpPr>
            <p:cNvPr id="95" name=""/>
            <p:cNvGrpSpPr/>
            <p:nvPr/>
          </p:nvGrpSpPr>
          <p:grpSpPr>
            <a:xfrm>
              <a:off x="995760" y="3050280"/>
              <a:ext cx="3264840" cy="3119760"/>
              <a:chOff x="995760" y="3050280"/>
              <a:chExt cx="3264840" cy="3119760"/>
            </a:xfrm>
          </p:grpSpPr>
          <p:grpSp>
            <p:nvGrpSpPr>
              <p:cNvPr id="96" name=""/>
              <p:cNvGrpSpPr/>
              <p:nvPr/>
            </p:nvGrpSpPr>
            <p:grpSpPr>
              <a:xfrm>
                <a:off x="995760" y="3050280"/>
                <a:ext cx="1203480" cy="522360"/>
                <a:chOff x="995760" y="3050280"/>
                <a:chExt cx="1203480" cy="52236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1067040" y="3050280"/>
                  <a:ext cx="1060560" cy="52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507960"/>
                      <a:tab algn="ctr" pos="1257480"/>
                      <a:tab algn="ctr" pos="2870280"/>
                      <a:tab algn="ctr" pos="4508640"/>
                      <a:tab algn="r" pos="57150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Accumulated percentage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995760" y="3050280"/>
                  <a:ext cx="1203480" cy="522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2199600" y="3050280"/>
                <a:ext cx="1003320" cy="522360"/>
                <a:chOff x="2199600" y="3050280"/>
                <a:chExt cx="1003320" cy="52236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2271240" y="3050280"/>
                  <a:ext cx="859680" cy="52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Minimum frequency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2199600" y="3050280"/>
                  <a:ext cx="1003320" cy="522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3203640" y="3050280"/>
                <a:ext cx="1056960" cy="522360"/>
                <a:chOff x="3203640" y="3050280"/>
                <a:chExt cx="1056960" cy="52236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3274920" y="3050280"/>
                  <a:ext cx="913680" cy="522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Number of disyllables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3203640" y="3050280"/>
                  <a:ext cx="1056960" cy="522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995760" y="3572640"/>
                <a:ext cx="1203480" cy="288360"/>
                <a:chOff x="995760" y="3572640"/>
                <a:chExt cx="1203480" cy="28836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1067040" y="3572640"/>
                  <a:ext cx="10605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507960"/>
                      <a:tab algn="ctr" pos="1257480"/>
                      <a:tab algn="ctr" pos="2870280"/>
                      <a:tab algn="ctr" pos="4508640"/>
                      <a:tab algn="r" pos="57150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1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50.0%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995760" y="3572640"/>
                  <a:ext cx="1203480" cy="28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2199600" y="3572640"/>
                <a:ext cx="1003320" cy="288360"/>
                <a:chOff x="2199600" y="3572640"/>
                <a:chExt cx="1003320" cy="28836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2271240" y="3572640"/>
                  <a:ext cx="859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1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1,94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2199600" y="3572640"/>
                  <a:ext cx="1003320" cy="28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3203640" y="3572640"/>
                <a:ext cx="1056960" cy="288360"/>
                <a:chOff x="3203640" y="3572640"/>
                <a:chExt cx="1056960" cy="28836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3274920" y="3572640"/>
                  <a:ext cx="913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1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2,299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3203640" y="3572640"/>
                  <a:ext cx="1056960" cy="28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995760" y="3861360"/>
                <a:ext cx="1203480" cy="288360"/>
                <a:chOff x="995760" y="3861360"/>
                <a:chExt cx="1203480" cy="28836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1067040" y="3861360"/>
                  <a:ext cx="10605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1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60.0%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995760" y="3861360"/>
                  <a:ext cx="1203480" cy="28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2199600" y="3861360"/>
                <a:ext cx="1003320" cy="288360"/>
                <a:chOff x="2199600" y="3861360"/>
                <a:chExt cx="1003320" cy="28836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2271240" y="3861360"/>
                  <a:ext cx="859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1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1,137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2199600" y="3861360"/>
                  <a:ext cx="1003320" cy="28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3203640" y="3861360"/>
                <a:ext cx="1056960" cy="288360"/>
                <a:chOff x="3203640" y="3861360"/>
                <a:chExt cx="1056960" cy="28836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3274920" y="3861360"/>
                  <a:ext cx="913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1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4,057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3203640" y="3861360"/>
                  <a:ext cx="1056960" cy="28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995760" y="4150080"/>
                <a:ext cx="1203480" cy="288360"/>
                <a:chOff x="995760" y="4150080"/>
                <a:chExt cx="1203480" cy="28836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1067040" y="4150080"/>
                  <a:ext cx="10605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1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70.0%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995760" y="4150080"/>
                  <a:ext cx="1203480" cy="28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2199600" y="4150080"/>
                <a:ext cx="1003320" cy="288360"/>
                <a:chOff x="2199600" y="4150080"/>
                <a:chExt cx="1003320" cy="28836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2271240" y="4150080"/>
                  <a:ext cx="859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1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62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2199600" y="4150080"/>
                  <a:ext cx="1003320" cy="28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203640" y="4150080"/>
                <a:ext cx="1056960" cy="288360"/>
                <a:chOff x="3203640" y="4150080"/>
                <a:chExt cx="1056960" cy="28836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274920" y="4150080"/>
                  <a:ext cx="913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1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7,17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203640" y="4150080"/>
                  <a:ext cx="1056960" cy="28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995760" y="4438440"/>
                <a:ext cx="1203480" cy="288360"/>
                <a:chOff x="995760" y="4438440"/>
                <a:chExt cx="1203480" cy="28836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1067040" y="4438440"/>
                  <a:ext cx="10605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1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80.0%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995760" y="4438440"/>
                  <a:ext cx="1203480" cy="28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2199600" y="4438440"/>
                <a:ext cx="1003320" cy="288360"/>
                <a:chOff x="2199600" y="4438440"/>
                <a:chExt cx="1003320" cy="28836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2271240" y="4438440"/>
                  <a:ext cx="859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1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294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199600" y="4438440"/>
                  <a:ext cx="1003320" cy="28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3203640" y="4438440"/>
                <a:ext cx="1056960" cy="288360"/>
                <a:chOff x="3203640" y="4438440"/>
                <a:chExt cx="1056960" cy="28836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3274920" y="4438440"/>
                  <a:ext cx="913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1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13,269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203640" y="4438440"/>
                  <a:ext cx="1056960" cy="28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995760" y="4727160"/>
                <a:ext cx="1203480" cy="288360"/>
                <a:chOff x="995760" y="4727160"/>
                <a:chExt cx="1203480" cy="28836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1067040" y="4727160"/>
                  <a:ext cx="10605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1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90.0%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995760" y="4727160"/>
                  <a:ext cx="1203480" cy="28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2199600" y="4727160"/>
                <a:ext cx="1003320" cy="288360"/>
                <a:chOff x="2199600" y="4727160"/>
                <a:chExt cx="1003320" cy="28836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2271240" y="4727160"/>
                  <a:ext cx="859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1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98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199600" y="4727160"/>
                  <a:ext cx="1003320" cy="28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3203640" y="4727160"/>
                <a:ext cx="1056960" cy="288360"/>
                <a:chOff x="3203640" y="4727160"/>
                <a:chExt cx="1056960" cy="28836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3274920" y="4727160"/>
                  <a:ext cx="913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1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28,651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203640" y="4727160"/>
                  <a:ext cx="1056960" cy="28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995760" y="5015880"/>
                <a:ext cx="1203480" cy="288360"/>
                <a:chOff x="995760" y="5015880"/>
                <a:chExt cx="1203480" cy="2883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067040" y="5015880"/>
                  <a:ext cx="10605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1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95.0%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995760" y="5015880"/>
                  <a:ext cx="1203480" cy="28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2199600" y="5015880"/>
                <a:ext cx="1003320" cy="288360"/>
                <a:chOff x="2199600" y="5015880"/>
                <a:chExt cx="1003320" cy="28836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2271240" y="5015880"/>
                  <a:ext cx="859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1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37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2199600" y="5015880"/>
                  <a:ext cx="1003320" cy="28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3203640" y="5015880"/>
                <a:ext cx="1056960" cy="288360"/>
                <a:chOff x="3203640" y="5015880"/>
                <a:chExt cx="1056960" cy="28836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274920" y="5015880"/>
                  <a:ext cx="913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1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50,406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203640" y="5015880"/>
                  <a:ext cx="1056960" cy="28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995760" y="5304240"/>
                <a:ext cx="1203480" cy="288360"/>
                <a:chOff x="995760" y="5304240"/>
                <a:chExt cx="1203480" cy="2883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1067040" y="5304240"/>
                  <a:ext cx="10605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1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97.7%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995760" y="5304240"/>
                  <a:ext cx="1203480" cy="28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199600" y="5304240"/>
                <a:ext cx="1003320" cy="288360"/>
                <a:chOff x="2199600" y="5304240"/>
                <a:chExt cx="1003320" cy="28836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271240" y="5304240"/>
                  <a:ext cx="859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1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14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199600" y="5304240"/>
                  <a:ext cx="1003320" cy="28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3203640" y="5304240"/>
                <a:ext cx="1056960" cy="288360"/>
                <a:chOff x="3203640" y="5304240"/>
                <a:chExt cx="1056960" cy="28836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274920" y="5304240"/>
                  <a:ext cx="913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1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81,382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203640" y="5304240"/>
                  <a:ext cx="1056960" cy="28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995760" y="5592960"/>
                <a:ext cx="1203480" cy="288360"/>
                <a:chOff x="995760" y="5592960"/>
                <a:chExt cx="1203480" cy="28836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1067040" y="5592960"/>
                  <a:ext cx="10605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1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98.9%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995760" y="5592960"/>
                  <a:ext cx="1203480" cy="28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2199600" y="5592960"/>
                <a:ext cx="1003320" cy="288360"/>
                <a:chOff x="2199600" y="5592960"/>
                <a:chExt cx="1003320" cy="28836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2271240" y="5592960"/>
                  <a:ext cx="859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1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6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2199600" y="5592960"/>
                  <a:ext cx="1003320" cy="28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3203640" y="5592960"/>
                <a:ext cx="1056960" cy="288360"/>
                <a:chOff x="3203640" y="5592960"/>
                <a:chExt cx="1056960" cy="28836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3274920" y="5592960"/>
                  <a:ext cx="913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1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117,765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3203640" y="5592960"/>
                  <a:ext cx="1056960" cy="28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995760" y="5881680"/>
                <a:ext cx="1203480" cy="288360"/>
                <a:chOff x="995760" y="5881680"/>
                <a:chExt cx="1203480" cy="28836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1067040" y="5881680"/>
                  <a:ext cx="106056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1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99.5%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995760" y="5881680"/>
                  <a:ext cx="1203480" cy="28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2199600" y="5881680"/>
                <a:ext cx="1003320" cy="288360"/>
                <a:chOff x="2199600" y="5881680"/>
                <a:chExt cx="1003320" cy="28836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271240" y="5881680"/>
                  <a:ext cx="859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1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3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199600" y="5881680"/>
                  <a:ext cx="1003320" cy="28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3203640" y="5881680"/>
                <a:ext cx="1056960" cy="288360"/>
                <a:chOff x="3203640" y="5881680"/>
                <a:chExt cx="1056960" cy="28836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274920" y="5881680"/>
                  <a:ext cx="913680" cy="288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11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156,487</a:t>
                  </a:r>
                  <a:endParaRPr b="0" lang="en-US" sz="1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203640" y="5881680"/>
                  <a:ext cx="1056960" cy="288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6" name=""/>
            <p:cNvSpPr/>
            <p:nvPr/>
          </p:nvSpPr>
          <p:spPr>
            <a:xfrm>
              <a:off x="990720" y="3048120"/>
              <a:ext cx="3276000" cy="31240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87" name=""/>
          <p:cNvGraphicFramePr/>
          <p:nvPr/>
        </p:nvGraphicFramePr>
        <p:xfrm>
          <a:off x="4495680" y="2971800"/>
          <a:ext cx="3961080" cy="323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2971800"/>
                    <a:ext cx="396108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C6AC-F61C-4D9C-8A99-25274821648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en-US" sz="3200" spc="-1" strike="noStrike">
                <a:solidFill>
                  <a:srgbClr val="d60093"/>
                </a:solidFill>
                <a:latin typeface="Arial"/>
                <a:ea typeface="굴림"/>
              </a:rPr>
              <a:t>Disyllable &amp; Space Probability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1788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11760" indent="-311760" algn="just">
              <a:lnSpc>
                <a:spcPct val="80000"/>
              </a:lnSpc>
              <a:spcBef>
                <a:spcPts val="788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fr-CA" sz="2100" spc="-1" strike="noStrike">
                <a:solidFill>
                  <a:srgbClr val="000099"/>
                </a:solidFill>
                <a:latin typeface="Times New Roman"/>
                <a:ea typeface="바탕"/>
              </a:rPr>
              <a:t>Disyllable &amp; space frequencies for syllable pairs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11760" indent="0" algn="just">
              <a:lnSpc>
                <a:spcPct val="80000"/>
              </a:lnSpc>
              <a:spcBef>
                <a:spcPts val="788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11760" indent="0" algn="just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f(x</a:t>
            </a:r>
            <a:r>
              <a:rPr b="0" i="1" lang="fr-CA" sz="21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i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, x</a:t>
            </a:r>
            <a:r>
              <a:rPr b="0" i="1" lang="fr-CA" sz="21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i+1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) : the number of occurrences for &lt;x</a:t>
            </a:r>
            <a:r>
              <a:rPr b="0" i="1" lang="fr-CA" sz="21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i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, x</a:t>
            </a:r>
            <a:r>
              <a:rPr b="0" i="1" lang="fr-CA" sz="21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i+1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&gt;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11760" indent="0" algn="just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f</a:t>
            </a:r>
            <a:r>
              <a:rPr b="0" i="1" lang="fr-CA" sz="21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L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(x</a:t>
            </a:r>
            <a:r>
              <a:rPr b="0" i="1" lang="fr-CA" sz="21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i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, x</a:t>
            </a:r>
            <a:r>
              <a:rPr b="0" i="1" lang="fr-CA" sz="21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i+1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)  : left-space occurrences for &lt;x</a:t>
            </a:r>
            <a:r>
              <a:rPr b="0" i="1" lang="fr-CA" sz="21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i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, x</a:t>
            </a:r>
            <a:r>
              <a:rPr b="0" i="1" lang="fr-CA" sz="21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i+1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&gt;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11760" indent="0" algn="just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f</a:t>
            </a:r>
            <a:r>
              <a:rPr b="0" i="1" lang="fr-CA" sz="21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M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(x</a:t>
            </a:r>
            <a:r>
              <a:rPr b="0" i="1" lang="fr-CA" sz="21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i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, x</a:t>
            </a:r>
            <a:r>
              <a:rPr b="0" i="1" lang="fr-CA" sz="21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i+1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) : inside-space occurrences for &lt;x</a:t>
            </a:r>
            <a:r>
              <a:rPr b="0" i="1" lang="fr-CA" sz="21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i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, x</a:t>
            </a:r>
            <a:r>
              <a:rPr b="0" i="1" lang="fr-CA" sz="21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i+1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&gt;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11760" indent="0" algn="just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f</a:t>
            </a:r>
            <a:r>
              <a:rPr b="0" i="1" lang="fr-CA" sz="21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R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(x</a:t>
            </a:r>
            <a:r>
              <a:rPr b="0" i="1" lang="fr-CA" sz="21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i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, x</a:t>
            </a:r>
            <a:r>
              <a:rPr b="0" i="1" lang="fr-CA" sz="21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i+1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) : right-space occurrences for &lt;x</a:t>
            </a:r>
            <a:r>
              <a:rPr b="0" i="1" lang="fr-CA" sz="21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i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, x</a:t>
            </a:r>
            <a:r>
              <a:rPr b="0" i="1" lang="fr-CA" sz="21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i+1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&gt;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11760" indent="0" algn="just">
              <a:lnSpc>
                <a:spcPct val="80000"/>
              </a:lnSpc>
              <a:spcBef>
                <a:spcPts val="788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11760" indent="-311760" algn="just">
              <a:lnSpc>
                <a:spcPct val="80000"/>
              </a:lnSpc>
              <a:spcBef>
                <a:spcPts val="788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100" spc="-1" strike="noStrike">
                <a:solidFill>
                  <a:srgbClr val="000099"/>
                </a:solidFill>
                <a:latin typeface="Times New Roman"/>
                <a:ea typeface="굴림체"/>
              </a:rPr>
              <a:t>Space-occurrence probability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11760" indent="0" algn="just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fr-CA" sz="2100" spc="-1" strike="noStrike">
                <a:solidFill>
                  <a:srgbClr val="000099"/>
                </a:solidFill>
                <a:latin typeface="Times New Roman"/>
                <a:ea typeface="바탕"/>
              </a:rPr>
              <a:t> </a:t>
            </a:r>
            <a:r>
              <a:rPr b="0" i="1" lang="fr-CA" sz="2100" spc="-1" strike="noStrike">
                <a:solidFill>
                  <a:srgbClr val="000099"/>
                </a:solidFill>
                <a:latin typeface="Times New Roman"/>
                <a:ea typeface="바탕"/>
              </a:rPr>
              <a:t>	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11760" indent="0" algn="just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P</a:t>
            </a:r>
            <a:r>
              <a:rPr b="0" i="1" lang="fr-CA" sz="21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L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(x</a:t>
            </a:r>
            <a:r>
              <a:rPr b="0" i="1" lang="fr-CA" sz="21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i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, x</a:t>
            </a:r>
            <a:r>
              <a:rPr b="0" i="1" lang="fr-CA" sz="21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i+1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)   =  f</a:t>
            </a:r>
            <a:r>
              <a:rPr b="0" i="1" lang="fr-CA" sz="21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L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(x</a:t>
            </a:r>
            <a:r>
              <a:rPr b="0" i="1" lang="fr-CA" sz="21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i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, x</a:t>
            </a:r>
            <a:r>
              <a:rPr b="0" i="1" lang="fr-CA" sz="21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i+1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)  /  f(x</a:t>
            </a:r>
            <a:r>
              <a:rPr b="0" i="1" lang="fr-CA" sz="21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 i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, x</a:t>
            </a:r>
            <a:r>
              <a:rPr b="0" i="1" lang="fr-CA" sz="21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i+1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)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11760" indent="0" algn="just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P</a:t>
            </a:r>
            <a:r>
              <a:rPr b="0" i="1" lang="fr-CA" sz="21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M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(x</a:t>
            </a:r>
            <a:r>
              <a:rPr b="0" i="1" lang="fr-CA" sz="21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i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, x</a:t>
            </a:r>
            <a:r>
              <a:rPr b="0" i="1" lang="fr-CA" sz="21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i+1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)  =  f</a:t>
            </a:r>
            <a:r>
              <a:rPr b="0" i="1" lang="fr-CA" sz="21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M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(x</a:t>
            </a:r>
            <a:r>
              <a:rPr b="0" i="1" lang="fr-CA" sz="21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i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, x</a:t>
            </a:r>
            <a:r>
              <a:rPr b="0" i="1" lang="fr-CA" sz="21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i+1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) /  f(x</a:t>
            </a:r>
            <a:r>
              <a:rPr b="0" i="1" lang="fr-CA" sz="21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 i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, x</a:t>
            </a:r>
            <a:r>
              <a:rPr b="0" i="1" lang="fr-CA" sz="21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i+1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)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11760" indent="0" algn="just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	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P</a:t>
            </a:r>
            <a:r>
              <a:rPr b="0" i="1" lang="fr-CA" sz="21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R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(x</a:t>
            </a:r>
            <a:r>
              <a:rPr b="0" i="1" lang="fr-CA" sz="21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i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, x</a:t>
            </a:r>
            <a:r>
              <a:rPr b="0" i="1" lang="fr-CA" sz="21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i+1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)  =  f</a:t>
            </a:r>
            <a:r>
              <a:rPr b="0" i="1" lang="fr-CA" sz="21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R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(x</a:t>
            </a:r>
            <a:r>
              <a:rPr b="0" i="1" lang="fr-CA" sz="21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i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, x</a:t>
            </a:r>
            <a:r>
              <a:rPr b="0" i="1" lang="fr-CA" sz="21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i+1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)  /  f(x</a:t>
            </a:r>
            <a:r>
              <a:rPr b="0" i="1" lang="fr-CA" sz="21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i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, x</a:t>
            </a:r>
            <a:r>
              <a:rPr b="0" i="1" lang="fr-CA" sz="2100" spc="-1" strike="noStrike" baseline="-30000">
                <a:solidFill>
                  <a:srgbClr val="000000"/>
                </a:solidFill>
                <a:latin typeface="Times New Roman"/>
                <a:ea typeface="바탕"/>
              </a:rPr>
              <a:t>i+1</a:t>
            </a:r>
            <a:r>
              <a:rPr b="0" i="1" lang="fr-CA" sz="2100" spc="-1" strike="noStrike">
                <a:solidFill>
                  <a:srgbClr val="000000"/>
                </a:solidFill>
                <a:latin typeface="Times New Roman"/>
                <a:ea typeface="바탕"/>
              </a:rPr>
              <a:t>)</a:t>
            </a:r>
            <a:r>
              <a:rPr b="0" i="1" lang="en-US" sz="2100" spc="-1" strike="noStrike">
                <a:solidFill>
                  <a:srgbClr val="000000"/>
                </a:solidFill>
                <a:latin typeface="Times New Roman"/>
                <a:ea typeface="굴림체"/>
              </a:rPr>
              <a:t> 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  <a:p>
            <a:pPr marL="311760" indent="0" algn="just">
              <a:lnSpc>
                <a:spcPct val="80000"/>
              </a:lnSpc>
              <a:spcBef>
                <a:spcPts val="788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굴림체"/>
                <a:ea typeface="굴림체"/>
              </a:rPr>
              <a:t>	</a:t>
            </a:r>
            <a:endParaRPr b="0" lang="en-US" sz="2100" spc="-1" strike="noStrike">
              <a:solidFill>
                <a:srgbClr val="0000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5F8F-03E8-48B5-9C59-77E5D7A41D2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en-US" sz="3200" spc="-1" strike="noStrike">
                <a:solidFill>
                  <a:srgbClr val="d60093"/>
                </a:solidFill>
                <a:latin typeface="Arial"/>
                <a:ea typeface="굴림"/>
              </a:rPr>
              <a:t>Space-Insertion Probability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 rot="10800000">
                <a:off x="838080" y="1751760"/>
                <a:ext cx="77724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x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 P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i-1</m:t>
                    </m:r>
                    <m:r>
                      <m:rPr>
                        <m:lit/>
                        <m:nor/>
                      </m:rPr>
                      <m:t xml:space="preserve">,x</m:t>
                    </m:r>
                    <m:r>
                      <m:t xml:space="preserve">i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rPr>
                        <m:lit/>
                        <m:nor/>
                      </m:rPr>
                      <m:t xml:space="preserve"> P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,x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γ</m:t>
                    </m:r>
                    <m:r>
                      <m:rPr>
                        <m:lit/>
                        <m:nor/>
                      </m:rPr>
                      <m:t xml:space="preserve"> P</m:t>
                    </m:r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,x</m:t>
                    </m:r>
                    <m:r>
                      <m:t xml:space="preserve">i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2514600" y="2362320"/>
                <a:ext cx="17780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+</m:t>
                    </m:r>
                    <m:r>
                      <m:t xml:space="preserve">β</m:t>
                    </m:r>
                    <m:r>
                      <m:t xml:space="preserve">+</m:t>
                    </m:r>
                    <m:r>
                      <m:t xml:space="preserve">γ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981080" y="4038480"/>
                <a:ext cx="3625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  <m:r>
                      <m:t xml:space="preserve">,</m:t>
                    </m:r>
                    <m:r>
                      <m:t xml:space="preserve">β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838080" y="3276720"/>
            <a:ext cx="6553440" cy="24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90000"/>
              </a:lnSpc>
              <a:spcBef>
                <a:spcPts val="1437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Times New Roman"/>
                <a:ea typeface="굴림체"/>
              </a:rPr>
              <a:t> </a:t>
            </a:r>
            <a:r>
              <a:rPr b="0" lang="en-US" sz="2300" spc="-1" strike="noStrike">
                <a:solidFill>
                  <a:srgbClr val="000099"/>
                </a:solidFill>
                <a:latin typeface="Times New Roman"/>
                <a:ea typeface="굴림체"/>
              </a:rPr>
              <a:t>The coefficient for experiment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37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37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37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Times New Roman"/>
                <a:ea typeface="굴림체"/>
              </a:rPr>
              <a:t> </a:t>
            </a:r>
            <a:r>
              <a:rPr b="0" lang="en-US" sz="2300" spc="-1" strike="noStrike">
                <a:solidFill>
                  <a:srgbClr val="000099"/>
                </a:solidFill>
                <a:latin typeface="Times New Roman"/>
                <a:ea typeface="굴림체"/>
              </a:rPr>
              <a:t>Space-insertion threshold in the experiments</a:t>
            </a:r>
            <a:r>
              <a:rPr b="0" lang="ko-KR" sz="2300" spc="-1" strike="noStrike">
                <a:solidFill>
                  <a:srgbClr val="000099"/>
                </a:solidFill>
                <a:latin typeface="Times New Roman"/>
                <a:ea typeface="굴림체"/>
              </a:rPr>
              <a:t> : 0.375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437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D78E0-8DE1-45AD-B1A5-6097D4FB13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en-US" sz="3200" spc="-1" strike="noStrike">
                <a:solidFill>
                  <a:srgbClr val="d60093"/>
                </a:solidFill>
                <a:latin typeface="Arial"/>
                <a:ea typeface="굴림"/>
              </a:rPr>
              <a:t>Experiment 1. Word Segmentation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178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1920" indent="-331920" algn="just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Times New Roman"/>
                <a:ea typeface="굴림"/>
              </a:rPr>
              <a:t>The number of data: 1,532 words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0" algn="just">
              <a:lnSpc>
                <a:spcPct val="90000"/>
              </a:lnSpc>
              <a:spcBef>
                <a:spcPts val="862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 algn="just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Times New Roman"/>
                <a:ea typeface="굴림"/>
              </a:rPr>
              <a:t>Accuracy1: unmodified answer set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 algn="just">
              <a:lnSpc>
                <a:spcPct val="90000"/>
              </a:lnSpc>
              <a:spcBef>
                <a:spcPts val="862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Times New Roman"/>
                <a:ea typeface="굴림"/>
              </a:rPr>
              <a:t>Accuracy2: modified answer set for duplicate answer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9" name=""/>
          <p:cNvGrpSpPr/>
          <p:nvPr/>
        </p:nvGrpSpPr>
        <p:grpSpPr>
          <a:xfrm>
            <a:off x="914400" y="1981080"/>
            <a:ext cx="7543080" cy="3124440"/>
            <a:chOff x="914400" y="1981080"/>
            <a:chExt cx="7543080" cy="3124440"/>
          </a:xfrm>
        </p:grpSpPr>
        <p:grpSp>
          <p:nvGrpSpPr>
            <p:cNvPr id="200" name=""/>
            <p:cNvGrpSpPr/>
            <p:nvPr/>
          </p:nvGrpSpPr>
          <p:grpSpPr>
            <a:xfrm>
              <a:off x="924840" y="1984320"/>
              <a:ext cx="7520040" cy="3117240"/>
              <a:chOff x="924840" y="1984320"/>
              <a:chExt cx="7520040" cy="311724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924840" y="1984320"/>
                <a:ext cx="1864440" cy="828720"/>
                <a:chOff x="924840" y="1984320"/>
                <a:chExt cx="1864440" cy="82872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1070280" y="1984320"/>
                  <a:ext cx="157320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Minimum frequenc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924840" y="1984320"/>
                  <a:ext cx="1864440" cy="82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2790000" y="1984320"/>
                <a:ext cx="2106360" cy="828720"/>
                <a:chOff x="2790000" y="1984320"/>
                <a:chExt cx="2106360" cy="82872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2936160" y="1984320"/>
                  <a:ext cx="181332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CA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The number of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disyllabl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790000" y="1984320"/>
                  <a:ext cx="2106360" cy="82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4897080" y="1984320"/>
                <a:ext cx="1809720" cy="828720"/>
                <a:chOff x="4897080" y="1984320"/>
                <a:chExt cx="1809720" cy="82872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5042520" y="1984320"/>
                  <a:ext cx="151848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Accuracy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(%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4897080" y="1984320"/>
                  <a:ext cx="1809720" cy="82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6707880" y="1984320"/>
                <a:ext cx="1737000" cy="828720"/>
                <a:chOff x="6707880" y="1984320"/>
                <a:chExt cx="1737000" cy="82872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6853320" y="1984320"/>
                  <a:ext cx="1445760" cy="828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Accuracy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(%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6707880" y="1984320"/>
                  <a:ext cx="1737000" cy="828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924840" y="2813040"/>
                <a:ext cx="1864440" cy="457560"/>
                <a:chOff x="924840" y="2813040"/>
                <a:chExt cx="1864440" cy="45756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1070280" y="2813040"/>
                  <a:ext cx="157320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507960"/>
                      <a:tab algn="ctr" pos="1257480"/>
                      <a:tab algn="ctr" pos="2870280"/>
                      <a:tab algn="ctr" pos="4508640"/>
                      <a:tab algn="r" pos="57150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924840" y="2813040"/>
                  <a:ext cx="1864440" cy="45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2790000" y="2813040"/>
                <a:ext cx="2106360" cy="457560"/>
                <a:chOff x="2790000" y="2813040"/>
                <a:chExt cx="2106360" cy="45756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2936160" y="2813040"/>
                  <a:ext cx="181332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156,48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2790000" y="2813040"/>
                  <a:ext cx="2106360" cy="45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97080" y="2813040"/>
                <a:ext cx="1809720" cy="457560"/>
                <a:chOff x="4897080" y="2813040"/>
                <a:chExt cx="1809720" cy="4575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5042520" y="2813040"/>
                  <a:ext cx="151848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94.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897080" y="2813040"/>
                  <a:ext cx="1809720" cy="45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6707880" y="2813040"/>
                <a:ext cx="1737000" cy="457560"/>
                <a:chOff x="6707880" y="2813040"/>
                <a:chExt cx="1737000" cy="4575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6853320" y="2813040"/>
                  <a:ext cx="144576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97.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6707880" y="2813040"/>
                  <a:ext cx="1737000" cy="45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924840" y="3270960"/>
                <a:ext cx="1864440" cy="457560"/>
                <a:chOff x="924840" y="3270960"/>
                <a:chExt cx="1864440" cy="457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1070280" y="3270960"/>
                  <a:ext cx="157320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924840" y="3270960"/>
                  <a:ext cx="1864440" cy="45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790000" y="3270960"/>
                <a:ext cx="2106360" cy="457560"/>
                <a:chOff x="2790000" y="3270960"/>
                <a:chExt cx="2106360" cy="45756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936160" y="3270960"/>
                  <a:ext cx="181332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117,76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790000" y="3270960"/>
                  <a:ext cx="2106360" cy="45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4897080" y="3270960"/>
                <a:ext cx="1809720" cy="457560"/>
                <a:chOff x="4897080" y="3270960"/>
                <a:chExt cx="1809720" cy="45756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5042520" y="3270960"/>
                  <a:ext cx="151848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94.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4897080" y="3270960"/>
                  <a:ext cx="1809720" cy="45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6707880" y="3270960"/>
                <a:ext cx="1737000" cy="457560"/>
                <a:chOff x="6707880" y="3270960"/>
                <a:chExt cx="1737000" cy="4575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6853320" y="3270960"/>
                  <a:ext cx="144576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97.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6707880" y="3270960"/>
                  <a:ext cx="1737000" cy="45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924840" y="3728520"/>
                <a:ext cx="1864440" cy="457560"/>
                <a:chOff x="924840" y="3728520"/>
                <a:chExt cx="1864440" cy="4575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1070280" y="3728520"/>
                  <a:ext cx="157320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1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924840" y="3728520"/>
                  <a:ext cx="1864440" cy="45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2790000" y="3728520"/>
                <a:ext cx="2106360" cy="457560"/>
                <a:chOff x="2790000" y="3728520"/>
                <a:chExt cx="2106360" cy="4575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2936160" y="3728520"/>
                  <a:ext cx="181332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81,38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2790000" y="3728520"/>
                  <a:ext cx="2106360" cy="45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4897080" y="3728520"/>
                <a:ext cx="1809720" cy="457560"/>
                <a:chOff x="4897080" y="3728520"/>
                <a:chExt cx="1809720" cy="45756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5042520" y="3728520"/>
                  <a:ext cx="151848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94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4897080" y="3728520"/>
                  <a:ext cx="1809720" cy="45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6707880" y="3728520"/>
                <a:ext cx="1737000" cy="457560"/>
                <a:chOff x="6707880" y="3728520"/>
                <a:chExt cx="1737000" cy="4575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6853320" y="3728520"/>
                  <a:ext cx="144576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97.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6707880" y="3728520"/>
                  <a:ext cx="1737000" cy="45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924840" y="4186440"/>
                <a:ext cx="1864440" cy="457560"/>
                <a:chOff x="924840" y="4186440"/>
                <a:chExt cx="1864440" cy="4575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1070280" y="4186440"/>
                  <a:ext cx="157320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3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924840" y="4186440"/>
                  <a:ext cx="1864440" cy="45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2790000" y="4186440"/>
                <a:ext cx="2106360" cy="457560"/>
                <a:chOff x="2790000" y="4186440"/>
                <a:chExt cx="2106360" cy="45756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2936160" y="4186440"/>
                  <a:ext cx="181332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50,40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2790000" y="4186440"/>
                  <a:ext cx="2106360" cy="45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4897080" y="4186440"/>
                <a:ext cx="1809720" cy="457560"/>
                <a:chOff x="4897080" y="4186440"/>
                <a:chExt cx="1809720" cy="45756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5042520" y="4186440"/>
                  <a:ext cx="151848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93.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4897080" y="4186440"/>
                  <a:ext cx="1809720" cy="45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6707880" y="4186440"/>
                <a:ext cx="1737000" cy="457560"/>
                <a:chOff x="6707880" y="4186440"/>
                <a:chExt cx="1737000" cy="45756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6853320" y="4186440"/>
                  <a:ext cx="144576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96.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6707880" y="4186440"/>
                  <a:ext cx="1737000" cy="45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924840" y="4644000"/>
                <a:ext cx="1864440" cy="457560"/>
                <a:chOff x="924840" y="4644000"/>
                <a:chExt cx="1864440" cy="45756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1070280" y="4644000"/>
                  <a:ext cx="157320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9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924840" y="4644000"/>
                  <a:ext cx="1864440" cy="45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2790000" y="4644000"/>
                <a:ext cx="2106360" cy="457560"/>
                <a:chOff x="2790000" y="4644000"/>
                <a:chExt cx="2106360" cy="45756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2936160" y="4644000"/>
                  <a:ext cx="181332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28,65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790000" y="4644000"/>
                  <a:ext cx="2106360" cy="45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4897080" y="4644000"/>
                <a:ext cx="1809720" cy="457560"/>
                <a:chOff x="4897080" y="4644000"/>
                <a:chExt cx="1809720" cy="4575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5042520" y="4644000"/>
                  <a:ext cx="151848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92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897080" y="4644000"/>
                  <a:ext cx="1809720" cy="45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6707880" y="4644000"/>
                <a:ext cx="1737000" cy="457560"/>
                <a:chOff x="6707880" y="4644000"/>
                <a:chExt cx="1737000" cy="45756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6853320" y="4644000"/>
                  <a:ext cx="144576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94.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6707880" y="4644000"/>
                  <a:ext cx="1737000" cy="4575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73" name=""/>
            <p:cNvSpPr/>
            <p:nvPr/>
          </p:nvSpPr>
          <p:spPr>
            <a:xfrm>
              <a:off x="914400" y="1981080"/>
              <a:ext cx="7543080" cy="31244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172F-C799-4598-BB7B-6003CBEF69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440" y="291600"/>
            <a:ext cx="7467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en-US" sz="3200" spc="-1" strike="noStrike">
                <a:solidFill>
                  <a:srgbClr val="d60093"/>
                </a:solidFill>
                <a:latin typeface="Arial"/>
                <a:ea typeface="굴림"/>
              </a:rPr>
              <a:t>Experiment 2. Line-End Word Spacing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1788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1920" indent="-331920">
              <a:lnSpc>
                <a:spcPct val="90000"/>
              </a:lnSpc>
              <a:spcBef>
                <a:spcPts val="1287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Times New Roman"/>
                <a:ea typeface="굴림"/>
              </a:rPr>
              <a:t>The number of data: </a:t>
            </a:r>
            <a:r>
              <a:rPr b="0" lang="ko-KR" sz="2300" spc="-1" strike="noStrike">
                <a:solidFill>
                  <a:srgbClr val="000099"/>
                </a:solidFill>
                <a:latin typeface="Times New Roman"/>
                <a:ea typeface="굴림"/>
              </a:rPr>
              <a:t>515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90000"/>
              </a:lnSpc>
              <a:spcBef>
                <a:spcPts val="1287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Times New Roman"/>
                <a:ea typeface="굴림"/>
              </a:rPr>
              <a:t>Word spacing accuracy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1295280" y="2666880"/>
            <a:ext cx="6247800" cy="3276720"/>
            <a:chOff x="1295280" y="2666880"/>
            <a:chExt cx="6247800" cy="3276720"/>
          </a:xfrm>
        </p:grpSpPr>
        <p:grpSp>
          <p:nvGrpSpPr>
            <p:cNvPr id="277" name=""/>
            <p:cNvGrpSpPr/>
            <p:nvPr/>
          </p:nvGrpSpPr>
          <p:grpSpPr>
            <a:xfrm>
              <a:off x="1306440" y="2670480"/>
              <a:ext cx="6223320" cy="3269160"/>
              <a:chOff x="1306440" y="2670480"/>
              <a:chExt cx="6223320" cy="3269160"/>
            </a:xfrm>
          </p:grpSpPr>
          <p:grpSp>
            <p:nvGrpSpPr>
              <p:cNvPr id="278" name=""/>
              <p:cNvGrpSpPr/>
              <p:nvPr/>
            </p:nvGrpSpPr>
            <p:grpSpPr>
              <a:xfrm>
                <a:off x="1306440" y="2670480"/>
                <a:ext cx="2053800" cy="869400"/>
                <a:chOff x="1306440" y="2670480"/>
                <a:chExt cx="2053800" cy="86940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1460520" y="2670480"/>
                  <a:ext cx="174420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Minimum Frequenc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1306440" y="2670480"/>
                  <a:ext cx="205380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1" name=""/>
              <p:cNvGrpSpPr/>
              <p:nvPr/>
            </p:nvGrpSpPr>
            <p:grpSpPr>
              <a:xfrm>
                <a:off x="3360960" y="2670480"/>
                <a:ext cx="2250360" cy="869400"/>
                <a:chOff x="3360960" y="2670480"/>
                <a:chExt cx="2250360" cy="869400"/>
              </a:xfrm>
            </p:grpSpPr>
            <p:sp>
              <p:nvSpPr>
                <p:cNvPr id="282" name=""/>
                <p:cNvSpPr/>
                <p:nvPr/>
              </p:nvSpPr>
              <p:spPr>
                <a:xfrm>
                  <a:off x="3515040" y="2670480"/>
                  <a:ext cx="194148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The number of disyllabl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>
                  <a:off x="3360960" y="2670480"/>
                  <a:ext cx="225036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4" name=""/>
              <p:cNvGrpSpPr/>
              <p:nvPr/>
            </p:nvGrpSpPr>
            <p:grpSpPr>
              <a:xfrm>
                <a:off x="5612040" y="2670480"/>
                <a:ext cx="1917720" cy="869400"/>
                <a:chOff x="5612040" y="2670480"/>
                <a:chExt cx="1917720" cy="869400"/>
              </a:xfrm>
            </p:grpSpPr>
            <p:sp>
              <p:nvSpPr>
                <p:cNvPr id="285" name=""/>
                <p:cNvSpPr/>
                <p:nvPr/>
              </p:nvSpPr>
              <p:spPr>
                <a:xfrm>
                  <a:off x="5766120" y="2670480"/>
                  <a:ext cx="160920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Accuracy (%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5612040" y="2670480"/>
                  <a:ext cx="19177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1306440" y="3539880"/>
                <a:ext cx="2053800" cy="479880"/>
                <a:chOff x="1306440" y="3539880"/>
                <a:chExt cx="2053800" cy="47988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1460520" y="3539880"/>
                  <a:ext cx="1744200" cy="47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507960"/>
                      <a:tab algn="ctr" pos="1257480"/>
                      <a:tab algn="ctr" pos="2870280"/>
                      <a:tab algn="ctr" pos="4508640"/>
                      <a:tab algn="r" pos="57150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1306440" y="3539880"/>
                  <a:ext cx="2053800" cy="47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0" name=""/>
              <p:cNvGrpSpPr/>
              <p:nvPr/>
            </p:nvGrpSpPr>
            <p:grpSpPr>
              <a:xfrm>
                <a:off x="3360960" y="3539880"/>
                <a:ext cx="2250360" cy="479880"/>
                <a:chOff x="3360960" y="3539880"/>
                <a:chExt cx="2250360" cy="479880"/>
              </a:xfrm>
            </p:grpSpPr>
            <p:sp>
              <p:nvSpPr>
                <p:cNvPr id="291" name=""/>
                <p:cNvSpPr/>
                <p:nvPr/>
              </p:nvSpPr>
              <p:spPr>
                <a:xfrm>
                  <a:off x="3515040" y="3539880"/>
                  <a:ext cx="1941480" cy="47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156,48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3360960" y="3539880"/>
                  <a:ext cx="2250360" cy="47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3" name=""/>
              <p:cNvGrpSpPr/>
              <p:nvPr/>
            </p:nvGrpSpPr>
            <p:grpSpPr>
              <a:xfrm>
                <a:off x="5612040" y="3539880"/>
                <a:ext cx="1917720" cy="479880"/>
                <a:chOff x="5612040" y="3539880"/>
                <a:chExt cx="1917720" cy="47988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5766120" y="3539880"/>
                  <a:ext cx="1609200" cy="47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90.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5612040" y="3539880"/>
                  <a:ext cx="1917720" cy="47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1306440" y="4019760"/>
                <a:ext cx="2053800" cy="479520"/>
                <a:chOff x="1306440" y="4019760"/>
                <a:chExt cx="2053800" cy="4795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1460520" y="4019760"/>
                  <a:ext cx="1744200" cy="47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1306440" y="4019760"/>
                  <a:ext cx="2053800" cy="47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3360960" y="4019760"/>
                <a:ext cx="2250360" cy="479520"/>
                <a:chOff x="3360960" y="4019760"/>
                <a:chExt cx="2250360" cy="47952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3515040" y="4019760"/>
                  <a:ext cx="1941480" cy="47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117,76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3360960" y="4019760"/>
                  <a:ext cx="2250360" cy="47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5612040" y="4019760"/>
                <a:ext cx="1917720" cy="479520"/>
                <a:chOff x="5612040" y="4019760"/>
                <a:chExt cx="1917720" cy="47952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5766120" y="4019760"/>
                  <a:ext cx="1609200" cy="47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89.9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612040" y="4019760"/>
                  <a:ext cx="1917720" cy="47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1306440" y="4499640"/>
                <a:ext cx="2053800" cy="479880"/>
                <a:chOff x="1306440" y="4499640"/>
                <a:chExt cx="2053800" cy="47988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1460520" y="4499640"/>
                  <a:ext cx="1744200" cy="47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1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1306440" y="4499640"/>
                  <a:ext cx="2053800" cy="47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3360960" y="4499640"/>
                <a:ext cx="2250360" cy="479880"/>
                <a:chOff x="3360960" y="4499640"/>
                <a:chExt cx="2250360" cy="47988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3515040" y="4499640"/>
                  <a:ext cx="1941480" cy="47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81,38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3360960" y="4499640"/>
                  <a:ext cx="2250360" cy="47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5612040" y="4499640"/>
                <a:ext cx="1917720" cy="479880"/>
                <a:chOff x="5612040" y="4499640"/>
                <a:chExt cx="1917720" cy="47988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5766120" y="4499640"/>
                  <a:ext cx="1609200" cy="47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89.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5612040" y="4499640"/>
                  <a:ext cx="1917720" cy="47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1306440" y="4979880"/>
                <a:ext cx="2053800" cy="479520"/>
                <a:chOff x="1306440" y="4979880"/>
                <a:chExt cx="2053800" cy="4795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1460520" y="4979880"/>
                  <a:ext cx="1744200" cy="47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3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1306440" y="4979880"/>
                  <a:ext cx="2053800" cy="47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3360960" y="4979880"/>
                <a:ext cx="2250360" cy="479520"/>
                <a:chOff x="3360960" y="4979880"/>
                <a:chExt cx="2250360" cy="4795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3515040" y="4979880"/>
                  <a:ext cx="1941480" cy="47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50,40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3360960" y="4979880"/>
                  <a:ext cx="2250360" cy="47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5612040" y="4979880"/>
                <a:ext cx="1917720" cy="479520"/>
                <a:chOff x="5612040" y="4979880"/>
                <a:chExt cx="1917720" cy="4795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5766120" y="4979880"/>
                  <a:ext cx="1609200" cy="479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88.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5612040" y="4979880"/>
                  <a:ext cx="1917720" cy="4795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1306440" y="5459760"/>
                <a:ext cx="2053800" cy="479880"/>
                <a:chOff x="1306440" y="5459760"/>
                <a:chExt cx="2053800" cy="47988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1460520" y="5459760"/>
                  <a:ext cx="1744200" cy="47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9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1306440" y="5459760"/>
                  <a:ext cx="2053800" cy="47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3360960" y="5459760"/>
                <a:ext cx="2250360" cy="479880"/>
                <a:chOff x="3360960" y="5459760"/>
                <a:chExt cx="2250360" cy="47988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3515040" y="5459760"/>
                  <a:ext cx="1941480" cy="47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28,65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3360960" y="5459760"/>
                  <a:ext cx="2250360" cy="47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5612040" y="5459760"/>
                <a:ext cx="1917720" cy="479880"/>
                <a:chOff x="5612040" y="5459760"/>
                <a:chExt cx="1917720" cy="4798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5766120" y="5459760"/>
                  <a:ext cx="1609200" cy="47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87.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5612040" y="5459760"/>
                  <a:ext cx="1917720" cy="47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2" name=""/>
            <p:cNvSpPr/>
            <p:nvPr/>
          </p:nvSpPr>
          <p:spPr>
            <a:xfrm>
              <a:off x="1295280" y="2666880"/>
              <a:ext cx="6247800" cy="32767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4E54-1E54-4A24-88D8-7CDB4F0758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80520" y="304920"/>
            <a:ext cx="8458200" cy="8157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i="1" lang="en-US" sz="3200" spc="-1" strike="noStrike">
                <a:solidFill>
                  <a:srgbClr val="d60093"/>
                </a:solidFill>
                <a:latin typeface="Arial"/>
                <a:ea typeface="굴림"/>
              </a:rPr>
              <a:t>Experiment 3. Detecting Word-spacing Errors</a:t>
            </a:r>
            <a:endParaRPr b="1" i="1" lang="en-US" sz="32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1920" indent="-331920">
              <a:lnSpc>
                <a:spcPct val="90000"/>
              </a:lnSpc>
              <a:spcBef>
                <a:spcPts val="1287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300" spc="-1" strike="noStrike">
                <a:solidFill>
                  <a:srgbClr val="000099"/>
                </a:solidFill>
                <a:latin typeface="Times New Roman"/>
                <a:ea typeface="굴림"/>
              </a:rPr>
              <a:t>Error set : 279 words(collected from real texts)</a:t>
            </a:r>
            <a:endParaRPr b="0" lang="en-US" sz="23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295280" y="2438280"/>
            <a:ext cx="6628680" cy="3429000"/>
            <a:chOff x="1295280" y="2438280"/>
            <a:chExt cx="6628680" cy="3429000"/>
          </a:xfrm>
        </p:grpSpPr>
        <p:grpSp>
          <p:nvGrpSpPr>
            <p:cNvPr id="336" name=""/>
            <p:cNvGrpSpPr/>
            <p:nvPr/>
          </p:nvGrpSpPr>
          <p:grpSpPr>
            <a:xfrm>
              <a:off x="1307160" y="2441880"/>
              <a:ext cx="6602760" cy="3421080"/>
              <a:chOff x="1307160" y="2441880"/>
              <a:chExt cx="6602760" cy="342108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1307160" y="2441880"/>
                <a:ext cx="2179080" cy="909720"/>
                <a:chOff x="1307160" y="2441880"/>
                <a:chExt cx="2179080" cy="90972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1470600" y="2441880"/>
                  <a:ext cx="1850760" cy="90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Minimum frequency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1307160" y="2441880"/>
                  <a:ext cx="2179080" cy="90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3486960" y="2441880"/>
                <a:ext cx="2387520" cy="909720"/>
                <a:chOff x="3486960" y="2441880"/>
                <a:chExt cx="2387520" cy="909720"/>
              </a:xfrm>
            </p:grpSpPr>
            <p:sp>
              <p:nvSpPr>
                <p:cNvPr id="341" name=""/>
                <p:cNvSpPr/>
                <p:nvPr/>
              </p:nvSpPr>
              <p:spPr>
                <a:xfrm>
                  <a:off x="3650400" y="2441880"/>
                  <a:ext cx="2059920" cy="90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The number of disyllable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"/>
                <p:cNvSpPr/>
                <p:nvPr/>
              </p:nvSpPr>
              <p:spPr>
                <a:xfrm>
                  <a:off x="3486960" y="2441880"/>
                  <a:ext cx="2387520" cy="90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3" name=""/>
              <p:cNvGrpSpPr/>
              <p:nvPr/>
            </p:nvGrpSpPr>
            <p:grpSpPr>
              <a:xfrm>
                <a:off x="5875200" y="2441880"/>
                <a:ext cx="2034720" cy="909720"/>
                <a:chOff x="5875200" y="2441880"/>
                <a:chExt cx="2034720" cy="909720"/>
              </a:xfrm>
            </p:grpSpPr>
            <p:sp>
              <p:nvSpPr>
                <p:cNvPr id="344" name=""/>
                <p:cNvSpPr/>
                <p:nvPr/>
              </p:nvSpPr>
              <p:spPr>
                <a:xfrm>
                  <a:off x="6038640" y="2441880"/>
                  <a:ext cx="1707120" cy="90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Accuracy(%)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5875200" y="2441880"/>
                  <a:ext cx="2034720" cy="90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1307160" y="3351600"/>
                <a:ext cx="2179080" cy="502200"/>
                <a:chOff x="1307160" y="3351600"/>
                <a:chExt cx="2179080" cy="50220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1470600" y="3351600"/>
                  <a:ext cx="1850760" cy="50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r" pos="507960"/>
                      <a:tab algn="ctr" pos="1257480"/>
                      <a:tab algn="ctr" pos="2870280"/>
                      <a:tab algn="ctr" pos="4508640"/>
                      <a:tab algn="r" pos="57150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3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307160" y="3351600"/>
                  <a:ext cx="2179080" cy="50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9" name=""/>
              <p:cNvGrpSpPr/>
              <p:nvPr/>
            </p:nvGrpSpPr>
            <p:grpSpPr>
              <a:xfrm>
                <a:off x="3486960" y="3351600"/>
                <a:ext cx="2387520" cy="502200"/>
                <a:chOff x="3486960" y="3351600"/>
                <a:chExt cx="2387520" cy="50220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3650400" y="3351600"/>
                  <a:ext cx="2059920" cy="50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156,48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3486960" y="3351600"/>
                  <a:ext cx="2387520" cy="50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" name=""/>
              <p:cNvGrpSpPr/>
              <p:nvPr/>
            </p:nvGrpSpPr>
            <p:grpSpPr>
              <a:xfrm>
                <a:off x="5875200" y="3351600"/>
                <a:ext cx="2034720" cy="502200"/>
                <a:chOff x="5875200" y="3351600"/>
                <a:chExt cx="2034720" cy="502200"/>
              </a:xfrm>
            </p:grpSpPr>
            <p:sp>
              <p:nvSpPr>
                <p:cNvPr id="353" name=""/>
                <p:cNvSpPr/>
                <p:nvPr/>
              </p:nvSpPr>
              <p:spPr>
                <a:xfrm>
                  <a:off x="6038640" y="3351600"/>
                  <a:ext cx="1707120" cy="50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82.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5875200" y="3351600"/>
                  <a:ext cx="2034720" cy="50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5" name=""/>
              <p:cNvGrpSpPr/>
              <p:nvPr/>
            </p:nvGrpSpPr>
            <p:grpSpPr>
              <a:xfrm>
                <a:off x="1307160" y="3854160"/>
                <a:ext cx="2179080" cy="501840"/>
                <a:chOff x="1307160" y="3854160"/>
                <a:chExt cx="2179080" cy="501840"/>
              </a:xfrm>
            </p:grpSpPr>
            <p:sp>
              <p:nvSpPr>
                <p:cNvPr id="356" name=""/>
                <p:cNvSpPr/>
                <p:nvPr/>
              </p:nvSpPr>
              <p:spPr>
                <a:xfrm>
                  <a:off x="1470600" y="3854160"/>
                  <a:ext cx="185076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7" name=""/>
                <p:cNvSpPr/>
                <p:nvPr/>
              </p:nvSpPr>
              <p:spPr>
                <a:xfrm>
                  <a:off x="1307160" y="3854160"/>
                  <a:ext cx="217908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" name=""/>
              <p:cNvGrpSpPr/>
              <p:nvPr/>
            </p:nvGrpSpPr>
            <p:grpSpPr>
              <a:xfrm>
                <a:off x="3486960" y="3854160"/>
                <a:ext cx="2387520" cy="501840"/>
                <a:chOff x="3486960" y="3854160"/>
                <a:chExt cx="2387520" cy="50184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3650400" y="3854160"/>
                  <a:ext cx="205992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117,765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3486960" y="3854160"/>
                  <a:ext cx="238752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5875200" y="3854160"/>
                <a:ext cx="2034720" cy="501840"/>
                <a:chOff x="5875200" y="3854160"/>
                <a:chExt cx="2034720" cy="50184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6038640" y="3854160"/>
                  <a:ext cx="170712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81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5875200" y="3854160"/>
                  <a:ext cx="203472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1307160" y="4356000"/>
                <a:ext cx="2179080" cy="502200"/>
                <a:chOff x="1307160" y="4356000"/>
                <a:chExt cx="2179080" cy="502200"/>
              </a:xfrm>
            </p:grpSpPr>
            <p:sp>
              <p:nvSpPr>
                <p:cNvPr id="365" name=""/>
                <p:cNvSpPr/>
                <p:nvPr/>
              </p:nvSpPr>
              <p:spPr>
                <a:xfrm>
                  <a:off x="1470600" y="4356000"/>
                  <a:ext cx="1850760" cy="50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1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6" name=""/>
                <p:cNvSpPr/>
                <p:nvPr/>
              </p:nvSpPr>
              <p:spPr>
                <a:xfrm>
                  <a:off x="1307160" y="4356000"/>
                  <a:ext cx="2179080" cy="50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3486960" y="4356000"/>
                <a:ext cx="2387520" cy="502200"/>
                <a:chOff x="3486960" y="4356000"/>
                <a:chExt cx="2387520" cy="502200"/>
              </a:xfrm>
            </p:grpSpPr>
            <p:sp>
              <p:nvSpPr>
                <p:cNvPr id="368" name=""/>
                <p:cNvSpPr/>
                <p:nvPr/>
              </p:nvSpPr>
              <p:spPr>
                <a:xfrm>
                  <a:off x="3650400" y="4356000"/>
                  <a:ext cx="2059920" cy="50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81,38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3486960" y="4356000"/>
                  <a:ext cx="2387520" cy="50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5875200" y="4356000"/>
                <a:ext cx="2034720" cy="502200"/>
                <a:chOff x="5875200" y="4356000"/>
                <a:chExt cx="2034720" cy="50220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6038640" y="4356000"/>
                  <a:ext cx="1707120" cy="50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77.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5875200" y="4356000"/>
                  <a:ext cx="2034720" cy="50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3" name=""/>
              <p:cNvGrpSpPr/>
              <p:nvPr/>
            </p:nvGrpSpPr>
            <p:grpSpPr>
              <a:xfrm>
                <a:off x="1307160" y="4858560"/>
                <a:ext cx="2179080" cy="501840"/>
                <a:chOff x="1307160" y="4858560"/>
                <a:chExt cx="2179080" cy="501840"/>
              </a:xfrm>
            </p:grpSpPr>
            <p:sp>
              <p:nvSpPr>
                <p:cNvPr id="374" name=""/>
                <p:cNvSpPr/>
                <p:nvPr/>
              </p:nvSpPr>
              <p:spPr>
                <a:xfrm>
                  <a:off x="1470600" y="4858560"/>
                  <a:ext cx="185076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37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1307160" y="4858560"/>
                  <a:ext cx="217908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3486960" y="4858560"/>
                <a:ext cx="2387520" cy="501840"/>
                <a:chOff x="3486960" y="4858560"/>
                <a:chExt cx="2387520" cy="50184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3650400" y="4858560"/>
                  <a:ext cx="205992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50,406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3486960" y="4858560"/>
                  <a:ext cx="238752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5875200" y="4858560"/>
                <a:ext cx="2034720" cy="501840"/>
                <a:chOff x="5875200" y="4858560"/>
                <a:chExt cx="2034720" cy="50184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6038640" y="4858560"/>
                  <a:ext cx="1707120" cy="501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72.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5875200" y="4858560"/>
                  <a:ext cx="2034720" cy="5018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1307160" y="5360760"/>
                <a:ext cx="2179080" cy="502200"/>
                <a:chOff x="1307160" y="5360760"/>
                <a:chExt cx="2179080" cy="50220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1470600" y="5360760"/>
                  <a:ext cx="1850760" cy="50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9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307160" y="5360760"/>
                  <a:ext cx="2179080" cy="50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3486960" y="5360760"/>
                <a:ext cx="2387520" cy="502200"/>
                <a:chOff x="3486960" y="5360760"/>
                <a:chExt cx="2387520" cy="50220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3650400" y="5360760"/>
                  <a:ext cx="2059920" cy="50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28,65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3486960" y="5360760"/>
                  <a:ext cx="2387520" cy="50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5875200" y="5360760"/>
                <a:ext cx="2034720" cy="502200"/>
                <a:chOff x="5875200" y="5360760"/>
                <a:chExt cx="2034720" cy="50220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6038640" y="5360760"/>
                  <a:ext cx="1707120" cy="502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88920" rIns="88920" tIns="44280" bIns="44280" anchor="ctr">
                  <a:no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ko-KR" sz="2000" spc="-1" strike="noStrike">
                      <a:solidFill>
                        <a:srgbClr val="000000"/>
                      </a:solidFill>
                      <a:latin typeface="Times New Roman"/>
                      <a:ea typeface="바탕"/>
                    </a:rPr>
                    <a:t>67.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5875200" y="5360760"/>
                  <a:ext cx="2034720" cy="5022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8560" rIns="88560" tIns="44280" bIns="44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1" name=""/>
            <p:cNvSpPr/>
            <p:nvPr/>
          </p:nvSpPr>
          <p:spPr>
            <a:xfrm>
              <a:off x="1295280" y="2438280"/>
              <a:ext cx="6628680" cy="3429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8560" rIns="88560" tIns="44280" bIns="442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758F-3977-47B8-87ED-63128D30D4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12T09:54:24Z</dcterms:created>
  <dc:creator>강승식</dc:creator>
  <dc:description/>
  <dc:language>en-US</dc:language>
  <cp:lastModifiedBy>강승식</cp:lastModifiedBy>
  <cp:lastPrinted>2000-10-13T00:53:25Z</cp:lastPrinted>
  <dcterms:modified xsi:type="dcterms:W3CDTF">2002-07-05T08:02:10Z</dcterms:modified>
  <cp:revision>220</cp:revision>
  <dc:subject/>
  <dc:title>정보 사회와 컴퓨터</dc:title>
</cp:coreProperties>
</file>