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68BA-1371-48BB-B198-49CFF678F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1DA9-1437-42D8-8ACF-CCAAB4062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8DD0-FFD7-4C21-A601-C694A7C96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CEC0-408A-477F-A912-2A62D1E83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EF21C-C522-40A3-9E26-03B9095AC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98ED8-CC78-47C3-8EF8-D8CE92DEB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A819F-1208-4B62-88C3-FA773DDCA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10621-49C5-4E0C-8670-8BCBA460E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B8A61-94CA-43CE-B24F-060C34B11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371240" y="475920"/>
            <a:ext cx="7086600" cy="59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AF0BF-E9F2-4889-B065-71310E566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317FD-276F-43DF-8BD4-174F90B2F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02A6-E302-4F57-B18F-02218E810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B86A9-7003-4701-80D9-E34AE7D30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D5223-B8ED-4175-9F8D-E342B46DA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E9418-9430-4469-BC90-F85C2EC4A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5D975-5D72-4D32-BF84-B192F40C5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8F5D6-A771-435A-863A-9EA137E7E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A1D1-AB33-4C88-8003-FD1446E51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7F550-A385-4F62-B3BC-BD866F244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1B45-881A-4739-840C-33B5947C0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371240" y="475920"/>
            <a:ext cx="7086600" cy="591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40FB-3F20-4811-BF40-C80F15D08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2314-A6E0-4577-9070-CB9E73D3E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405B-2BE6-4355-A4DB-F6AA450B9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cc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A9EC-42E8-45E9-B17D-33AC8EC8E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03040" y="276120"/>
            <a:ext cx="1260720" cy="1602000"/>
            <a:chOff x="203040" y="276120"/>
            <a:chExt cx="1260720" cy="1602000"/>
          </a:xfrm>
        </p:grpSpPr>
        <p:grpSp>
          <p:nvGrpSpPr>
            <p:cNvPr id="1" name=""/>
            <p:cNvGrpSpPr/>
            <p:nvPr/>
          </p:nvGrpSpPr>
          <p:grpSpPr>
            <a:xfrm>
              <a:off x="203040" y="276120"/>
              <a:ext cx="1170000" cy="1602000"/>
              <a:chOff x="203040" y="276120"/>
              <a:chExt cx="1170000" cy="1602000"/>
            </a:xfrm>
          </p:grpSpPr>
          <p:sp>
            <p:nvSpPr>
              <p:cNvPr id="2" name=""/>
              <p:cNvSpPr/>
              <p:nvPr/>
            </p:nvSpPr>
            <p:spPr>
              <a:xfrm>
                <a:off x="312840" y="431640"/>
                <a:ext cx="950760" cy="1293840"/>
              </a:xfrm>
              <a:custGeom>
                <a:avLst/>
                <a:gdLst/>
                <a:ahLst/>
                <a:rect l="l" t="t" r="r" b="b"/>
                <a:pathLst>
                  <a:path w="599" h="815">
                    <a:moveTo>
                      <a:pt x="299" y="0"/>
                    </a:moveTo>
                    <a:lnTo>
                      <a:pt x="0" y="407"/>
                    </a:lnTo>
                    <a:lnTo>
                      <a:pt x="299" y="814"/>
                    </a:lnTo>
                    <a:lnTo>
                      <a:pt x="598" y="407"/>
                    </a:lnTo>
                    <a:lnTo>
                      <a:pt x="299" y="0"/>
                    </a:lnTo>
                  </a:path>
                </a:pathLst>
              </a:custGeom>
              <a:gradFill rotWithShape="0">
                <a:gsLst>
                  <a:gs pos="0">
                    <a:srgbClr val="2a004e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" name=""/>
              <p:cNvGrpSpPr/>
              <p:nvPr/>
            </p:nvGrpSpPr>
            <p:grpSpPr>
              <a:xfrm>
                <a:off x="203040" y="276120"/>
                <a:ext cx="1170000" cy="801720"/>
                <a:chOff x="203040" y="276120"/>
                <a:chExt cx="1170000" cy="801720"/>
              </a:xfrm>
            </p:grpSpPr>
            <p:sp>
              <p:nvSpPr>
                <p:cNvPr id="4" name=""/>
                <p:cNvSpPr/>
                <p:nvPr/>
              </p:nvSpPr>
              <p:spPr>
                <a:xfrm>
                  <a:off x="787320" y="276120"/>
                  <a:ext cx="585720" cy="801720"/>
                </a:xfrm>
                <a:custGeom>
                  <a:avLst/>
                  <a:gdLst/>
                  <a:ahLst/>
                  <a:rect l="l" t="t" r="r" b="b"/>
                  <a:pathLst>
                    <a:path w="369" h="505">
                      <a:moveTo>
                        <a:pt x="0" y="100"/>
                      </a:moveTo>
                      <a:lnTo>
                        <a:pt x="0" y="0"/>
                      </a:lnTo>
                      <a:lnTo>
                        <a:pt x="368" y="504"/>
                      </a:lnTo>
                      <a:lnTo>
                        <a:pt x="295" y="504"/>
                      </a:lnTo>
                      <a:lnTo>
                        <a:pt x="0" y="100"/>
                      </a:lnTo>
                    </a:path>
                  </a:pathLst>
                </a:custGeom>
                <a:solidFill>
                  <a:srgbClr val="7500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203040" y="276120"/>
                  <a:ext cx="586080" cy="801720"/>
                </a:xfrm>
                <a:custGeom>
                  <a:avLst/>
                  <a:gdLst/>
                  <a:ahLst/>
                  <a:rect l="l" t="t" r="r" b="b"/>
                  <a:pathLst>
                    <a:path w="369" h="505">
                      <a:moveTo>
                        <a:pt x="368" y="0"/>
                      </a:moveTo>
                      <a:lnTo>
                        <a:pt x="368" y="100"/>
                      </a:lnTo>
                      <a:lnTo>
                        <a:pt x="73" y="504"/>
                      </a:lnTo>
                      <a:lnTo>
                        <a:pt x="0" y="504"/>
                      </a:lnTo>
                      <a:lnTo>
                        <a:pt x="368" y="0"/>
                      </a:lnTo>
                    </a:path>
                  </a:pathLst>
                </a:custGeom>
                <a:solidFill>
                  <a:srgbClr val="7500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" name=""/>
              <p:cNvGrpSpPr/>
              <p:nvPr/>
            </p:nvGrpSpPr>
            <p:grpSpPr>
              <a:xfrm>
                <a:off x="203040" y="1076400"/>
                <a:ext cx="1170000" cy="801720"/>
                <a:chOff x="203040" y="1076400"/>
                <a:chExt cx="1170000" cy="801720"/>
              </a:xfrm>
            </p:grpSpPr>
            <p:sp>
              <p:nvSpPr>
                <p:cNvPr id="7" name=""/>
                <p:cNvSpPr/>
                <p:nvPr/>
              </p:nvSpPr>
              <p:spPr>
                <a:xfrm>
                  <a:off x="787320" y="1076400"/>
                  <a:ext cx="585720" cy="801720"/>
                </a:xfrm>
                <a:custGeom>
                  <a:avLst/>
                  <a:gdLst/>
                  <a:ahLst/>
                  <a:rect l="l" t="t" r="r" b="b"/>
                  <a:pathLst>
                    <a:path w="369" h="505">
                      <a:moveTo>
                        <a:pt x="295" y="0"/>
                      </a:moveTo>
                      <a:lnTo>
                        <a:pt x="368" y="0"/>
                      </a:lnTo>
                      <a:lnTo>
                        <a:pt x="0" y="504"/>
                      </a:lnTo>
                      <a:lnTo>
                        <a:pt x="0" y="404"/>
                      </a:lnTo>
                      <a:lnTo>
                        <a:pt x="295" y="0"/>
                      </a:lnTo>
                    </a:path>
                  </a:pathLst>
                </a:custGeom>
                <a:solidFill>
                  <a:srgbClr val="2a00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203040" y="1076400"/>
                  <a:ext cx="586080" cy="801720"/>
                </a:xfrm>
                <a:custGeom>
                  <a:avLst/>
                  <a:gdLst/>
                  <a:ahLst/>
                  <a:rect l="l" t="t" r="r" b="b"/>
                  <a:pathLst>
                    <a:path w="369" h="505">
                      <a:moveTo>
                        <a:pt x="73" y="0"/>
                      </a:moveTo>
                      <a:lnTo>
                        <a:pt x="368" y="404"/>
                      </a:lnTo>
                      <a:lnTo>
                        <a:pt x="368" y="504"/>
                      </a:lnTo>
                      <a:lnTo>
                        <a:pt x="0" y="0"/>
                      </a:lnTo>
                      <a:lnTo>
                        <a:pt x="73" y="0"/>
                      </a:lnTo>
                    </a:path>
                  </a:pathLst>
                </a:custGeom>
                <a:solidFill>
                  <a:srgbClr val="2a00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" name=""/>
            <p:cNvGrpSpPr/>
            <p:nvPr/>
          </p:nvGrpSpPr>
          <p:grpSpPr>
            <a:xfrm>
              <a:off x="630360" y="334800"/>
              <a:ext cx="833400" cy="762120"/>
              <a:chOff x="630360" y="334800"/>
              <a:chExt cx="833400" cy="762120"/>
            </a:xfrm>
          </p:grpSpPr>
          <p:sp>
            <p:nvSpPr>
              <p:cNvPr id="10" name=""/>
              <p:cNvSpPr/>
              <p:nvPr/>
            </p:nvSpPr>
            <p:spPr>
              <a:xfrm>
                <a:off x="630360" y="334800"/>
                <a:ext cx="833400" cy="762120"/>
              </a:xfrm>
              <a:custGeom>
                <a:avLst/>
                <a:gdLst/>
                <a:ahLst/>
                <a:rect l="l" t="t" r="r" b="b"/>
                <a:pathLst>
                  <a:path w="525" h="480">
                    <a:moveTo>
                      <a:pt x="225" y="217"/>
                    </a:moveTo>
                    <a:lnTo>
                      <a:pt x="133" y="0"/>
                    </a:lnTo>
                    <a:lnTo>
                      <a:pt x="263" y="193"/>
                    </a:lnTo>
                    <a:lnTo>
                      <a:pt x="393" y="0"/>
                    </a:lnTo>
                    <a:lnTo>
                      <a:pt x="299" y="217"/>
                    </a:lnTo>
                    <a:lnTo>
                      <a:pt x="524" y="240"/>
                    </a:lnTo>
                    <a:lnTo>
                      <a:pt x="298" y="262"/>
                    </a:lnTo>
                    <a:lnTo>
                      <a:pt x="393" y="479"/>
                    </a:lnTo>
                    <a:lnTo>
                      <a:pt x="263" y="286"/>
                    </a:lnTo>
                    <a:lnTo>
                      <a:pt x="133" y="479"/>
                    </a:lnTo>
                    <a:lnTo>
                      <a:pt x="224" y="263"/>
                    </a:lnTo>
                    <a:lnTo>
                      <a:pt x="0" y="240"/>
                    </a:lnTo>
                    <a:lnTo>
                      <a:pt x="225" y="217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44480" y="438120"/>
                <a:ext cx="606600" cy="555480"/>
              </a:xfrm>
              <a:custGeom>
                <a:avLst/>
                <a:gdLst/>
                <a:ahLst/>
                <a:rect l="l" t="t" r="r" b="b"/>
                <a:pathLst>
                  <a:path w="382" h="350">
                    <a:moveTo>
                      <a:pt x="153" y="153"/>
                    </a:moveTo>
                    <a:lnTo>
                      <a:pt x="95" y="0"/>
                    </a:lnTo>
                    <a:lnTo>
                      <a:pt x="191" y="128"/>
                    </a:lnTo>
                    <a:lnTo>
                      <a:pt x="284" y="0"/>
                    </a:lnTo>
                    <a:lnTo>
                      <a:pt x="227" y="153"/>
                    </a:lnTo>
                    <a:lnTo>
                      <a:pt x="381" y="175"/>
                    </a:lnTo>
                    <a:lnTo>
                      <a:pt x="226" y="196"/>
                    </a:lnTo>
                    <a:lnTo>
                      <a:pt x="284" y="349"/>
                    </a:lnTo>
                    <a:lnTo>
                      <a:pt x="191" y="221"/>
                    </a:lnTo>
                    <a:lnTo>
                      <a:pt x="95" y="349"/>
                    </a:lnTo>
                    <a:lnTo>
                      <a:pt x="152" y="198"/>
                    </a:lnTo>
                    <a:lnTo>
                      <a:pt x="0" y="175"/>
                    </a:lnTo>
                    <a:lnTo>
                      <a:pt x="153" y="153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7500d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33400" y="452520"/>
                <a:ext cx="428760" cy="527040"/>
              </a:xfrm>
              <a:custGeom>
                <a:avLst/>
                <a:gdLst/>
                <a:ahLst/>
                <a:rect l="l" t="t" r="r" b="b"/>
                <a:pathLst>
                  <a:path w="270" h="332">
                    <a:moveTo>
                      <a:pt x="0" y="84"/>
                    </a:moveTo>
                    <a:lnTo>
                      <a:pt x="122" y="143"/>
                    </a:lnTo>
                    <a:lnTo>
                      <a:pt x="135" y="0"/>
                    </a:lnTo>
                    <a:lnTo>
                      <a:pt x="147" y="143"/>
                    </a:lnTo>
                    <a:lnTo>
                      <a:pt x="268" y="82"/>
                    </a:lnTo>
                    <a:lnTo>
                      <a:pt x="159" y="166"/>
                    </a:lnTo>
                    <a:lnTo>
                      <a:pt x="269" y="249"/>
                    </a:lnTo>
                    <a:lnTo>
                      <a:pt x="147" y="189"/>
                    </a:lnTo>
                    <a:lnTo>
                      <a:pt x="135" y="331"/>
                    </a:lnTo>
                    <a:lnTo>
                      <a:pt x="122" y="189"/>
                    </a:lnTo>
                    <a:lnTo>
                      <a:pt x="0" y="249"/>
                    </a:lnTo>
                    <a:lnTo>
                      <a:pt x="110" y="166"/>
                    </a:lnTo>
                    <a:lnTo>
                      <a:pt x="0" y="84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993600" y="647640"/>
                <a:ext cx="108000" cy="135000"/>
              </a:xfrm>
              <a:custGeom>
                <a:avLst/>
                <a:gdLst/>
                <a:ahLst/>
                <a:rect l="l" t="t" r="r" b="b"/>
                <a:pathLst>
                  <a:path w="68" h="85">
                    <a:moveTo>
                      <a:pt x="0" y="20"/>
                    </a:moveTo>
                    <a:lnTo>
                      <a:pt x="27" y="30"/>
                    </a:lnTo>
                    <a:lnTo>
                      <a:pt x="33" y="0"/>
                    </a:lnTo>
                    <a:lnTo>
                      <a:pt x="39" y="30"/>
                    </a:lnTo>
                    <a:lnTo>
                      <a:pt x="67" y="20"/>
                    </a:lnTo>
                    <a:lnTo>
                      <a:pt x="45" y="42"/>
                    </a:lnTo>
                    <a:lnTo>
                      <a:pt x="67" y="62"/>
                    </a:lnTo>
                    <a:lnTo>
                      <a:pt x="39" y="52"/>
                    </a:lnTo>
                    <a:lnTo>
                      <a:pt x="33" y="84"/>
                    </a:lnTo>
                    <a:lnTo>
                      <a:pt x="27" y="52"/>
                    </a:lnTo>
                    <a:lnTo>
                      <a:pt x="0" y="62"/>
                    </a:lnTo>
                    <a:lnTo>
                      <a:pt x="21" y="42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00cc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  <a:ea typeface="돋움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84385-80E6-46D6-8F9E-DB0E38851492}" type="datetime">
              <a:rPr b="0" lang="ko-KR" sz="1400" spc="-1" strike="noStrike">
                <a:solidFill>
                  <a:srgbClr val="ffffff"/>
                </a:solidFill>
                <a:latin typeface="Times New Roman"/>
                <a:ea typeface="돋움"/>
              </a:rPr>
              <a:t>26年 7月 28日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  <a:ea typeface="돋움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  <a:ea typeface="돋움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  <a:ea typeface="돋움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89B01-03EF-4591-8C0A-5E0379F2FE7D}" type="slidenum">
              <a:rPr b="0" lang="ko-KR" sz="1400" spc="-1" strike="noStrike">
                <a:solidFill>
                  <a:srgbClr val="ffffff"/>
                </a:solidFill>
                <a:latin typeface="Times New Roman"/>
                <a:ea typeface="돋움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152280" y="2286000"/>
            <a:ext cx="1463760" cy="2182680"/>
            <a:chOff x="152280" y="2286000"/>
            <a:chExt cx="1463760" cy="2182680"/>
          </a:xfrm>
        </p:grpSpPr>
        <p:grpSp>
          <p:nvGrpSpPr>
            <p:cNvPr id="56" name=""/>
            <p:cNvGrpSpPr/>
            <p:nvPr/>
          </p:nvGrpSpPr>
          <p:grpSpPr>
            <a:xfrm>
              <a:off x="152280" y="2286000"/>
              <a:ext cx="1449360" cy="2182680"/>
              <a:chOff x="152280" y="2286000"/>
              <a:chExt cx="1449360" cy="2182680"/>
            </a:xfrm>
          </p:grpSpPr>
          <p:sp>
            <p:nvSpPr>
              <p:cNvPr id="57" name=""/>
              <p:cNvSpPr/>
              <p:nvPr/>
            </p:nvSpPr>
            <p:spPr>
              <a:xfrm>
                <a:off x="287280" y="2498760"/>
                <a:ext cx="1177920" cy="1762200"/>
              </a:xfrm>
              <a:custGeom>
                <a:avLst/>
                <a:gdLst/>
                <a:ahLst/>
                <a:rect l="l" t="t" r="r" b="b"/>
                <a:pathLst>
                  <a:path w="742" h="1110">
                    <a:moveTo>
                      <a:pt x="370" y="0"/>
                    </a:moveTo>
                    <a:lnTo>
                      <a:pt x="0" y="554"/>
                    </a:lnTo>
                    <a:lnTo>
                      <a:pt x="370" y="1109"/>
                    </a:lnTo>
                    <a:lnTo>
                      <a:pt x="741" y="554"/>
                    </a:lnTo>
                    <a:lnTo>
                      <a:pt x="370" y="0"/>
                    </a:lnTo>
                  </a:path>
                </a:pathLst>
              </a:custGeom>
              <a:gradFill rotWithShape="0">
                <a:gsLst>
                  <a:gs pos="0">
                    <a:srgbClr val="2a004e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8" name=""/>
              <p:cNvGrpSpPr/>
              <p:nvPr/>
            </p:nvGrpSpPr>
            <p:grpSpPr>
              <a:xfrm>
                <a:off x="152280" y="2286000"/>
                <a:ext cx="1449360" cy="1092240"/>
                <a:chOff x="152280" y="2286000"/>
                <a:chExt cx="1449360" cy="1092240"/>
              </a:xfrm>
            </p:grpSpPr>
            <p:sp>
              <p:nvSpPr>
                <p:cNvPr id="59" name=""/>
                <p:cNvSpPr/>
                <p:nvPr/>
              </p:nvSpPr>
              <p:spPr>
                <a:xfrm>
                  <a:off x="876240" y="2286000"/>
                  <a:ext cx="725400" cy="1092240"/>
                </a:xfrm>
                <a:custGeom>
                  <a:avLst/>
                  <a:gdLst/>
                  <a:ahLst/>
                  <a:rect l="l" t="t" r="r" b="b"/>
                  <a:pathLst>
                    <a:path w="457" h="688">
                      <a:moveTo>
                        <a:pt x="0" y="136"/>
                      </a:moveTo>
                      <a:lnTo>
                        <a:pt x="0" y="0"/>
                      </a:lnTo>
                      <a:lnTo>
                        <a:pt x="456" y="687"/>
                      </a:lnTo>
                      <a:lnTo>
                        <a:pt x="365" y="687"/>
                      </a:lnTo>
                      <a:lnTo>
                        <a:pt x="0" y="136"/>
                      </a:lnTo>
                    </a:path>
                  </a:pathLst>
                </a:custGeom>
                <a:solidFill>
                  <a:srgbClr val="7500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152280" y="2286000"/>
                  <a:ext cx="725760" cy="1092240"/>
                </a:xfrm>
                <a:custGeom>
                  <a:avLst/>
                  <a:gdLst/>
                  <a:ahLst/>
                  <a:rect l="l" t="t" r="r" b="b"/>
                  <a:pathLst>
                    <a:path w="457" h="688">
                      <a:moveTo>
                        <a:pt x="456" y="0"/>
                      </a:moveTo>
                      <a:lnTo>
                        <a:pt x="456" y="136"/>
                      </a:lnTo>
                      <a:lnTo>
                        <a:pt x="90" y="687"/>
                      </a:lnTo>
                      <a:lnTo>
                        <a:pt x="0" y="687"/>
                      </a:lnTo>
                      <a:lnTo>
                        <a:pt x="456" y="0"/>
                      </a:lnTo>
                    </a:path>
                  </a:pathLst>
                </a:custGeom>
                <a:solidFill>
                  <a:srgbClr val="7500d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1" name=""/>
              <p:cNvGrpSpPr/>
              <p:nvPr/>
            </p:nvGrpSpPr>
            <p:grpSpPr>
              <a:xfrm>
                <a:off x="152280" y="3376440"/>
                <a:ext cx="1449360" cy="1092240"/>
                <a:chOff x="152280" y="3376440"/>
                <a:chExt cx="1449360" cy="1092240"/>
              </a:xfrm>
            </p:grpSpPr>
            <p:sp>
              <p:nvSpPr>
                <p:cNvPr id="62" name=""/>
                <p:cNvSpPr/>
                <p:nvPr/>
              </p:nvSpPr>
              <p:spPr>
                <a:xfrm>
                  <a:off x="876240" y="3376440"/>
                  <a:ext cx="725400" cy="1092240"/>
                </a:xfrm>
                <a:custGeom>
                  <a:avLst/>
                  <a:gdLst/>
                  <a:ahLst/>
                  <a:rect l="l" t="t" r="r" b="b"/>
                  <a:pathLst>
                    <a:path w="457" h="688">
                      <a:moveTo>
                        <a:pt x="365" y="0"/>
                      </a:moveTo>
                      <a:lnTo>
                        <a:pt x="456" y="0"/>
                      </a:lnTo>
                      <a:lnTo>
                        <a:pt x="0" y="687"/>
                      </a:lnTo>
                      <a:lnTo>
                        <a:pt x="0" y="550"/>
                      </a:lnTo>
                      <a:lnTo>
                        <a:pt x="365" y="0"/>
                      </a:lnTo>
                    </a:path>
                  </a:pathLst>
                </a:custGeom>
                <a:solidFill>
                  <a:srgbClr val="2a00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152280" y="3376440"/>
                  <a:ext cx="725760" cy="1092240"/>
                </a:xfrm>
                <a:custGeom>
                  <a:avLst/>
                  <a:gdLst/>
                  <a:ahLst/>
                  <a:rect l="l" t="t" r="r" b="b"/>
                  <a:pathLst>
                    <a:path w="457" h="688">
                      <a:moveTo>
                        <a:pt x="90" y="0"/>
                      </a:moveTo>
                      <a:lnTo>
                        <a:pt x="456" y="550"/>
                      </a:lnTo>
                      <a:lnTo>
                        <a:pt x="456" y="687"/>
                      </a:lnTo>
                      <a:lnTo>
                        <a:pt x="0" y="0"/>
                      </a:lnTo>
                      <a:lnTo>
                        <a:pt x="90" y="0"/>
                      </a:lnTo>
                    </a:path>
                  </a:pathLst>
                </a:custGeom>
                <a:solidFill>
                  <a:srgbClr val="2a004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4" name=""/>
            <p:cNvGrpSpPr/>
            <p:nvPr/>
          </p:nvGrpSpPr>
          <p:grpSpPr>
            <a:xfrm>
              <a:off x="782640" y="2468520"/>
              <a:ext cx="833400" cy="762120"/>
              <a:chOff x="782640" y="2468520"/>
              <a:chExt cx="833400" cy="762120"/>
            </a:xfrm>
          </p:grpSpPr>
          <p:sp>
            <p:nvSpPr>
              <p:cNvPr id="65" name=""/>
              <p:cNvSpPr/>
              <p:nvPr/>
            </p:nvSpPr>
            <p:spPr>
              <a:xfrm>
                <a:off x="782640" y="2468520"/>
                <a:ext cx="833400" cy="762120"/>
              </a:xfrm>
              <a:custGeom>
                <a:avLst/>
                <a:gdLst/>
                <a:ahLst/>
                <a:rect l="l" t="t" r="r" b="b"/>
                <a:pathLst>
                  <a:path w="525" h="480">
                    <a:moveTo>
                      <a:pt x="225" y="217"/>
                    </a:moveTo>
                    <a:lnTo>
                      <a:pt x="133" y="0"/>
                    </a:lnTo>
                    <a:lnTo>
                      <a:pt x="263" y="193"/>
                    </a:lnTo>
                    <a:lnTo>
                      <a:pt x="393" y="0"/>
                    </a:lnTo>
                    <a:lnTo>
                      <a:pt x="299" y="217"/>
                    </a:lnTo>
                    <a:lnTo>
                      <a:pt x="524" y="240"/>
                    </a:lnTo>
                    <a:lnTo>
                      <a:pt x="298" y="262"/>
                    </a:lnTo>
                    <a:lnTo>
                      <a:pt x="393" y="479"/>
                    </a:lnTo>
                    <a:lnTo>
                      <a:pt x="263" y="286"/>
                    </a:lnTo>
                    <a:lnTo>
                      <a:pt x="133" y="479"/>
                    </a:lnTo>
                    <a:lnTo>
                      <a:pt x="224" y="263"/>
                    </a:lnTo>
                    <a:lnTo>
                      <a:pt x="0" y="240"/>
                    </a:lnTo>
                    <a:lnTo>
                      <a:pt x="225" y="217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6760" y="2571840"/>
                <a:ext cx="606600" cy="555480"/>
              </a:xfrm>
              <a:custGeom>
                <a:avLst/>
                <a:gdLst/>
                <a:ahLst/>
                <a:rect l="l" t="t" r="r" b="b"/>
                <a:pathLst>
                  <a:path w="382" h="350">
                    <a:moveTo>
                      <a:pt x="153" y="153"/>
                    </a:moveTo>
                    <a:lnTo>
                      <a:pt x="95" y="0"/>
                    </a:lnTo>
                    <a:lnTo>
                      <a:pt x="191" y="128"/>
                    </a:lnTo>
                    <a:lnTo>
                      <a:pt x="284" y="0"/>
                    </a:lnTo>
                    <a:lnTo>
                      <a:pt x="227" y="153"/>
                    </a:lnTo>
                    <a:lnTo>
                      <a:pt x="381" y="175"/>
                    </a:lnTo>
                    <a:lnTo>
                      <a:pt x="226" y="196"/>
                    </a:lnTo>
                    <a:lnTo>
                      <a:pt x="284" y="349"/>
                    </a:lnTo>
                    <a:lnTo>
                      <a:pt x="191" y="221"/>
                    </a:lnTo>
                    <a:lnTo>
                      <a:pt x="95" y="349"/>
                    </a:lnTo>
                    <a:lnTo>
                      <a:pt x="152" y="198"/>
                    </a:lnTo>
                    <a:lnTo>
                      <a:pt x="0" y="175"/>
                    </a:lnTo>
                    <a:lnTo>
                      <a:pt x="153" y="153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7500d7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985680" y="2585880"/>
                <a:ext cx="428760" cy="527040"/>
              </a:xfrm>
              <a:custGeom>
                <a:avLst/>
                <a:gdLst/>
                <a:ahLst/>
                <a:rect l="l" t="t" r="r" b="b"/>
                <a:pathLst>
                  <a:path w="270" h="332">
                    <a:moveTo>
                      <a:pt x="0" y="84"/>
                    </a:moveTo>
                    <a:lnTo>
                      <a:pt x="122" y="143"/>
                    </a:lnTo>
                    <a:lnTo>
                      <a:pt x="135" y="0"/>
                    </a:lnTo>
                    <a:lnTo>
                      <a:pt x="147" y="143"/>
                    </a:lnTo>
                    <a:lnTo>
                      <a:pt x="268" y="82"/>
                    </a:lnTo>
                    <a:lnTo>
                      <a:pt x="159" y="166"/>
                    </a:lnTo>
                    <a:lnTo>
                      <a:pt x="269" y="249"/>
                    </a:lnTo>
                    <a:lnTo>
                      <a:pt x="147" y="189"/>
                    </a:lnTo>
                    <a:lnTo>
                      <a:pt x="135" y="331"/>
                    </a:lnTo>
                    <a:lnTo>
                      <a:pt x="122" y="189"/>
                    </a:lnTo>
                    <a:lnTo>
                      <a:pt x="0" y="249"/>
                    </a:lnTo>
                    <a:lnTo>
                      <a:pt x="110" y="166"/>
                    </a:lnTo>
                    <a:lnTo>
                      <a:pt x="0" y="84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50009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146240" y="2781360"/>
                <a:ext cx="108000" cy="135000"/>
              </a:xfrm>
              <a:custGeom>
                <a:avLst/>
                <a:gdLst/>
                <a:ahLst/>
                <a:rect l="l" t="t" r="r" b="b"/>
                <a:pathLst>
                  <a:path w="68" h="85">
                    <a:moveTo>
                      <a:pt x="0" y="20"/>
                    </a:moveTo>
                    <a:lnTo>
                      <a:pt x="27" y="30"/>
                    </a:lnTo>
                    <a:lnTo>
                      <a:pt x="33" y="0"/>
                    </a:lnTo>
                    <a:lnTo>
                      <a:pt x="39" y="30"/>
                    </a:lnTo>
                    <a:lnTo>
                      <a:pt x="67" y="20"/>
                    </a:lnTo>
                    <a:lnTo>
                      <a:pt x="45" y="42"/>
                    </a:lnTo>
                    <a:lnTo>
                      <a:pt x="67" y="62"/>
                    </a:lnTo>
                    <a:lnTo>
                      <a:pt x="39" y="52"/>
                    </a:lnTo>
                    <a:lnTo>
                      <a:pt x="33" y="84"/>
                    </a:lnTo>
                    <a:lnTo>
                      <a:pt x="27" y="52"/>
                    </a:lnTo>
                    <a:lnTo>
                      <a:pt x="0" y="62"/>
                    </a:lnTo>
                    <a:lnTo>
                      <a:pt x="21" y="42"/>
                    </a:lnTo>
                    <a:lnTo>
                      <a:pt x="0" y="20"/>
                    </a:lnTo>
                  </a:path>
                </a:pathLst>
              </a:custGeom>
              <a:solidFill>
                <a:srgbClr val="f9f9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016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cccc"/>
                </a:solidFill>
                <a:latin typeface="Arial"/>
              </a:rPr>
              <a:t>Click to edit the title text format</a:t>
            </a:r>
            <a:endParaRPr b="0" i="1" lang="en-US" sz="4400" spc="-1" strike="noStrike">
              <a:solidFill>
                <a:srgbClr val="00ccc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dt" idx="4"/>
          </p:nvPr>
        </p:nvSpPr>
        <p:spPr>
          <a:xfrm>
            <a:off x="136980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  <a:ea typeface="돋움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F9C89-D0B6-4A96-A445-C133EAE9A0E5}" type="datetime">
              <a:rPr b="0" lang="ko-KR" sz="1400" spc="-1" strike="noStrike">
                <a:solidFill>
                  <a:srgbClr val="ffffff"/>
                </a:solidFill>
                <a:latin typeface="Times New Roman"/>
                <a:ea typeface="돋움"/>
              </a:rPr>
              <a:t>26年 7月 28日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ftr" idx="5"/>
          </p:nvPr>
        </p:nvSpPr>
        <p:spPr>
          <a:xfrm>
            <a:off x="3808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  <a:ea typeface="돋움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  <a:ea typeface="돋움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6"/>
          </p:nvPr>
        </p:nvSpPr>
        <p:spPr>
          <a:xfrm>
            <a:off x="7237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  <a:ea typeface="돋움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B75A9-C455-4969-9A6B-8AECCB1B019D}" type="slidenum">
              <a:rPr b="0" lang="ko-KR" sz="1400" spc="-1" strike="noStrike">
                <a:solidFill>
                  <a:srgbClr val="ffffff"/>
                </a:solidFill>
                <a:latin typeface="Times New Roman"/>
                <a:ea typeface="돋움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cccc"/>
              </a:buClr>
              <a:buSzPct val="65000"/>
              <a:buFont typeface="Monotype Sort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52120" y="914040"/>
            <a:ext cx="670572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4400" spc="-1" strike="noStrike">
                <a:solidFill>
                  <a:srgbClr val="00cccc"/>
                </a:solidFill>
                <a:latin typeface="Arial"/>
              </a:rPr>
              <a:t>가격지정 연산자의 인식</a:t>
            </a:r>
            <a:endParaRPr b="0" i="1" lang="en-US" sz="4400" spc="-1" strike="noStrike">
              <a:solidFill>
                <a:srgbClr val="00cccc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371600" y="3352680"/>
            <a:ext cx="640080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00"/>
                </a:solidFill>
                <a:latin typeface="굴림체"/>
                <a:ea typeface="굴림체"/>
              </a:rPr>
              <a:t>강 승 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00"/>
                </a:solidFill>
                <a:latin typeface="굴림체"/>
                <a:ea typeface="굴림체"/>
              </a:rPr>
              <a:t>국민대학교 컴퓨터학부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71240" y="4568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4400" spc="-1" strike="noStrike">
                <a:solidFill>
                  <a:srgbClr val="00cccc"/>
                </a:solidFill>
                <a:latin typeface="Arial"/>
              </a:rPr>
              <a:t>수사어절 정규화 필요성</a:t>
            </a:r>
            <a:endParaRPr b="0" i="1" lang="en-US" sz="4400" spc="-1" strike="noStrike">
              <a:solidFill>
                <a:srgbClr val="00ccc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00"/>
                </a:solidFill>
                <a:latin typeface="Times New Roman"/>
                <a:ea typeface="굴림체"/>
              </a:rPr>
              <a:t>2350000</a:t>
            </a:r>
            <a:r>
              <a:rPr b="0" lang="ko-KR" sz="3200" spc="-1" strike="noStrike">
                <a:solidFill>
                  <a:srgbClr val="ffff00"/>
                </a:solidFill>
                <a:latin typeface="Times New Roman"/>
                <a:ea typeface="굴림체"/>
              </a:rPr>
              <a:t>원</a:t>
            </a:r>
            <a:r>
              <a:rPr b="0" lang="ko-KR" sz="3200" spc="-1" strike="noStrike">
                <a:solidFill>
                  <a:srgbClr val="ffff00"/>
                </a:solidFill>
                <a:latin typeface="Times New Roman"/>
                <a:ea typeface="굴림체"/>
              </a:rPr>
              <a:t>, 2,350,000</a:t>
            </a:r>
            <a:r>
              <a:rPr b="0" lang="ko-KR" sz="3200" spc="-1" strike="noStrike">
                <a:solidFill>
                  <a:srgbClr val="ffff00"/>
                </a:solidFill>
                <a:latin typeface="Times New Roman"/>
                <a:ea typeface="굴림체"/>
              </a:rPr>
              <a:t>원</a:t>
            </a:r>
            <a:r>
              <a:rPr b="0" lang="ko-KR" sz="3200" spc="-1" strike="noStrike">
                <a:solidFill>
                  <a:srgbClr val="ffff00"/>
                </a:solidFill>
                <a:latin typeface="Times New Roman"/>
                <a:ea typeface="굴림체"/>
              </a:rPr>
              <a:t>, 235</a:t>
            </a:r>
            <a:r>
              <a:rPr b="0" lang="ko-KR" sz="3200" spc="-1" strike="noStrike">
                <a:solidFill>
                  <a:srgbClr val="ffff00"/>
                </a:solidFill>
                <a:latin typeface="Times New Roman"/>
                <a:ea typeface="굴림체"/>
              </a:rPr>
              <a:t>만원</a:t>
            </a:r>
            <a:r>
              <a:rPr b="0" lang="ko-KR" sz="3200" spc="-1" strike="noStrike">
                <a:solidFill>
                  <a:srgbClr val="ffff00"/>
                </a:solidFill>
                <a:latin typeface="Times New Roman"/>
                <a:ea typeface="굴림체"/>
              </a:rPr>
              <a:t>, 2350</a:t>
            </a:r>
            <a:r>
              <a:rPr b="0" lang="ko-KR" sz="3200" spc="-1" strike="noStrike">
                <a:solidFill>
                  <a:srgbClr val="ffff00"/>
                </a:solidFill>
                <a:latin typeface="Times New Roman"/>
                <a:ea typeface="굴림체"/>
              </a:rPr>
              <a:t>천원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00"/>
                </a:solidFill>
                <a:latin typeface="Times New Roman"/>
                <a:ea typeface="굴림체"/>
              </a:rPr>
              <a:t>2</a:t>
            </a:r>
            <a:r>
              <a:rPr b="0" lang="ko-KR" sz="3200" spc="-1" strike="noStrike">
                <a:solidFill>
                  <a:srgbClr val="ffff00"/>
                </a:solidFill>
                <a:latin typeface="Times New Roman"/>
                <a:ea typeface="굴림체"/>
              </a:rPr>
              <a:t>백</a:t>
            </a:r>
            <a:r>
              <a:rPr b="0" lang="ko-KR" sz="3200" spc="-1" strike="noStrike">
                <a:solidFill>
                  <a:srgbClr val="ffff00"/>
                </a:solidFill>
                <a:latin typeface="Times New Roman"/>
                <a:ea typeface="굴림체"/>
              </a:rPr>
              <a:t>35</a:t>
            </a:r>
            <a:r>
              <a:rPr b="0" lang="ko-KR" sz="3200" spc="-1" strike="noStrike">
                <a:solidFill>
                  <a:srgbClr val="ffff00"/>
                </a:solidFill>
                <a:latin typeface="Times New Roman"/>
                <a:ea typeface="굴림체"/>
              </a:rPr>
              <a:t>만원</a:t>
            </a:r>
            <a:r>
              <a:rPr b="0" lang="ko-KR" sz="3200" spc="-1" strike="noStrike">
                <a:solidFill>
                  <a:srgbClr val="ffff00"/>
                </a:solidFill>
                <a:latin typeface="Times New Roman"/>
                <a:ea typeface="굴림체"/>
              </a:rPr>
              <a:t>, 2</a:t>
            </a:r>
            <a:r>
              <a:rPr b="0" lang="ko-KR" sz="3200" spc="-1" strike="noStrike">
                <a:solidFill>
                  <a:srgbClr val="ffff00"/>
                </a:solidFill>
                <a:latin typeface="Times New Roman"/>
                <a:ea typeface="굴림체"/>
              </a:rPr>
              <a:t>백</a:t>
            </a:r>
            <a:r>
              <a:rPr b="0" lang="ko-KR" sz="3200" spc="-1" strike="noStrike">
                <a:solidFill>
                  <a:srgbClr val="ffff00"/>
                </a:solidFill>
                <a:latin typeface="Times New Roman"/>
                <a:ea typeface="굴림체"/>
              </a:rPr>
              <a:t>3</a:t>
            </a:r>
            <a:r>
              <a:rPr b="0" lang="ko-KR" sz="3200" spc="-1" strike="noStrike">
                <a:solidFill>
                  <a:srgbClr val="ffff00"/>
                </a:solidFill>
                <a:latin typeface="Times New Roman"/>
                <a:ea typeface="굴림체"/>
              </a:rPr>
              <a:t>십</a:t>
            </a:r>
            <a:r>
              <a:rPr b="0" lang="ko-KR" sz="3200" spc="-1" strike="noStrike">
                <a:solidFill>
                  <a:srgbClr val="ffff00"/>
                </a:solidFill>
                <a:latin typeface="Times New Roman"/>
                <a:ea typeface="굴림체"/>
              </a:rPr>
              <a:t>5</a:t>
            </a:r>
            <a:r>
              <a:rPr b="0" lang="ko-KR" sz="3200" spc="-1" strike="noStrike">
                <a:solidFill>
                  <a:srgbClr val="ffff00"/>
                </a:solidFill>
                <a:latin typeface="Times New Roman"/>
                <a:ea typeface="굴림체"/>
              </a:rPr>
              <a:t>만원</a:t>
            </a:r>
            <a:r>
              <a:rPr b="0" lang="ko-KR" sz="3200" spc="-1" strike="noStrike">
                <a:solidFill>
                  <a:srgbClr val="ffff00"/>
                </a:solidFill>
                <a:latin typeface="Times New Roman"/>
                <a:ea typeface="굴림체"/>
              </a:rPr>
              <a:t>, </a:t>
            </a:r>
            <a:r>
              <a:rPr b="0" lang="ko-KR" sz="3200" spc="-1" strike="noStrike">
                <a:solidFill>
                  <a:srgbClr val="ffff00"/>
                </a:solidFill>
                <a:latin typeface="Times New Roman"/>
                <a:ea typeface="굴림체"/>
              </a:rPr>
              <a:t>이백삼십오만원</a:t>
            </a:r>
            <a:r>
              <a:rPr b="0" lang="ko-KR" sz="3200" spc="-1" strike="noStrike">
                <a:solidFill>
                  <a:srgbClr val="ffff00"/>
                </a:solidFill>
                <a:latin typeface="Times New Roman"/>
                <a:ea typeface="굴림체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00"/>
                </a:solidFill>
                <a:latin typeface="Times New Roman"/>
                <a:ea typeface="굴림체"/>
              </a:rPr>
              <a:t>2</a:t>
            </a:r>
            <a:r>
              <a:rPr b="0" lang="ko-KR" sz="3200" spc="-1" strike="noStrike">
                <a:solidFill>
                  <a:srgbClr val="ffff00"/>
                </a:solidFill>
                <a:latin typeface="Times New Roman"/>
                <a:ea typeface="굴림체"/>
              </a:rPr>
              <a:t>백 </a:t>
            </a:r>
            <a:r>
              <a:rPr b="0" lang="ko-KR" sz="3200" spc="-1" strike="noStrike">
                <a:solidFill>
                  <a:srgbClr val="ffff00"/>
                </a:solidFill>
                <a:latin typeface="Times New Roman"/>
                <a:ea typeface="굴림체"/>
              </a:rPr>
              <a:t>35</a:t>
            </a:r>
            <a:r>
              <a:rPr b="0" lang="ko-KR" sz="3200" spc="-1" strike="noStrike">
                <a:solidFill>
                  <a:srgbClr val="ffff00"/>
                </a:solidFill>
                <a:latin typeface="Times New Roman"/>
                <a:ea typeface="굴림체"/>
              </a:rPr>
              <a:t>만원</a:t>
            </a:r>
            <a:r>
              <a:rPr b="0" lang="ko-KR" sz="3200" spc="-1" strike="noStrike">
                <a:solidFill>
                  <a:srgbClr val="ffff00"/>
                </a:solidFill>
                <a:latin typeface="Times New Roman"/>
                <a:ea typeface="굴림체"/>
              </a:rPr>
              <a:t>, 2</a:t>
            </a:r>
            <a:r>
              <a:rPr b="0" lang="ko-KR" sz="3200" spc="-1" strike="noStrike">
                <a:solidFill>
                  <a:srgbClr val="ffff00"/>
                </a:solidFill>
                <a:latin typeface="Times New Roman"/>
                <a:ea typeface="굴림체"/>
              </a:rPr>
              <a:t>백 </a:t>
            </a:r>
            <a:r>
              <a:rPr b="0" lang="ko-KR" sz="3200" spc="-1" strike="noStrike">
                <a:solidFill>
                  <a:srgbClr val="ffff00"/>
                </a:solidFill>
                <a:latin typeface="Times New Roman"/>
                <a:ea typeface="굴림체"/>
              </a:rPr>
              <a:t>3</a:t>
            </a:r>
            <a:r>
              <a:rPr b="0" lang="ko-KR" sz="3200" spc="-1" strike="noStrike">
                <a:solidFill>
                  <a:srgbClr val="ffff00"/>
                </a:solidFill>
                <a:latin typeface="Times New Roman"/>
                <a:ea typeface="굴림체"/>
              </a:rPr>
              <a:t>십</a:t>
            </a:r>
            <a:r>
              <a:rPr b="0" lang="ko-KR" sz="3200" spc="-1" strike="noStrike">
                <a:solidFill>
                  <a:srgbClr val="ffff00"/>
                </a:solidFill>
                <a:latin typeface="Times New Roman"/>
                <a:ea typeface="굴림체"/>
              </a:rPr>
              <a:t>5</a:t>
            </a:r>
            <a:r>
              <a:rPr b="0" lang="ko-KR" sz="3200" spc="-1" strike="noStrike">
                <a:solidFill>
                  <a:srgbClr val="ffff00"/>
                </a:solidFill>
                <a:latin typeface="Times New Roman"/>
                <a:ea typeface="굴림체"/>
              </a:rPr>
              <a:t>만원</a:t>
            </a:r>
            <a:r>
              <a:rPr b="0" lang="ko-KR" sz="3200" spc="-1" strike="noStrike">
                <a:solidFill>
                  <a:srgbClr val="ffff00"/>
                </a:solidFill>
                <a:latin typeface="Times New Roman"/>
                <a:ea typeface="굴림체"/>
              </a:rPr>
              <a:t>, 2</a:t>
            </a:r>
            <a:r>
              <a:rPr b="0" lang="ko-KR" sz="3200" spc="-1" strike="noStrike">
                <a:solidFill>
                  <a:srgbClr val="ffff00"/>
                </a:solidFill>
                <a:latin typeface="Times New Roman"/>
                <a:ea typeface="굴림체"/>
              </a:rPr>
              <a:t>백</a:t>
            </a:r>
            <a:r>
              <a:rPr b="0" lang="ko-KR" sz="3200" spc="-1" strike="noStrike">
                <a:solidFill>
                  <a:srgbClr val="ffff00"/>
                </a:solidFill>
                <a:latin typeface="Times New Roman"/>
                <a:ea typeface="굴림체"/>
              </a:rPr>
              <a:t>3</a:t>
            </a:r>
            <a:r>
              <a:rPr b="0" lang="ko-KR" sz="3200" spc="-1" strike="noStrike">
                <a:solidFill>
                  <a:srgbClr val="ffff00"/>
                </a:solidFill>
                <a:latin typeface="Times New Roman"/>
                <a:ea typeface="굴림체"/>
              </a:rPr>
              <a:t>십 </a:t>
            </a:r>
            <a:r>
              <a:rPr b="0" lang="ko-KR" sz="3200" spc="-1" strike="noStrike">
                <a:solidFill>
                  <a:srgbClr val="ffff00"/>
                </a:solidFill>
                <a:latin typeface="Times New Roman"/>
                <a:ea typeface="굴림체"/>
              </a:rPr>
              <a:t>5</a:t>
            </a:r>
            <a:r>
              <a:rPr b="0" lang="ko-KR" sz="3200" spc="-1" strike="noStrike">
                <a:solidFill>
                  <a:srgbClr val="ffff00"/>
                </a:solidFill>
                <a:latin typeface="Times New Roman"/>
                <a:ea typeface="굴림체"/>
              </a:rPr>
              <a:t>만원</a:t>
            </a:r>
            <a:r>
              <a:rPr b="0" lang="ko-KR" sz="3200" spc="-1" strike="noStrike">
                <a:solidFill>
                  <a:srgbClr val="ffff00"/>
                </a:solidFill>
                <a:latin typeface="Times New Roman"/>
                <a:ea typeface="굴림체"/>
              </a:rPr>
              <a:t>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00"/>
                </a:solidFill>
                <a:latin typeface="Times New Roman"/>
                <a:ea typeface="굴림체"/>
              </a:rPr>
              <a:t>2</a:t>
            </a:r>
            <a:r>
              <a:rPr b="0" lang="ko-KR" sz="3200" spc="-1" strike="noStrike">
                <a:solidFill>
                  <a:srgbClr val="ffff00"/>
                </a:solidFill>
                <a:latin typeface="Times New Roman"/>
                <a:ea typeface="굴림체"/>
              </a:rPr>
              <a:t>백 </a:t>
            </a:r>
            <a:r>
              <a:rPr b="0" lang="ko-KR" sz="3200" spc="-1" strike="noStrike">
                <a:solidFill>
                  <a:srgbClr val="ffff00"/>
                </a:solidFill>
                <a:latin typeface="Times New Roman"/>
                <a:ea typeface="굴림체"/>
              </a:rPr>
              <a:t>3</a:t>
            </a:r>
            <a:r>
              <a:rPr b="0" lang="ko-KR" sz="3200" spc="-1" strike="noStrike">
                <a:solidFill>
                  <a:srgbClr val="ffff00"/>
                </a:solidFill>
                <a:latin typeface="Times New Roman"/>
                <a:ea typeface="굴림체"/>
              </a:rPr>
              <a:t>십 </a:t>
            </a:r>
            <a:r>
              <a:rPr b="0" lang="ko-KR" sz="3200" spc="-1" strike="noStrike">
                <a:solidFill>
                  <a:srgbClr val="ffff00"/>
                </a:solidFill>
                <a:latin typeface="Times New Roman"/>
                <a:ea typeface="굴림체"/>
              </a:rPr>
              <a:t>5</a:t>
            </a:r>
            <a:r>
              <a:rPr b="0" lang="ko-KR" sz="3200" spc="-1" strike="noStrike">
                <a:solidFill>
                  <a:srgbClr val="ffff00"/>
                </a:solidFill>
                <a:latin typeface="Times New Roman"/>
                <a:ea typeface="굴림체"/>
              </a:rPr>
              <a:t>만원</a:t>
            </a:r>
            <a:r>
              <a:rPr b="0" lang="ko-KR" sz="3200" spc="-1" strike="noStrike">
                <a:solidFill>
                  <a:srgbClr val="ffff00"/>
                </a:solidFill>
                <a:latin typeface="Times New Roman"/>
                <a:ea typeface="굴림체"/>
              </a:rPr>
              <a:t>, </a:t>
            </a:r>
            <a:r>
              <a:rPr b="0" lang="ko-KR" sz="3200" spc="-1" strike="noStrike">
                <a:solidFill>
                  <a:srgbClr val="ffff00"/>
                </a:solidFill>
                <a:latin typeface="Times New Roman"/>
                <a:ea typeface="굴림체"/>
              </a:rPr>
              <a:t>이백 삼십오만원</a:t>
            </a:r>
            <a:r>
              <a:rPr b="0" lang="ko-KR" sz="3200" spc="-1" strike="noStrike">
                <a:solidFill>
                  <a:srgbClr val="ffff00"/>
                </a:solidFill>
                <a:latin typeface="Times New Roman"/>
                <a:ea typeface="굴림체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00"/>
                </a:solidFill>
                <a:latin typeface="Times New Roman"/>
                <a:ea typeface="굴림체"/>
              </a:rPr>
              <a:t>이백삼십오 만원</a:t>
            </a:r>
            <a:r>
              <a:rPr b="0" lang="ko-KR" sz="3200" spc="-1" strike="noStrike">
                <a:solidFill>
                  <a:srgbClr val="ffff00"/>
                </a:solidFill>
                <a:latin typeface="Times New Roman"/>
                <a:ea typeface="굴림체"/>
              </a:rPr>
              <a:t>, </a:t>
            </a:r>
            <a:r>
              <a:rPr b="0" lang="ko-KR" sz="3200" spc="-1" strike="noStrike">
                <a:solidFill>
                  <a:srgbClr val="ffff00"/>
                </a:solidFill>
                <a:latin typeface="Times New Roman"/>
                <a:ea typeface="굴림체"/>
              </a:rPr>
              <a:t>이백 삼십 오만원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599840" y="5637960"/>
            <a:ext cx="555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0000"/>
                </a:solidFill>
                <a:latin typeface="Times New Roman"/>
              </a:rPr>
              <a:t>&lt;</a:t>
            </a:r>
            <a:r>
              <a:rPr b="0" lang="ko-KR" sz="3200" spc="-1" strike="noStrike">
                <a:solidFill>
                  <a:srgbClr val="ff0000"/>
                </a:solidFill>
                <a:latin typeface="Times New Roman"/>
              </a:rPr>
              <a:t>참고</a:t>
            </a:r>
            <a:r>
              <a:rPr b="0" lang="ko-KR" sz="3200" spc="-1" strike="noStrike">
                <a:solidFill>
                  <a:srgbClr val="ff0000"/>
                </a:solidFill>
                <a:latin typeface="Times New Roman"/>
              </a:rPr>
              <a:t>&gt; 99’</a:t>
            </a:r>
            <a:r>
              <a:rPr b="0" lang="ko-KR" sz="3200" spc="-1" strike="noStrike">
                <a:solidFill>
                  <a:srgbClr val="ff0000"/>
                </a:solidFill>
                <a:latin typeface="Times New Roman"/>
              </a:rPr>
              <a:t>정보과학회 추계 학술발표 논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C04C-D748-4ADB-B8FD-0BC16D1F1616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D5ABC2-3EE7-4631-8C24-FE3E32C114C3}" type="datetime1">
              <a:rPr lang="en-US"/>
              <a:t>07/28/26</a:t>
            </a:fld>
          </a:p>
        </p:txBody>
      </p:sp>
    </p:spTree>
  </p:cSld>
  <p:transition spd="med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71240" y="4568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4400" spc="-1" strike="noStrike">
                <a:solidFill>
                  <a:srgbClr val="00cccc"/>
                </a:solidFill>
                <a:latin typeface="Arial"/>
              </a:rPr>
              <a:t>질의어 분석결과 구조체</a:t>
            </a:r>
            <a:endParaRPr b="0" i="1" lang="en-US" sz="4400" spc="-1" strike="noStrike">
              <a:solidFill>
                <a:srgbClr val="00ccc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693432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00"/>
                </a:solidFill>
                <a:latin typeface="Times New Roman"/>
                <a:ea typeface="굴림체"/>
              </a:rPr>
              <a:t>#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굴림체"/>
              </a:rPr>
              <a:t>define MIN_PRICE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굴림체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굴림체"/>
              </a:rPr>
              <a:t>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굴림체"/>
              </a:rPr>
              <a:t>#define MAX_PRICE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굴림체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굴림체"/>
              </a:rPr>
              <a:t>9999999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 algn="just">
              <a:lnSpc>
                <a:spcPct val="65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굴림체"/>
              </a:rPr>
              <a:t>typedef struct Query_List  {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굴림체"/>
              </a:rPr>
              <a:t>   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굴림체"/>
              </a:rPr>
              <a:t>char *prod_id;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굴림체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굴림체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굴림체"/>
              </a:rPr>
              <a:t>/* </a:t>
            </a:r>
            <a:r>
              <a:rPr b="0" lang="ko-KR" sz="2800" spc="-1" strike="noStrike">
                <a:solidFill>
                  <a:srgbClr val="ffff00"/>
                </a:solidFill>
                <a:latin typeface="Times New Roman"/>
                <a:ea typeface="굴림체"/>
              </a:rPr>
              <a:t>상품명 </a:t>
            </a:r>
            <a:r>
              <a:rPr b="0" lang="ko-KR" sz="2800" spc="-1" strike="noStrike">
                <a:solidFill>
                  <a:srgbClr val="ffff00"/>
                </a:solidFill>
                <a:latin typeface="Times New Roman"/>
                <a:ea typeface="굴림체"/>
              </a:rPr>
              <a:t>*/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00"/>
                </a:solidFill>
                <a:latin typeface="Times New Roman"/>
                <a:ea typeface="굴림체"/>
              </a:rPr>
              <a:t>   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굴림체"/>
              </a:rPr>
              <a:t>int min_price;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굴림체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굴림체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굴림체"/>
              </a:rPr>
              <a:t>/* </a:t>
            </a:r>
            <a:r>
              <a:rPr b="0" lang="ko-KR" sz="2800" spc="-1" strike="noStrike">
                <a:solidFill>
                  <a:srgbClr val="ffff00"/>
                </a:solidFill>
                <a:latin typeface="Times New Roman"/>
                <a:ea typeface="굴림체"/>
              </a:rPr>
              <a:t>최소값 </a:t>
            </a:r>
            <a:r>
              <a:rPr b="0" lang="ko-KR" sz="2800" spc="-1" strike="noStrike">
                <a:solidFill>
                  <a:srgbClr val="ffff00"/>
                </a:solidFill>
                <a:latin typeface="Times New Roman"/>
                <a:ea typeface="굴림체"/>
              </a:rPr>
              <a:t>*/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00"/>
                </a:solidFill>
                <a:latin typeface="Times New Roman"/>
                <a:ea typeface="굴림체"/>
              </a:rPr>
              <a:t>   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굴림체"/>
              </a:rPr>
              <a:t>int max_price;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굴림체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굴림체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굴림체"/>
              </a:rPr>
              <a:t>/* </a:t>
            </a:r>
            <a:r>
              <a:rPr b="0" lang="ko-KR" sz="2800" spc="-1" strike="noStrike">
                <a:solidFill>
                  <a:srgbClr val="ffff00"/>
                </a:solidFill>
                <a:latin typeface="Times New Roman"/>
                <a:ea typeface="굴림체"/>
              </a:rPr>
              <a:t>최대값 </a:t>
            </a:r>
            <a:r>
              <a:rPr b="0" lang="ko-KR" sz="2800" spc="-1" strike="noStrike">
                <a:solidFill>
                  <a:srgbClr val="ffff00"/>
                </a:solidFill>
                <a:latin typeface="Times New Roman"/>
                <a:ea typeface="굴림체"/>
              </a:rPr>
              <a:t>*/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00"/>
                </a:solidFill>
                <a:latin typeface="Times New Roman"/>
                <a:ea typeface="굴림체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굴림체"/>
              </a:rPr>
              <a:t>int focus;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굴림체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굴림체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굴림체"/>
              </a:rPr>
              <a:t>	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굴림체"/>
              </a:rPr>
              <a:t>/* </a:t>
            </a:r>
            <a:r>
              <a:rPr b="0" lang="ko-KR" sz="2800" spc="-1" strike="noStrike">
                <a:solidFill>
                  <a:srgbClr val="ffff00"/>
                </a:solidFill>
                <a:latin typeface="Times New Roman"/>
                <a:ea typeface="굴림체"/>
              </a:rPr>
              <a:t>가격유형 </a:t>
            </a:r>
            <a:r>
              <a:rPr b="0" lang="ko-KR" sz="2800" spc="-1" strike="noStrike">
                <a:solidFill>
                  <a:srgbClr val="ffff00"/>
                </a:solidFill>
                <a:latin typeface="Times New Roman"/>
                <a:ea typeface="굴림체"/>
              </a:rPr>
              <a:t>*/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00"/>
                </a:solidFill>
                <a:latin typeface="Times New Roman"/>
                <a:ea typeface="굴림체"/>
              </a:rPr>
              <a:t>    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굴림체"/>
              </a:rPr>
              <a:t>struct Query_List *nex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  <a:ea typeface="굴림체"/>
              </a:rPr>
              <a:t>} QUERY_LIST, *QUERY_PLIS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20C6-F9EA-450E-ACE2-9A163A123683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9E10B5-252C-4E22-ADC0-22E4432B2D89}" type="datetime1">
              <a:rPr lang="en-US"/>
              <a:t>07/28/26</a:t>
            </a:fld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71240" y="457200"/>
            <a:ext cx="7086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4400" spc="-1" strike="noStrike">
                <a:solidFill>
                  <a:srgbClr val="00cccc"/>
                </a:solidFill>
                <a:latin typeface="Arial"/>
              </a:rPr>
              <a:t>질의어 처리 알고리즘</a:t>
            </a:r>
            <a:endParaRPr b="0" i="1" lang="en-US" sz="4400" spc="-1" strike="noStrike">
              <a:solidFill>
                <a:srgbClr val="00cccc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62120" y="1294920"/>
            <a:ext cx="76960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체"/>
                <a:ea typeface="굴림체"/>
              </a:rPr>
              <a:t>Algorithm gen_query_list(node, head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체"/>
                <a:ea typeface="굴림체"/>
              </a:rPr>
              <a:t>KET_PHEAD node; QUERY_PLIST node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체"/>
                <a:ea typeface="굴림체"/>
              </a:rPr>
              <a:t>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체"/>
                <a:ea typeface="굴림체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굴림체"/>
                <a:ea typeface="굴림체"/>
              </a:rPr>
              <a:t>QUERY_PLIST tail = head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just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체"/>
                <a:ea typeface="굴림체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굴림체"/>
                <a:ea typeface="굴림체"/>
              </a:rPr>
              <a:t>tail = last query node of 'node'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체"/>
                <a:ea typeface="굴림체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굴림체"/>
                <a:ea typeface="굴림체"/>
              </a:rPr>
              <a:t>if (is_prod_node(node)) {</a:t>
            </a:r>
            <a:r>
              <a:rPr b="1" lang="en-US" sz="2400" spc="-1" strike="noStrike">
                <a:solidFill>
                  <a:srgbClr val="ffffff"/>
                </a:solidFill>
                <a:latin typeface="굴림체"/>
                <a:ea typeface="굴림체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굴림체"/>
                <a:ea typeface="굴림체"/>
              </a:rPr>
              <a:t>/* </a:t>
            </a:r>
            <a:r>
              <a:rPr b="1" lang="ko-KR" sz="2400" spc="-1" strike="noStrike">
                <a:solidFill>
                  <a:srgbClr val="ffffff"/>
                </a:solidFill>
                <a:latin typeface="굴림체"/>
                <a:ea typeface="굴림체"/>
              </a:rPr>
              <a:t>상품명 노드 </a:t>
            </a:r>
            <a:r>
              <a:rPr b="1" lang="ko-KR" sz="2400" spc="-1" strike="noStrike">
                <a:solidFill>
                  <a:srgbClr val="ffffff"/>
                </a:solidFill>
                <a:latin typeface="굴림체"/>
                <a:ea typeface="굴림체"/>
              </a:rPr>
              <a:t>*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굴림체"/>
                <a:ea typeface="굴림체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굴림체"/>
                <a:ea typeface="굴림체"/>
              </a:rPr>
              <a:t>if (head == NULL)       /* first node  *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체"/>
                <a:ea typeface="굴림체"/>
              </a:rPr>
              <a:t>          </a:t>
            </a:r>
            <a:r>
              <a:rPr b="1" lang="en-US" sz="2400" spc="-1" strike="noStrike">
                <a:solidFill>
                  <a:srgbClr val="ffffff"/>
                </a:solidFill>
                <a:latin typeface="굴림체"/>
                <a:ea typeface="굴림체"/>
              </a:rPr>
              <a:t>tail = head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체"/>
                <a:ea typeface="굴림체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굴림체"/>
                <a:ea typeface="굴림체"/>
              </a:rPr>
              <a:t>else tail = tail-&gt;nex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체"/>
                <a:ea typeface="굴림체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굴림체"/>
                <a:ea typeface="굴림체"/>
              </a:rPr>
              <a:t>set_prod_info(tail, node);/* </a:t>
            </a:r>
            <a:r>
              <a:rPr b="1" lang="ko-KR" sz="2400" spc="-1" strike="noStrike">
                <a:solidFill>
                  <a:srgbClr val="ffffff"/>
                </a:solidFill>
                <a:latin typeface="굴림체"/>
                <a:ea typeface="굴림체"/>
              </a:rPr>
              <a:t>질의정보 </a:t>
            </a:r>
            <a:r>
              <a:rPr b="1" lang="ko-KR" sz="2400" spc="-1" strike="noStrike">
                <a:solidFill>
                  <a:srgbClr val="ffffff"/>
                </a:solidFill>
                <a:latin typeface="굴림체"/>
                <a:ea typeface="굴림체"/>
              </a:rPr>
              <a:t>*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굴림체"/>
                <a:ea typeface="굴림체"/>
              </a:rPr>
              <a:t>   </a:t>
            </a:r>
            <a:r>
              <a:rPr b="1" lang="ko-KR" sz="2400" spc="-1" strike="noStrike">
                <a:solidFill>
                  <a:srgbClr val="ffffff"/>
                </a:solidFill>
                <a:latin typeface="굴림체"/>
                <a:ea typeface="굴림체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just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굴림체"/>
                <a:ea typeface="굴림체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굴림체"/>
                <a:ea typeface="굴림체"/>
              </a:rPr>
              <a:t>for each children no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체"/>
                <a:ea typeface="굴림체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굴림체"/>
                <a:ea typeface="굴림체"/>
              </a:rPr>
              <a:t>head = gen_query_list(child_node, head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just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체"/>
                <a:ea typeface="굴림체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굴림체"/>
                <a:ea typeface="굴림체"/>
              </a:rPr>
              <a:t>return head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just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체"/>
                <a:ea typeface="굴림체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C717-9E2D-46F4-9385-7173A1644F50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241A16-DFE5-4F73-A9F3-38F89E07CECE}" type="datetime1">
              <a:rPr lang="en-US"/>
              <a:t>07/28/26</a:t>
            </a:fld>
          </a:p>
        </p:txBody>
      </p:sp>
    </p:spTree>
  </p:cSld>
  <p:transition spd="med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71240" y="476280"/>
            <a:ext cx="7086600" cy="74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4400" spc="-1" strike="noStrike">
                <a:solidFill>
                  <a:srgbClr val="00cccc"/>
                </a:solidFill>
                <a:latin typeface="Arial"/>
              </a:rPr>
              <a:t>가격연산자 유형 예</a:t>
            </a:r>
            <a:endParaRPr b="0" i="1" lang="en-US" sz="4400" spc="-1" strike="noStrike">
              <a:solidFill>
                <a:srgbClr val="00cccc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90360" y="1600200"/>
            <a:ext cx="74674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#</a:t>
            </a:r>
            <a:r>
              <a:rPr b="1" lang="en-US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define QTYPE_UNKNOWN</a:t>
            </a:r>
            <a:r>
              <a:rPr b="1" lang="en-US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 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#define QTYPE_ISANG</a:t>
            </a:r>
            <a:r>
              <a:rPr b="1" lang="en-US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11</a:t>
            </a:r>
            <a:r>
              <a:rPr b="1" lang="en-US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/* </a:t>
            </a:r>
            <a:r>
              <a:rPr b="1" lang="ko-KR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이상 </a:t>
            </a:r>
            <a:r>
              <a:rPr b="1" lang="ko-KR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*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#</a:t>
            </a:r>
            <a:r>
              <a:rPr b="1" lang="en-US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define QTYPE_IHA</a:t>
            </a:r>
            <a:r>
              <a:rPr b="1" lang="en-US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12</a:t>
            </a:r>
            <a:r>
              <a:rPr b="1" lang="en-US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/* </a:t>
            </a:r>
            <a:r>
              <a:rPr b="1" lang="ko-KR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이하 </a:t>
            </a:r>
            <a:r>
              <a:rPr b="1" lang="ko-KR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*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#</a:t>
            </a:r>
            <a:r>
              <a:rPr b="1" lang="en-US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define QTYPE_MIMAN</a:t>
            </a:r>
            <a:r>
              <a:rPr b="1" lang="en-US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13</a:t>
            </a:r>
            <a:r>
              <a:rPr b="1" lang="en-US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/* </a:t>
            </a:r>
            <a:r>
              <a:rPr b="1" lang="ko-KR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미만 </a:t>
            </a:r>
            <a:r>
              <a:rPr b="1" lang="ko-KR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*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#</a:t>
            </a:r>
            <a:r>
              <a:rPr b="1" lang="en-US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define QTYPE_CHOKWA</a:t>
            </a:r>
            <a:r>
              <a:rPr b="1" lang="en-US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14</a:t>
            </a:r>
            <a:r>
              <a:rPr b="1" lang="en-US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/* </a:t>
            </a:r>
            <a:r>
              <a:rPr b="1" lang="ko-KR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초과 </a:t>
            </a:r>
            <a:r>
              <a:rPr b="1" lang="ko-KR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*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#</a:t>
            </a:r>
            <a:r>
              <a:rPr b="1" lang="en-US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define QTYPE_JJEUM</a:t>
            </a:r>
            <a:r>
              <a:rPr b="1" lang="en-US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21</a:t>
            </a:r>
            <a:r>
              <a:rPr b="1" lang="en-US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/* </a:t>
            </a:r>
            <a:r>
              <a:rPr b="1" lang="ko-KR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쯤 </a:t>
            </a:r>
            <a:r>
              <a:rPr b="1" lang="ko-KR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*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#</a:t>
            </a:r>
            <a:r>
              <a:rPr b="1" lang="en-US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define QTYPE_JUNGDO</a:t>
            </a:r>
            <a:r>
              <a:rPr b="1" lang="en-US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22</a:t>
            </a:r>
            <a:r>
              <a:rPr b="1" lang="en-US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/* </a:t>
            </a:r>
            <a:r>
              <a:rPr b="1" lang="ko-KR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정도 </a:t>
            </a:r>
            <a:r>
              <a:rPr b="1" lang="ko-KR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*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#</a:t>
            </a:r>
            <a:r>
              <a:rPr b="1" lang="en-US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define QTYPE_JJARI</a:t>
            </a:r>
            <a:r>
              <a:rPr b="1" lang="en-US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23</a:t>
            </a:r>
            <a:r>
              <a:rPr b="1" lang="en-US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/* </a:t>
            </a:r>
            <a:r>
              <a:rPr b="1" lang="ko-KR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짜리 </a:t>
            </a:r>
            <a:r>
              <a:rPr b="1" lang="ko-KR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*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#</a:t>
            </a:r>
            <a:r>
              <a:rPr b="1" lang="en-US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define QTYPE_WONDAE</a:t>
            </a:r>
            <a:r>
              <a:rPr b="1" lang="en-US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24</a:t>
            </a:r>
            <a:r>
              <a:rPr b="1" lang="en-US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/* </a:t>
            </a:r>
            <a:r>
              <a:rPr b="1" lang="ko-KR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원대 </a:t>
            </a:r>
            <a:r>
              <a:rPr b="1" lang="ko-KR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*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#</a:t>
            </a:r>
            <a:r>
              <a:rPr b="1" lang="en-US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define QTYPE_CHOIKO</a:t>
            </a:r>
            <a:r>
              <a:rPr b="1" lang="en-US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31</a:t>
            </a:r>
            <a:r>
              <a:rPr b="1" lang="en-US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/* </a:t>
            </a:r>
            <a:r>
              <a:rPr b="1" lang="ko-KR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최고 </a:t>
            </a:r>
            <a:r>
              <a:rPr b="1" lang="ko-KR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*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#</a:t>
            </a:r>
            <a:r>
              <a:rPr b="1" lang="en-US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define QTYPE_CHOISO</a:t>
            </a:r>
            <a:r>
              <a:rPr b="1" lang="en-US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32</a:t>
            </a:r>
            <a:r>
              <a:rPr b="1" lang="en-US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/* </a:t>
            </a:r>
            <a:r>
              <a:rPr b="1" lang="ko-KR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최소 </a:t>
            </a:r>
            <a:r>
              <a:rPr b="1" lang="ko-KR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*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#</a:t>
            </a:r>
            <a:r>
              <a:rPr b="1" lang="en-US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define QTYPE_ISANG_IHA 41</a:t>
            </a:r>
            <a:r>
              <a:rPr b="1" lang="en-US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/* </a:t>
            </a:r>
            <a:r>
              <a:rPr b="1" lang="ko-KR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이상</a:t>
            </a:r>
            <a:r>
              <a:rPr b="1" lang="ko-KR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-</a:t>
            </a:r>
            <a:r>
              <a:rPr b="1" lang="ko-KR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이하 </a:t>
            </a:r>
            <a:r>
              <a:rPr b="1" lang="ko-KR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*/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912E-789B-4832-82BF-4AFEE1363692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9C376D-3113-4415-AC48-47FDC4D71221}" type="datetime1">
              <a:rPr lang="en-US"/>
              <a:t>07/28/26</a:t>
            </a:fld>
          </a:p>
        </p:txBody>
      </p:sp>
    </p:spTree>
  </p:cSld>
  <p:transition spd="med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89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4400" spc="-1" strike="noStrike">
                <a:solidFill>
                  <a:srgbClr val="00cccc"/>
                </a:solidFill>
                <a:latin typeface="Arial"/>
              </a:rPr>
              <a:t>질의문 분석 예</a:t>
            </a:r>
            <a:endParaRPr b="0" i="1" lang="en-US" sz="4400" spc="-1" strike="noStrike">
              <a:solidFill>
                <a:srgbClr val="00ccc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11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 </a:t>
            </a:r>
            <a:r>
              <a:rPr b="1" lang="ko-KR" sz="2400" spc="-1" strike="noStrike">
                <a:solidFill>
                  <a:srgbClr val="ffffff"/>
                </a:solidFill>
                <a:latin typeface="굴림체"/>
                <a:ea typeface="굴림체"/>
              </a:rPr>
              <a:t>“</a:t>
            </a:r>
            <a:r>
              <a:rPr b="1" lang="ko-KR" sz="2400" spc="-1" strike="noStrike">
                <a:solidFill>
                  <a:srgbClr val="ffffff"/>
                </a:solidFill>
                <a:latin typeface="굴림체"/>
                <a:ea typeface="굴림체"/>
              </a:rPr>
              <a:t>최대 </a:t>
            </a:r>
            <a:r>
              <a:rPr b="1" lang="ko-KR" sz="2400" spc="-1" strike="noStrike">
                <a:solidFill>
                  <a:srgbClr val="ffffff"/>
                </a:solidFill>
                <a:latin typeface="굴림체"/>
                <a:ea typeface="굴림체"/>
              </a:rPr>
              <a:t>5</a:t>
            </a:r>
            <a:r>
              <a:rPr b="1" lang="ko-KR" sz="2400" spc="-1" strike="noStrike">
                <a:solidFill>
                  <a:srgbClr val="ffffff"/>
                </a:solidFill>
                <a:latin typeface="굴림체"/>
                <a:ea typeface="굴림체"/>
              </a:rPr>
              <a:t>만원짜리 </a:t>
            </a:r>
            <a:r>
              <a:rPr b="1" lang="en-US" sz="2400" spc="-1" strike="noStrike">
                <a:solidFill>
                  <a:srgbClr val="ffffff"/>
                </a:solidFill>
                <a:latin typeface="굴림체"/>
                <a:ea typeface="굴림체"/>
              </a:rPr>
              <a:t>TV</a:t>
            </a:r>
            <a:r>
              <a:rPr b="1" lang="ko-KR" sz="2400" spc="-1" strike="noStrike">
                <a:solidFill>
                  <a:srgbClr val="ffffff"/>
                </a:solidFill>
                <a:latin typeface="굴림체"/>
                <a:ea typeface="굴림체"/>
              </a:rPr>
              <a:t>와 최소 </a:t>
            </a:r>
            <a:r>
              <a:rPr b="1" lang="ko-KR" sz="2400" spc="-1" strike="noStrike">
                <a:solidFill>
                  <a:srgbClr val="ffffff"/>
                </a:solidFill>
                <a:latin typeface="굴림체"/>
                <a:ea typeface="굴림체"/>
              </a:rPr>
              <a:t>3</a:t>
            </a:r>
            <a:r>
              <a:rPr b="1" lang="ko-KR" sz="2400" spc="-1" strike="noStrike">
                <a:solidFill>
                  <a:srgbClr val="ffffff"/>
                </a:solidFill>
                <a:latin typeface="굴림체"/>
                <a:ea typeface="굴림체"/>
              </a:rPr>
              <a:t>만원 냉장고를 사고 싶다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 algn="just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  </a:t>
            </a:r>
            <a:r>
              <a:rPr b="1" lang="ko-KR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싶</a:t>
            </a:r>
            <a:r>
              <a:rPr b="1" lang="ko-KR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[</a:t>
            </a:r>
            <a:r>
              <a:rPr b="1" lang="en-US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F]                          </a:t>
            </a:r>
            <a:r>
              <a:rPr b="1" lang="en-US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	</a:t>
            </a:r>
            <a:r>
              <a:rPr b="1" lang="ko-KR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싶</a:t>
            </a:r>
            <a:r>
              <a:rPr b="1" lang="ko-KR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/</a:t>
            </a:r>
            <a:r>
              <a:rPr b="1" lang="en-US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V </a:t>
            </a:r>
            <a:r>
              <a:rPr b="1" lang="ko-KR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다</a:t>
            </a:r>
            <a:r>
              <a:rPr b="1" lang="ko-KR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/</a:t>
            </a:r>
            <a:r>
              <a:rPr b="1" lang="en-US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 algn="just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     </a:t>
            </a:r>
            <a:r>
              <a:rPr b="1" lang="ko-KR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사</a:t>
            </a:r>
            <a:r>
              <a:rPr b="1" lang="ko-KR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[</a:t>
            </a:r>
            <a:r>
              <a:rPr b="1" lang="en-US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V]                         </a:t>
            </a:r>
            <a:r>
              <a:rPr b="1" lang="en-US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	</a:t>
            </a:r>
            <a:r>
              <a:rPr b="1" lang="ko-KR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사</a:t>
            </a:r>
            <a:r>
              <a:rPr b="1" lang="ko-KR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/</a:t>
            </a:r>
            <a:r>
              <a:rPr b="1" lang="en-US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V </a:t>
            </a:r>
            <a:r>
              <a:rPr b="1" lang="ko-KR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고</a:t>
            </a:r>
            <a:r>
              <a:rPr b="1" lang="ko-KR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/</a:t>
            </a:r>
            <a:r>
              <a:rPr b="1" lang="en-US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 algn="just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        </a:t>
            </a:r>
            <a:r>
              <a:rPr b="1" lang="ko-KR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냉장고</a:t>
            </a:r>
            <a:r>
              <a:rPr b="1" lang="ko-KR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[</a:t>
            </a:r>
            <a:r>
              <a:rPr b="1" lang="en-US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O]                  </a:t>
            </a:r>
            <a:r>
              <a:rPr b="1" lang="en-US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	</a:t>
            </a:r>
            <a:r>
              <a:rPr b="1" lang="ko-KR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냉장고</a:t>
            </a:r>
            <a:r>
              <a:rPr b="1" lang="ko-KR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/</a:t>
            </a:r>
            <a:r>
              <a:rPr b="1" lang="en-US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N </a:t>
            </a:r>
            <a:r>
              <a:rPr b="1" lang="ko-KR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을</a:t>
            </a:r>
            <a:r>
              <a:rPr b="1" lang="ko-KR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/</a:t>
            </a:r>
            <a:r>
              <a:rPr b="1" lang="en-US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j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 algn="just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            </a:t>
            </a:r>
            <a:r>
              <a:rPr b="1" lang="en-US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30000</a:t>
            </a:r>
            <a:r>
              <a:rPr b="1" lang="ko-KR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원</a:t>
            </a:r>
            <a:r>
              <a:rPr b="1" lang="ko-KR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[</a:t>
            </a:r>
            <a:r>
              <a:rPr b="1" lang="en-US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N]            </a:t>
            </a:r>
            <a:r>
              <a:rPr b="1" lang="en-US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3</a:t>
            </a:r>
            <a:r>
              <a:rPr b="1" lang="ko-KR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만원</a:t>
            </a:r>
            <a:r>
              <a:rPr b="1" lang="ko-KR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/</a:t>
            </a:r>
            <a:r>
              <a:rPr b="1" lang="en-US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 algn="just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               </a:t>
            </a:r>
            <a:r>
              <a:rPr b="1" lang="ko-KR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최소</a:t>
            </a:r>
            <a:r>
              <a:rPr b="1" lang="ko-KR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[</a:t>
            </a:r>
            <a:r>
              <a:rPr b="1" lang="en-US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N]             </a:t>
            </a:r>
            <a:r>
              <a:rPr b="1" lang="en-US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	</a:t>
            </a:r>
            <a:r>
              <a:rPr b="1" lang="ko-KR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최소</a:t>
            </a:r>
            <a:r>
              <a:rPr b="1" lang="ko-KR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/</a:t>
            </a:r>
            <a:r>
              <a:rPr b="1" lang="en-US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 algn="just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            </a:t>
            </a:r>
            <a:r>
              <a:rPr b="1" lang="en-US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TV[&amp;]                  </a:t>
            </a:r>
            <a:r>
              <a:rPr b="1" lang="en-US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TV/N </a:t>
            </a:r>
            <a:r>
              <a:rPr b="1" lang="ko-KR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과</a:t>
            </a:r>
            <a:r>
              <a:rPr b="1" lang="ko-KR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/</a:t>
            </a:r>
            <a:r>
              <a:rPr b="1" lang="en-US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j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 algn="just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                </a:t>
            </a:r>
            <a:r>
              <a:rPr b="1" lang="en-US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50000</a:t>
            </a:r>
            <a:r>
              <a:rPr b="1" lang="ko-KR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원</a:t>
            </a:r>
            <a:r>
              <a:rPr b="1" lang="ko-KR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[</a:t>
            </a:r>
            <a:r>
              <a:rPr b="1" lang="en-US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N]         </a:t>
            </a:r>
            <a:r>
              <a:rPr b="1" lang="en-US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5</a:t>
            </a:r>
            <a:r>
              <a:rPr b="1" lang="ko-KR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만원</a:t>
            </a:r>
            <a:r>
              <a:rPr b="1" lang="ko-KR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/</a:t>
            </a:r>
            <a:r>
              <a:rPr b="1" lang="en-US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N </a:t>
            </a:r>
            <a:r>
              <a:rPr b="1" lang="ko-KR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짜리</a:t>
            </a:r>
            <a:r>
              <a:rPr b="1" lang="ko-KR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/</a:t>
            </a:r>
            <a:r>
              <a:rPr b="1" lang="en-US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 algn="just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                   </a:t>
            </a:r>
            <a:r>
              <a:rPr b="1" lang="ko-KR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최대</a:t>
            </a:r>
            <a:r>
              <a:rPr b="1" lang="ko-KR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[</a:t>
            </a:r>
            <a:r>
              <a:rPr b="1" lang="en-US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N]         </a:t>
            </a:r>
            <a:r>
              <a:rPr b="1" lang="en-US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	</a:t>
            </a:r>
            <a:r>
              <a:rPr b="1" lang="ko-KR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최대</a:t>
            </a:r>
            <a:r>
              <a:rPr b="1" lang="ko-KR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/</a:t>
            </a:r>
            <a:r>
              <a:rPr b="1" lang="en-US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 algn="just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  </a:t>
            </a:r>
            <a:r>
              <a:rPr b="1" lang="en-US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PROD = [</a:t>
            </a:r>
            <a:r>
              <a:rPr b="1" lang="ko-KR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냉장고</a:t>
            </a:r>
            <a:r>
              <a:rPr b="1" lang="ko-KR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] : 30000 ~ 99999999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 algn="just">
              <a:lnSpc>
                <a:spcPct val="10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  </a:t>
            </a:r>
            <a:r>
              <a:rPr b="1" lang="en-US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PROD = [TV] : 0 ~ 50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F1B4-9338-4B2B-BF13-E70736A49C66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624AB3-C687-4D00-8622-653C21239C8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71240" y="47592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4400" spc="-1" strike="noStrike">
                <a:solidFill>
                  <a:srgbClr val="00cccc"/>
                </a:solidFill>
                <a:latin typeface="Arial"/>
              </a:rPr>
              <a:t>결론</a:t>
            </a:r>
            <a:endParaRPr b="0" i="1" lang="en-US" sz="4400" spc="-1" strike="noStrike">
              <a:solidFill>
                <a:srgbClr val="00cccc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391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spcBef>
                <a:spcPts val="15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00"/>
                </a:solidFill>
                <a:latin typeface="Arial"/>
              </a:rPr>
              <a:t>수치범위 제약 구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5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00"/>
                </a:solidFill>
                <a:latin typeface="Arial"/>
              </a:rPr>
              <a:t>가격지정 연산자 유형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5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00"/>
                </a:solidFill>
                <a:latin typeface="Arial"/>
              </a:rPr>
              <a:t>질의어 처리 알고리즘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5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00"/>
                </a:solidFill>
                <a:latin typeface="Arial"/>
              </a:rPr>
              <a:t>구문분석 기법 활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599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00"/>
                </a:solidFill>
                <a:latin typeface="Arial"/>
              </a:rPr>
              <a:t>시제품 구현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C513-671B-41D4-9206-A7EAD7D00EA7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F21470-91D3-4839-A861-4036E27AFB8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240" y="582120"/>
            <a:ext cx="7086600" cy="112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4400" spc="-1" strike="noStrike">
                <a:solidFill>
                  <a:srgbClr val="00cccc"/>
                </a:solidFill>
                <a:latin typeface="Arial"/>
              </a:rPr>
              <a:t>차  례</a:t>
            </a:r>
            <a:endParaRPr b="0" i="1" lang="en-US" sz="4400" spc="-1" strike="noStrike">
              <a:solidFill>
                <a:srgbClr val="00ccc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447560" y="1905120"/>
            <a:ext cx="701028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20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00"/>
                </a:solidFill>
                <a:latin typeface="Arial"/>
              </a:rPr>
              <a:t>1. </a:t>
            </a:r>
            <a:r>
              <a:rPr b="0" lang="ko-KR" sz="2800" spc="-1" strike="noStrike">
                <a:solidFill>
                  <a:srgbClr val="ffff00"/>
                </a:solidFill>
                <a:latin typeface="Arial"/>
              </a:rPr>
              <a:t>형태소 분석 전문화 필요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00"/>
                </a:solidFill>
                <a:latin typeface="Arial"/>
              </a:rPr>
              <a:t>2. </a:t>
            </a:r>
            <a:r>
              <a:rPr b="0" lang="ko-KR" sz="2800" spc="-1" strike="noStrike">
                <a:solidFill>
                  <a:srgbClr val="ffff00"/>
                </a:solidFill>
                <a:latin typeface="Arial"/>
              </a:rPr>
              <a:t>일반적인 수치범위 제약 구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00"/>
                </a:solidFill>
                <a:latin typeface="Arial"/>
              </a:rPr>
              <a:t>3. </a:t>
            </a:r>
            <a:r>
              <a:rPr b="0" lang="ko-KR" sz="2800" spc="-1" strike="noStrike">
                <a:solidFill>
                  <a:srgbClr val="ffff00"/>
                </a:solidFill>
                <a:latin typeface="Arial"/>
              </a:rPr>
              <a:t>가격지정 연산자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00"/>
                </a:solidFill>
                <a:latin typeface="Arial"/>
              </a:rPr>
              <a:t>4. </a:t>
            </a:r>
            <a:r>
              <a:rPr b="0" lang="ko-KR" sz="2800" spc="-1" strike="noStrike">
                <a:solidFill>
                  <a:srgbClr val="ffff00"/>
                </a:solidFill>
                <a:latin typeface="Arial"/>
              </a:rPr>
              <a:t>질의어 처리기의 구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00"/>
                </a:solidFill>
                <a:latin typeface="Arial"/>
              </a:rPr>
              <a:t>5. </a:t>
            </a:r>
            <a:r>
              <a:rPr b="0" lang="ko-KR" sz="2800" spc="-1" strike="noStrike">
                <a:solidFill>
                  <a:srgbClr val="ffff00"/>
                </a:solidFill>
                <a:latin typeface="Arial"/>
              </a:rPr>
              <a:t>질의어 분석 및 결과 생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00"/>
                </a:solidFill>
                <a:latin typeface="Arial"/>
              </a:rPr>
              <a:t>6. </a:t>
            </a:r>
            <a:r>
              <a:rPr b="0" lang="ko-KR" sz="2800" spc="-1" strike="noStrike">
                <a:solidFill>
                  <a:srgbClr val="ffff00"/>
                </a:solidFill>
                <a:latin typeface="Arial"/>
              </a:rPr>
              <a:t>결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2A329-95EB-4170-A3C5-6A6CD250440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BE0257-45EC-4BB4-B523-AEA37C7FB8D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240" y="476280"/>
            <a:ext cx="7086600" cy="104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4400" spc="-1" strike="noStrike">
                <a:solidFill>
                  <a:srgbClr val="00cccc"/>
                </a:solidFill>
                <a:latin typeface="Arial"/>
              </a:rPr>
              <a:t>형태소 분석의 전문화</a:t>
            </a:r>
            <a:endParaRPr b="0" i="1" lang="en-US" sz="4400" spc="-1" strike="noStrike">
              <a:solidFill>
                <a:srgbClr val="00cc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0000"/>
              </a:lnSpc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00"/>
                </a:solidFill>
                <a:latin typeface="Arial"/>
              </a:rPr>
              <a:t>띄어쓰기 오류처리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신문기사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법률문서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특허 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00"/>
                </a:solidFill>
                <a:latin typeface="Arial"/>
              </a:rPr>
              <a:t>맞춤법 오류 처리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전자우편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뉴스그룹 등 인터넷 문서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00"/>
                </a:solidFill>
                <a:latin typeface="Arial"/>
              </a:rPr>
              <a:t>구어체 어휘 처리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방송 대본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ko-KR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대화체 음성언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00"/>
                </a:solidFill>
                <a:latin typeface="Arial"/>
              </a:rPr>
              <a:t>가격어절 인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전자거래 인터페이스 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상품 검색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CBD5-EB7D-49E4-A08E-014B7687E80F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D31214-52FD-4C9A-873B-42CA62B01078}" type="datetime1">
              <a:rPr lang="en-US"/>
              <a:t>07/28/26</a:t>
            </a:fld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71240" y="4568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4400" spc="-1" strike="noStrike">
                <a:solidFill>
                  <a:srgbClr val="00cccc"/>
                </a:solidFill>
                <a:latin typeface="Arial"/>
              </a:rPr>
              <a:t>수치범위 제약  구문</a:t>
            </a:r>
            <a:endParaRPr b="0" i="1" lang="en-US" sz="4400" spc="-1" strike="noStrike">
              <a:solidFill>
                <a:srgbClr val="00cc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120000"/>
              </a:lnSpc>
              <a:spcBef>
                <a:spcPts val="1800"/>
              </a:spcBef>
              <a:buClr>
                <a:srgbClr val="00cc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00"/>
                </a:solidFill>
                <a:latin typeface="Arial"/>
              </a:rPr>
              <a:t>가격</a:t>
            </a:r>
            <a:r>
              <a:rPr b="0" lang="ko-KR" sz="32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0" lang="ko-KR" sz="3200" spc="-1" strike="noStrike">
                <a:solidFill>
                  <a:srgbClr val="ffff00"/>
                </a:solidFill>
                <a:latin typeface="Arial"/>
              </a:rPr>
              <a:t>개수</a:t>
            </a:r>
            <a:r>
              <a:rPr b="0" lang="ko-KR" sz="32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0" lang="ko-KR" sz="3200" spc="-1" strike="noStrike">
                <a:solidFill>
                  <a:srgbClr val="ffff00"/>
                </a:solidFill>
                <a:latin typeface="Arial"/>
              </a:rPr>
              <a:t>크기</a:t>
            </a:r>
            <a:r>
              <a:rPr b="0" lang="ko-KR" sz="32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0" lang="ko-KR" sz="3200" spc="-1" strike="noStrike">
                <a:solidFill>
                  <a:srgbClr val="ffff00"/>
                </a:solidFill>
                <a:latin typeface="Arial"/>
              </a:rPr>
              <a:t>날짜</a:t>
            </a:r>
            <a:r>
              <a:rPr b="0" lang="ko-KR" sz="3200" spc="-1" strike="noStrike">
                <a:solidFill>
                  <a:srgbClr val="ffff00"/>
                </a:solidFill>
                <a:latin typeface="Arial"/>
              </a:rPr>
              <a:t>, </a:t>
            </a:r>
            <a:r>
              <a:rPr b="0" lang="ko-KR" sz="3200" spc="-1" strike="noStrike">
                <a:solidFill>
                  <a:srgbClr val="ffff00"/>
                </a:solidFill>
                <a:latin typeface="Arial"/>
              </a:rPr>
              <a:t>시간 등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2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가격 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: “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백만원</a:t>
            </a:r>
            <a:r>
              <a:rPr b="0" lang="ko-KR" sz="2800" spc="-1" strike="noStrike" u="sng">
                <a:solidFill>
                  <a:srgbClr val="ff0000"/>
                </a:solidFill>
                <a:uFillTx/>
                <a:latin typeface="Arial"/>
              </a:rPr>
              <a:t>대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의 컴퓨터를 사고 싶다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2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개수 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: “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컴퓨터가 서너대</a:t>
            </a:r>
            <a:r>
              <a:rPr b="0" lang="ko-KR" sz="2800" spc="-1" strike="noStrike" u="sng">
                <a:solidFill>
                  <a:srgbClr val="ff0000"/>
                </a:solidFill>
                <a:uFillTx/>
                <a:latin typeface="Arial"/>
              </a:rPr>
              <a:t>쯤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 필요하다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2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크기 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: “15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인치</a:t>
            </a:r>
            <a:r>
              <a:rPr b="0" lang="ko-KR" sz="2800" spc="-1" strike="noStrike" u="sng">
                <a:solidFill>
                  <a:srgbClr val="ff0000"/>
                </a:solidFill>
                <a:uFillTx/>
                <a:latin typeface="Arial"/>
              </a:rPr>
              <a:t>에서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25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인치 </a:t>
            </a:r>
            <a:r>
              <a:rPr b="0" lang="ko-KR" sz="2800" spc="-1" strike="noStrike" u="sng">
                <a:solidFill>
                  <a:srgbClr val="ff0000"/>
                </a:solidFill>
                <a:uFillTx/>
                <a:latin typeface="Arial"/>
              </a:rPr>
              <a:t>사이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의 컴퓨터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2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날짜 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: “10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월 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일</a:t>
            </a:r>
            <a:r>
              <a:rPr b="0" lang="ko-KR" sz="2800" spc="-1" strike="noStrike" u="sng">
                <a:solidFill>
                  <a:srgbClr val="ff0000"/>
                </a:solidFill>
                <a:uFillTx/>
                <a:latin typeface="Arial"/>
              </a:rPr>
              <a:t>경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에 학회가 있다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2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시간 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: “</a:t>
            </a:r>
            <a:r>
              <a:rPr b="0" lang="ko-KR" sz="2800" spc="-1" strike="noStrike" u="sng">
                <a:solidFill>
                  <a:srgbClr val="ff0000"/>
                </a:solidFill>
                <a:uFillTx/>
                <a:latin typeface="Arial"/>
              </a:rPr>
              <a:t>매일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시</a:t>
            </a:r>
            <a:r>
              <a:rPr b="0" lang="ko-KR" sz="2800" spc="-1" strike="noStrike" u="sng">
                <a:solidFill>
                  <a:srgbClr val="ff0000"/>
                </a:solidFill>
                <a:uFillTx/>
                <a:latin typeface="Arial"/>
              </a:rPr>
              <a:t>경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에 출발하는 새마을호</a:t>
            </a:r>
            <a:r>
              <a:rPr b="0" lang="ko-KR" sz="2800" spc="-1" strike="noStrike">
                <a:solidFill>
                  <a:srgbClr val="ffff00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7E73-4738-44CD-9DDE-AE721A84D8EC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E292FF-3240-407F-B66D-E88BDDEFE487}" type="datetime1">
              <a:rPr lang="en-US"/>
              <a:t>07/28/26</a:t>
            </a:fld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1240" y="4568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4400" spc="-1" strike="noStrike">
                <a:solidFill>
                  <a:srgbClr val="00cccc"/>
                </a:solidFill>
                <a:latin typeface="Arial"/>
              </a:rPr>
              <a:t>범위제약  함수 예</a:t>
            </a:r>
            <a:endParaRPr b="0" i="1" lang="en-US" sz="4400" spc="-1" strike="noStrike">
              <a:solidFill>
                <a:srgbClr val="00cc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2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Arial"/>
              </a:rPr>
              <a:t>대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백만원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) = 1000000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원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~1999999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원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Arial"/>
              </a:rPr>
              <a:t>쯤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서너대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) = 3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대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~4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Arial"/>
              </a:rPr>
              <a:t>에서</a:t>
            </a:r>
            <a:r>
              <a:rPr b="0" lang="ko-KR" sz="2800" spc="-1" strike="noStrike">
                <a:solidFill>
                  <a:srgbClr val="ff0000"/>
                </a:solidFill>
                <a:latin typeface="Arial"/>
              </a:rPr>
              <a:t>_</a:t>
            </a:r>
            <a:r>
              <a:rPr b="0" lang="ko-KR" sz="2800" spc="-1" strike="noStrike">
                <a:solidFill>
                  <a:srgbClr val="ff0000"/>
                </a:solidFill>
                <a:latin typeface="Arial"/>
              </a:rPr>
              <a:t>사이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(15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인치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, 25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인치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) = 15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인치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~25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인치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Arial"/>
              </a:rPr>
              <a:t>경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(10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월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9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일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) = 10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월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7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일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~10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월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11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15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0000"/>
                </a:solidFill>
                <a:latin typeface="Arial"/>
              </a:rPr>
              <a:t>매일</a:t>
            </a:r>
            <a:r>
              <a:rPr b="0" lang="ko-KR" sz="2800" spc="-1" strike="noStrike">
                <a:solidFill>
                  <a:srgbClr val="ff0000"/>
                </a:solidFill>
                <a:latin typeface="Arial"/>
              </a:rPr>
              <a:t>_</a:t>
            </a:r>
            <a:r>
              <a:rPr b="0" lang="ko-KR" sz="2800" spc="-1" strike="noStrike">
                <a:solidFill>
                  <a:srgbClr val="ff0000"/>
                </a:solidFill>
                <a:latin typeface="Arial"/>
              </a:rPr>
              <a:t>경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(2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시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) = 1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시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~3</a:t>
            </a:r>
            <a:r>
              <a:rPr b="0" lang="ko-KR" sz="2800" spc="-1" strike="noStrike">
                <a:solidFill>
                  <a:srgbClr val="ffffff"/>
                </a:solidFill>
                <a:latin typeface="Arial"/>
              </a:rPr>
              <a:t>시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6E233-12E6-4C4A-9B78-D942BA1DB03A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55253D-8558-4CEE-9FC2-D79F9E42DF97}" type="datetime1">
              <a:rPr lang="en-US"/>
              <a:t>07/28/26</a:t>
            </a:fld>
          </a:p>
        </p:txBody>
      </p:sp>
    </p:spTree>
  </p:cSld>
  <p:transition spd="med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71240" y="456840"/>
            <a:ext cx="70866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4400" spc="-1" strike="noStrike">
                <a:solidFill>
                  <a:srgbClr val="00cccc"/>
                </a:solidFill>
                <a:latin typeface="Arial"/>
              </a:rPr>
              <a:t>가격지정 연산자</a:t>
            </a:r>
            <a:endParaRPr b="0" i="1" lang="en-US" sz="4400" spc="-1" strike="noStrike">
              <a:solidFill>
                <a:srgbClr val="00cc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2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-</a:t>
            </a:r>
            <a:r>
              <a:rPr b="1" lang="ko-KR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대   </a:t>
            </a:r>
            <a:r>
              <a:rPr b="1" lang="ko-KR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: </a:t>
            </a:r>
            <a:r>
              <a:rPr b="1" lang="ko-KR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백만원대의 컴퓨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-</a:t>
            </a:r>
            <a:r>
              <a:rPr b="1" lang="ko-KR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이상 </a:t>
            </a:r>
            <a:r>
              <a:rPr b="1" lang="ko-KR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: </a:t>
            </a:r>
            <a:r>
              <a:rPr b="1" lang="ko-KR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백만원 이상인 컴퓨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-</a:t>
            </a:r>
            <a:r>
              <a:rPr b="1" lang="ko-KR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이하 </a:t>
            </a:r>
            <a:r>
              <a:rPr b="1" lang="ko-KR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: 3</a:t>
            </a:r>
            <a:r>
              <a:rPr b="1" lang="ko-KR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백만원 이하의 컴퓨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-</a:t>
            </a:r>
            <a:r>
              <a:rPr b="1" lang="ko-KR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초과 </a:t>
            </a:r>
            <a:r>
              <a:rPr b="1" lang="ko-KR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: </a:t>
            </a:r>
            <a:r>
              <a:rPr b="1" lang="ko-KR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백만원을 초과하는 컴퓨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-</a:t>
            </a:r>
            <a:r>
              <a:rPr b="1" lang="ko-KR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미만 </a:t>
            </a:r>
            <a:r>
              <a:rPr b="1" lang="ko-KR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: </a:t>
            </a:r>
            <a:r>
              <a:rPr b="1" lang="ko-KR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백만원 미만의 컴퓨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-</a:t>
            </a:r>
            <a:r>
              <a:rPr b="1" lang="ko-KR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에서</a:t>
            </a:r>
            <a:r>
              <a:rPr b="1" lang="ko-KR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...</a:t>
            </a:r>
            <a:r>
              <a:rPr b="1" lang="ko-KR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사이 </a:t>
            </a:r>
            <a:r>
              <a:rPr b="1" lang="ko-KR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: 90</a:t>
            </a:r>
            <a:r>
              <a:rPr b="1" lang="ko-KR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만원에서 </a:t>
            </a:r>
            <a:r>
              <a:rPr b="1" lang="ko-KR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100</a:t>
            </a:r>
            <a:r>
              <a:rPr b="1" lang="ko-KR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만원 사이의 컴퓨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-</a:t>
            </a:r>
            <a:r>
              <a:rPr b="1" lang="ko-KR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부터</a:t>
            </a:r>
            <a:r>
              <a:rPr b="1" lang="ko-KR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...</a:t>
            </a:r>
            <a:r>
              <a:rPr b="1" lang="ko-KR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까지 </a:t>
            </a:r>
            <a:r>
              <a:rPr b="1" lang="ko-KR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: 90</a:t>
            </a:r>
            <a:r>
              <a:rPr b="1" lang="ko-KR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만원부터 </a:t>
            </a:r>
            <a:r>
              <a:rPr b="1" lang="ko-KR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100</a:t>
            </a:r>
            <a:r>
              <a:rPr b="1" lang="ko-KR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만원까지의 컴퓨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-</a:t>
            </a:r>
            <a:r>
              <a:rPr b="1" lang="ko-KR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가장</a:t>
            </a:r>
            <a:r>
              <a:rPr b="1" lang="ko-KR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/</a:t>
            </a:r>
            <a:r>
              <a:rPr b="1" lang="ko-KR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제일 싼</a:t>
            </a:r>
            <a:r>
              <a:rPr b="1" lang="ko-KR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/</a:t>
            </a:r>
            <a:r>
              <a:rPr b="1" lang="ko-KR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비싼 </a:t>
            </a:r>
            <a:r>
              <a:rPr b="1" lang="ko-KR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: </a:t>
            </a:r>
            <a:r>
              <a:rPr b="1" lang="ko-KR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가장 비싼 컴퓨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-</a:t>
            </a:r>
            <a:r>
              <a:rPr b="1" lang="ko-KR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최대</a:t>
            </a:r>
            <a:r>
              <a:rPr b="1" lang="ko-KR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, </a:t>
            </a:r>
            <a:r>
              <a:rPr b="1" lang="ko-KR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최고 </a:t>
            </a:r>
            <a:r>
              <a:rPr b="1" lang="ko-KR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: </a:t>
            </a:r>
            <a:r>
              <a:rPr b="1" lang="ko-KR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최고 백만원</a:t>
            </a:r>
            <a:r>
              <a:rPr b="1" lang="ko-KR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, </a:t>
            </a:r>
            <a:r>
              <a:rPr b="1" lang="ko-KR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컴퓨터의 최고 가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-</a:t>
            </a:r>
            <a:r>
              <a:rPr b="1" lang="ko-KR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최소</a:t>
            </a:r>
            <a:r>
              <a:rPr b="1" lang="ko-KR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, </a:t>
            </a:r>
            <a:r>
              <a:rPr b="1" lang="ko-KR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최저 </a:t>
            </a:r>
            <a:r>
              <a:rPr b="1" lang="ko-KR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: </a:t>
            </a:r>
            <a:r>
              <a:rPr b="1" lang="ko-KR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최소 백만원</a:t>
            </a:r>
            <a:r>
              <a:rPr b="1" lang="ko-KR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, </a:t>
            </a:r>
            <a:r>
              <a:rPr b="1" lang="ko-KR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컴퓨터의 최소 가격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BDAD-0CBF-4796-A9B9-0A31114F3584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F9452C-8A7C-44C1-B24B-292EC77A1551}" type="datetime1">
              <a:rPr lang="en-US"/>
              <a:t>07/28/26</a:t>
            </a:fld>
          </a:p>
        </p:txBody>
      </p:sp>
    </p:spTree>
  </p:cSld>
  <p:transition spd="med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71240" y="456840"/>
            <a:ext cx="70866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4400" spc="-1" strike="noStrike">
                <a:solidFill>
                  <a:srgbClr val="00cccc"/>
                </a:solidFill>
                <a:latin typeface="Arial"/>
              </a:rPr>
              <a:t>가격지정 연산자</a:t>
            </a:r>
            <a:r>
              <a:rPr b="0" i="1" lang="ko-KR" sz="4400" spc="-1" strike="noStrike">
                <a:solidFill>
                  <a:srgbClr val="00cccc"/>
                </a:solidFill>
                <a:latin typeface="Arial"/>
              </a:rPr>
              <a:t>(</a:t>
            </a:r>
            <a:r>
              <a:rPr b="0" i="1" lang="ko-KR" sz="4400" spc="-1" strike="noStrike">
                <a:solidFill>
                  <a:srgbClr val="00cccc"/>
                </a:solidFill>
                <a:latin typeface="Arial"/>
              </a:rPr>
              <a:t>계속</a:t>
            </a:r>
            <a:r>
              <a:rPr b="0" i="1" lang="ko-KR" sz="4400" spc="-1" strike="noStrike">
                <a:solidFill>
                  <a:srgbClr val="00cccc"/>
                </a:solidFill>
                <a:latin typeface="Arial"/>
              </a:rPr>
              <a:t>)</a:t>
            </a:r>
            <a:endParaRPr b="0" i="1" lang="en-US" sz="4400" spc="-1" strike="noStrike">
              <a:solidFill>
                <a:srgbClr val="00cc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-</a:t>
            </a:r>
            <a:r>
              <a:rPr b="1" lang="ko-KR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정도 </a:t>
            </a:r>
            <a:r>
              <a:rPr b="1" lang="ko-KR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: </a:t>
            </a:r>
            <a:r>
              <a:rPr b="1" lang="ko-KR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백만원 정도의 컴퓨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-</a:t>
            </a:r>
            <a:r>
              <a:rPr b="1" lang="ko-KR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가량 </a:t>
            </a:r>
            <a:r>
              <a:rPr b="1" lang="ko-KR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: </a:t>
            </a:r>
            <a:r>
              <a:rPr b="1" lang="ko-KR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값이 백만원 가량 하는 컴퓨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-</a:t>
            </a:r>
            <a:r>
              <a:rPr b="1" lang="ko-KR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약</a:t>
            </a:r>
            <a:r>
              <a:rPr b="1" lang="ko-KR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/</a:t>
            </a:r>
            <a:r>
              <a:rPr b="1" lang="ko-KR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대략</a:t>
            </a:r>
            <a:r>
              <a:rPr b="1" lang="ko-KR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/</a:t>
            </a:r>
            <a:r>
              <a:rPr b="1" lang="ko-KR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대충 </a:t>
            </a:r>
            <a:r>
              <a:rPr b="1" lang="ko-KR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: </a:t>
            </a:r>
            <a:r>
              <a:rPr b="1" lang="ko-KR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값이 약 백만원인 컴퓨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-</a:t>
            </a:r>
            <a:r>
              <a:rPr b="1" lang="ko-KR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짜리 </a:t>
            </a:r>
            <a:r>
              <a:rPr b="1" lang="ko-KR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: </a:t>
            </a:r>
            <a:r>
              <a:rPr b="1" lang="ko-KR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백만원짜리 컴퓨터를 사고 싶다</a:t>
            </a:r>
            <a:r>
              <a:rPr b="1" lang="ko-KR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-'-' : 1-2</a:t>
            </a:r>
            <a:r>
              <a:rPr b="1" lang="ko-KR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백만원대</a:t>
            </a:r>
            <a:r>
              <a:rPr b="1" lang="ko-KR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(</a:t>
            </a:r>
            <a:r>
              <a:rPr b="1" lang="ko-KR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백만</a:t>
            </a:r>
            <a:r>
              <a:rPr b="1" lang="ko-KR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-2</a:t>
            </a:r>
            <a:r>
              <a:rPr b="1" lang="ko-KR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백만</a:t>
            </a:r>
            <a:r>
              <a:rPr b="1" lang="ko-KR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) </a:t>
            </a:r>
            <a:r>
              <a:rPr b="1" lang="ko-KR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컴퓨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-'~'  : 1~2</a:t>
            </a:r>
            <a:r>
              <a:rPr b="1" lang="ko-KR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백만원대 컴퓨터를 사고 싶다</a:t>
            </a:r>
            <a:r>
              <a:rPr b="1" lang="ko-KR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-</a:t>
            </a:r>
            <a:r>
              <a:rPr b="1" lang="ko-KR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쯤</a:t>
            </a:r>
            <a:r>
              <a:rPr b="1" lang="ko-KR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/</a:t>
            </a:r>
            <a:r>
              <a:rPr b="1" lang="ko-KR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수준 </a:t>
            </a:r>
            <a:r>
              <a:rPr b="1" lang="ko-KR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: </a:t>
            </a:r>
            <a:r>
              <a:rPr b="1" lang="ko-KR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백만원쯤 하는 컴퓨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-</a:t>
            </a:r>
            <a:r>
              <a:rPr b="1" lang="ko-KR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값이 싸다 </a:t>
            </a:r>
            <a:r>
              <a:rPr b="1" lang="ko-KR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: </a:t>
            </a:r>
            <a:r>
              <a:rPr b="1" lang="ko-KR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값이 싸고 성능이 좋은 컴퓨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-</a:t>
            </a:r>
            <a:r>
              <a:rPr b="1" lang="ko-KR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보다 </a:t>
            </a:r>
            <a:r>
              <a:rPr b="1" lang="ko-KR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(</a:t>
            </a:r>
            <a:r>
              <a:rPr b="1" lang="ko-KR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더</a:t>
            </a:r>
            <a:r>
              <a:rPr b="1" lang="ko-KR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) </a:t>
            </a:r>
            <a:r>
              <a:rPr b="1" lang="ko-KR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싼</a:t>
            </a:r>
            <a:r>
              <a:rPr b="1" lang="ko-KR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/</a:t>
            </a:r>
            <a:r>
              <a:rPr b="1" lang="ko-KR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비싼 </a:t>
            </a:r>
            <a:r>
              <a:rPr b="1" lang="ko-KR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-</a:t>
            </a:r>
            <a:r>
              <a:rPr b="1" lang="en-US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x</a:t>
            </a:r>
            <a:r>
              <a:rPr b="1" lang="ko-KR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원에서 </a:t>
            </a:r>
            <a:r>
              <a:rPr b="1" lang="ko-KR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±</a:t>
            </a:r>
            <a:r>
              <a:rPr b="1" lang="en-US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y</a:t>
            </a:r>
            <a:r>
              <a:rPr b="1" lang="ko-KR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원 </a:t>
            </a:r>
            <a:r>
              <a:rPr b="1" lang="ko-KR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: </a:t>
            </a:r>
            <a:r>
              <a:rPr b="1" lang="ko-KR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백만원에서 </a:t>
            </a:r>
            <a:r>
              <a:rPr b="1" lang="ko-KR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±10</a:t>
            </a:r>
            <a:r>
              <a:rPr b="1" lang="ko-KR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만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-</a:t>
            </a:r>
            <a:r>
              <a:rPr b="1" lang="en-US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x</a:t>
            </a:r>
            <a:r>
              <a:rPr b="1" lang="ko-KR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원에 가까운 </a:t>
            </a:r>
            <a:r>
              <a:rPr b="1" lang="ko-KR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: </a:t>
            </a:r>
            <a:r>
              <a:rPr b="1" lang="ko-KR" sz="2400" spc="-1" strike="noStrike">
                <a:solidFill>
                  <a:srgbClr val="ffff00"/>
                </a:solidFill>
                <a:latin typeface="굴림체"/>
                <a:ea typeface="굴림체"/>
              </a:rPr>
              <a:t>백만원에 가까운 컴퓨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BD44-3747-44F5-8BBB-E7C4F6392D8D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8D7554-6FCF-4B1B-B268-9816D5547734}" type="datetime1">
              <a:rPr lang="en-US"/>
              <a:t>07/28/26</a:t>
            </a:fld>
          </a:p>
        </p:txBody>
      </p:sp>
    </p:spTree>
  </p:cSld>
  <p:transition spd="med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240" y="45720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4400" spc="-1" strike="noStrike">
                <a:solidFill>
                  <a:srgbClr val="00cccc"/>
                </a:solidFill>
                <a:latin typeface="Arial"/>
              </a:rPr>
              <a:t>가격지정 연산자 유형</a:t>
            </a:r>
            <a:endParaRPr b="0" i="1" lang="en-US" sz="4400" spc="-1" strike="noStrike">
              <a:solidFill>
                <a:srgbClr val="00cccc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908520" y="3467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1143000" y="1752480"/>
          <a:ext cx="7012080" cy="411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752480"/>
                    <a:ext cx="7012080" cy="4114800"/>
                  </a:xfrm>
                  <a:prstGeom prst="rect">
                    <a:avLst/>
                  </a:prstGeom>
                  <a:ln w="31680">
                    <a:solidFill>
                      <a:srgbClr val="2a004e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4034-2AF4-458E-93A0-78B14C392A7A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523588-CCAB-4866-8612-63397BD58CAC}" type="datetime1">
              <a:rPr lang="en-US"/>
              <a:t>07/28/26</a:t>
            </a:fld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004e"/>
            </a:gs>
            <a:gs pos="50000">
              <a:srgbClr val="500093"/>
            </a:gs>
            <a:gs pos="100000">
              <a:srgbClr val="2a004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240" y="456840"/>
            <a:ext cx="7086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4400" spc="-1" strike="noStrike">
                <a:solidFill>
                  <a:srgbClr val="00cccc"/>
                </a:solidFill>
                <a:latin typeface="Arial"/>
              </a:rPr>
              <a:t>질의어 처리기의 구조</a:t>
            </a:r>
            <a:endParaRPr b="0" i="1" lang="en-US" sz="4400" spc="-1" strike="noStrike">
              <a:solidFill>
                <a:srgbClr val="00cccc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200400" y="1981080"/>
            <a:ext cx="2666880" cy="459720"/>
          </a:xfrm>
          <a:prstGeom prst="rect">
            <a:avLst/>
          </a:prstGeom>
          <a:solidFill>
            <a:srgbClr val="2a004e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00"/>
                </a:solidFill>
                <a:latin typeface="Times New Roman"/>
              </a:rPr>
              <a:t>형태소 분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200400" y="2819520"/>
            <a:ext cx="2666880" cy="459720"/>
          </a:xfrm>
          <a:prstGeom prst="rect">
            <a:avLst/>
          </a:prstGeom>
          <a:solidFill>
            <a:srgbClr val="2a004e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00"/>
                </a:solidFill>
                <a:latin typeface="Times New Roman"/>
              </a:rPr>
              <a:t>수사어절 정규화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200400" y="3657600"/>
            <a:ext cx="2666880" cy="459720"/>
          </a:xfrm>
          <a:prstGeom prst="rect">
            <a:avLst/>
          </a:prstGeom>
          <a:solidFill>
            <a:srgbClr val="2a004e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00"/>
                </a:solidFill>
                <a:latin typeface="Times New Roman"/>
              </a:rPr>
              <a:t>구문 분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200400" y="4495680"/>
            <a:ext cx="2666880" cy="459720"/>
          </a:xfrm>
          <a:prstGeom prst="rect">
            <a:avLst/>
          </a:prstGeom>
          <a:solidFill>
            <a:srgbClr val="2a004e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00"/>
                </a:solidFill>
                <a:latin typeface="Times New Roman"/>
              </a:rPr>
              <a:t>가격지정 연산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00400" y="12193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Times New Roman"/>
              </a:rPr>
              <a:t>질의어 문장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0400" y="5334120"/>
            <a:ext cx="2666880" cy="459720"/>
          </a:xfrm>
          <a:prstGeom prst="rect">
            <a:avLst/>
          </a:prstGeom>
          <a:solidFill>
            <a:srgbClr val="2a004e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00"/>
                </a:solidFill>
                <a:latin typeface="Times New Roman"/>
              </a:rPr>
              <a:t>상품정보 인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276720" y="60958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fffff"/>
                </a:solidFill>
                <a:latin typeface="Times New Roman"/>
              </a:rPr>
              <a:t>상품명</a:t>
            </a:r>
            <a:r>
              <a:rPr b="1" lang="ko-KR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ko-KR" sz="2400" spc="-1" strike="noStrike">
                <a:solidFill>
                  <a:srgbClr val="ffffff"/>
                </a:solidFill>
                <a:latin typeface="Times New Roman"/>
              </a:rPr>
              <a:t>가격범위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495680" y="2514600"/>
            <a:ext cx="76320" cy="228600"/>
          </a:xfrm>
          <a:prstGeom prst="downArrow">
            <a:avLst>
              <a:gd name="adj1" fmla="val 50000"/>
              <a:gd name="adj2" fmla="val 74882"/>
            </a:avLst>
          </a:prstGeom>
          <a:solidFill>
            <a:srgbClr val="ffff00">
              <a:alpha val="50000"/>
            </a:srgbClr>
          </a:solidFill>
          <a:ln w="41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495680" y="3352680"/>
            <a:ext cx="76320" cy="228600"/>
          </a:xfrm>
          <a:prstGeom prst="downArrow">
            <a:avLst>
              <a:gd name="adj1" fmla="val 50000"/>
              <a:gd name="adj2" fmla="val 74882"/>
            </a:avLst>
          </a:prstGeom>
          <a:solidFill>
            <a:srgbClr val="ffff00">
              <a:alpha val="50000"/>
            </a:srgbClr>
          </a:solidFill>
          <a:ln w="41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495680" y="1676520"/>
            <a:ext cx="76320" cy="228600"/>
          </a:xfrm>
          <a:prstGeom prst="downArrow">
            <a:avLst>
              <a:gd name="adj1" fmla="val 50000"/>
              <a:gd name="adj2" fmla="val 74882"/>
            </a:avLst>
          </a:prstGeom>
          <a:solidFill>
            <a:srgbClr val="ffff00">
              <a:alpha val="50000"/>
            </a:srgbClr>
          </a:solidFill>
          <a:ln w="41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495680" y="4191120"/>
            <a:ext cx="76320" cy="228600"/>
          </a:xfrm>
          <a:prstGeom prst="downArrow">
            <a:avLst>
              <a:gd name="adj1" fmla="val 50000"/>
              <a:gd name="adj2" fmla="val 74882"/>
            </a:avLst>
          </a:prstGeom>
          <a:solidFill>
            <a:srgbClr val="ffff00">
              <a:alpha val="50000"/>
            </a:srgbClr>
          </a:solidFill>
          <a:ln w="41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495680" y="5029200"/>
            <a:ext cx="76320" cy="228600"/>
          </a:xfrm>
          <a:prstGeom prst="downArrow">
            <a:avLst>
              <a:gd name="adj1" fmla="val 50000"/>
              <a:gd name="adj2" fmla="val 74882"/>
            </a:avLst>
          </a:prstGeom>
          <a:solidFill>
            <a:srgbClr val="ffff00">
              <a:alpha val="50000"/>
            </a:srgbClr>
          </a:solidFill>
          <a:ln w="41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495680" y="5867280"/>
            <a:ext cx="76320" cy="228600"/>
          </a:xfrm>
          <a:prstGeom prst="downArrow">
            <a:avLst>
              <a:gd name="adj1" fmla="val 50000"/>
              <a:gd name="adj2" fmla="val 74882"/>
            </a:avLst>
          </a:prstGeom>
          <a:solidFill>
            <a:srgbClr val="ffff00">
              <a:alpha val="50000"/>
            </a:srgbClr>
          </a:solidFill>
          <a:ln w="41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D4D1-6400-402E-8AAB-DFB6723ACF86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489DC4-8F18-4BB0-ABD5-EB85A41CC00E}" type="datetime1">
              <a:rPr lang="en-US"/>
              <a:t>07/28/26</a:t>
            </a:fld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18T08:02:29Z</dcterms:created>
  <dc:creator>강승식</dc:creator>
  <dc:description/>
  <dc:language>en-US</dc:language>
  <cp:lastModifiedBy>강승식</cp:lastModifiedBy>
  <cp:lastPrinted>1999-03-19T00:18:30Z</cp:lastPrinted>
  <dcterms:modified xsi:type="dcterms:W3CDTF">2002-07-05T09:04:05Z</dcterms:modified>
  <cp:revision>82</cp:revision>
  <dc:subject/>
  <dc:title>디지털 문헌정보의 자동화</dc:title>
</cp:coreProperties>
</file>