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D5DC-4ADF-4814-883C-4366DC5B3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1D55-668F-495E-8ABE-BD98F45AE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4565-6EAE-4F64-B205-87AF5A78F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4DC5-4A2A-4BD8-A46F-BCE0BC0A3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D7913-92E9-43D7-8126-421B0BDE9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E847-4FAF-45E2-82C2-C37B4214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DEE5-D52B-4111-BD89-DF712B566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C6F77-F0A5-4484-95AC-AC80F69EA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9E472-ECD2-4E66-8C74-29DF49A09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9703-187C-4B86-877F-D7550B68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EB52-79C1-415F-83E5-EF5396630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69172-13C3-4A05-AC80-51E591B76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98757-58B7-48C5-B48A-A40565B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1096F-2F19-4054-8155-C9268D3DB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662E6-E2F6-4336-BE36-2AF7C9A2B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2F9C9-9676-417D-AB20-3B4C96E6C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D7AF5-1A6F-4E4B-9596-7691077EF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6D3-B6CD-48D8-8FD6-67BD1E575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139E3-9B58-4528-B10B-4F008CFC7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150-0FF6-481D-AC6E-5F9288A4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A78C9-8DD8-4A88-81EF-AF42137CF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4526-CCBD-4C8E-BB26-ED8D7B8D4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28BD-02F0-4973-B14E-11561C9FB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5E92-3E81-48E5-BDBB-529934B2B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421E4-2F9E-4EFB-B9AE-02399D6E4C6C}" type="datetime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26年 7月 28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F1C54-79D3-4211-9341-86A37C9D7803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5738B-B08A-4E6F-8AD8-96FCD3445059}" type="datetime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26年 7月 28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B720-BD74-43A3-B838-561255E0BD35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한글문서의 자동색인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굴림체"/>
                <a:ea typeface="굴림체"/>
              </a:rPr>
              <a:t>강 승 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굴림체"/>
                <a:ea typeface="굴림체"/>
              </a:rPr>
              <a:t>국민대학교 컴퓨터학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skang@kookmin</a:t>
            </a:r>
            <a:r>
              <a:rPr b="0" lang="ko-KR" sz="16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c.kr    http://nlp.kookmin.ac.k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정보자료의 유형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: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어휘수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어휘수가 고정적인 문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법전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회사규정집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출규정집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어휘수가 가변적인 문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어휘수가 지속적으로 증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82C0-D850-487C-92F6-BCCE308A008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B7167-B112-4FCF-AF48-181931A8310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정보자료 유형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: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단일 </a:t>
            </a: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or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복합 문서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한 가지 유형의 문서로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제한되는 경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논문집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신문기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특허정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판결문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여러 가지 유형의 문서가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복합되는 경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터넷 문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자도서관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6F94C-7A17-4690-B8AD-8423CBD6C1B5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FCC1AE-CD4B-4B86-850C-F5D6D8EC75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일반적인 자동색인 과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 후보어 추출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정보자료 분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불용어 제거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품사불용어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대표어로 변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시소러스 이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가중치 부여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색인어 유형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제어 추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문서 내용 분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후처리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 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색인전문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6852-287B-4258-842B-D96DA2B237B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727953-02BF-4581-B992-84DB36AD8CC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94920" y="533160"/>
            <a:ext cx="708660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영어의 자동색인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Stemming Algorithm :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어근추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인칭 단수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명사의 복수형 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접두사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(de-)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접미사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(-ly, -ion, -ization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불용어 처리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: 8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~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수백개의 불용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문분석 기법에 의한 복합어 인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A5F3-FD5B-415A-955C-C41F5A215F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408AEB-9C93-4588-99AB-E592844451D0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한국어의 자동색인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형태소 분석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후보어 추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신조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외래어 등 미등록어 인식 문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불용어 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품사 불용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불용어 리스트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복합명사 분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단위명사도 색인어로 추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0F9A-7641-4757-AE25-82F05666A0EF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BA5683-C539-4C24-BE55-FC2A746952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어휘집과 기능어휘집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휘집에 의한 자동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어휘집에 수록된 용어만 색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어휘집 관리 문제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문가 필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기능어휘집에 의한 색인어 추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조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어미 리스트를 이용하여 명사 추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휘집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기능어휘집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0305-849B-4863-B2E9-5FD224822488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BE8747-09C9-4168-8596-9BB29EBC123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d60093"/>
                </a:solidFill>
                <a:latin typeface="Arial"/>
              </a:rPr>
              <a:t>NLP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기법과 자동색인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동색인을 위한 부분적인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NLP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기법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자사전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조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어미 처리 기법 활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NLP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기법을 자동색인 기능으로 확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형태소 분석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구문분석 기법 이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1368-89F1-49A1-A5C7-7A5BEAA52D5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9C54DF-2D84-4AC7-B40D-56981FD8A313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한국어 분석기법을 이용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artial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형태소 분석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명사추출 기능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범용 형태소 분석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색인어 추출 기능으로 확장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보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문분석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FB33-E700-48FD-B2B7-5940E887E49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5EBC74-19C5-4EA7-AFBE-696AC36103D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복합명사의 색인 예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예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검색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    ⇒ </a:t>
            </a:r>
            <a:r>
              <a:rPr b="0" lang="ko-KR" sz="2800" spc="-1" strike="noStrike">
                <a:solidFill>
                  <a:srgbClr val="ffff00"/>
                </a:solidFill>
                <a:latin typeface="신명조"/>
                <a:ea typeface="신명조"/>
              </a:rPr>
              <a:t>정보검색시스템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예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검색 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    ⇒ </a:t>
            </a:r>
            <a:r>
              <a:rPr b="0" lang="ko-KR" sz="2800" spc="-1" strike="noStrike">
                <a:solidFill>
                  <a:srgbClr val="ffff00"/>
                </a:solidFill>
                <a:latin typeface="신명조"/>
                <a:ea typeface="신명조"/>
              </a:rPr>
              <a:t>정보검색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00"/>
                </a:solidFill>
                <a:latin typeface="신명조"/>
                <a:ea typeface="신명조"/>
              </a:rPr>
              <a:t>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예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 검색 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    ⇒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예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를 검색하는 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    ⇒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예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의 검색이 가능한 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    ⇒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정보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시스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88FD-DD05-46D7-B251-B220A249FA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99EA8-BA7E-4E41-A7D8-17FB9F9A31D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2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어려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1)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전화기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김정일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오페라는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벨기에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미테랑은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패러다임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취침등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걸프만’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2)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복합명사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거주지도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색인이란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공직자가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색인어의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문서내의’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3)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위해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대해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하고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법의’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CD94-7D84-40AC-8757-EBF4DEA4DDC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89AD5-9DD2-4CC6-9677-8C3F3646DCB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82120"/>
            <a:ext cx="708660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차  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자동색인의 목적 및 필요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정보자료의 유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자동색인 기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불용어 처리와 색인어 관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멀티미디어 정보자료의 색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자동색인의 발전방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맺음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720A-81ED-4728-B26D-C44F098D1BB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2CEFA6-F750-44DC-AC9A-B92FD5BCBD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어려움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계속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4)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중의성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가장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대한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보고서’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5)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띄어쓰기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이에앞서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먹을수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하고있다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맡게될’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‘-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할때’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예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6)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제목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샤갈의 눈내리는 마을”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영원한 제국”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, “</a:t>
            </a:r>
            <a:r>
              <a:rPr b="0" lang="ko-KR" sz="3200" spc="-1" strike="noStrike">
                <a:solidFill>
                  <a:srgbClr val="ffffff"/>
                </a:solidFill>
                <a:latin typeface="Arial"/>
              </a:rPr>
              <a:t>바람의 나라”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6612-CBA6-4712-B106-AE7A470C05C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5471C9-8DA3-4BEF-A8B0-F9E1FA9E8E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불용어 처리 기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로서 가치가 없는 고빈도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the, of, and, to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형적인 영어문서에서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번 이상 발생하는 단어중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20~30%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가 불용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불용어 처리 효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색인 및 검색 속도 향상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색인어 저장공간 감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검색 효율 증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3425-8ECF-4A2F-B27C-0B88A69FAC8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7DB3D4-5CF2-4F4D-82B1-54C1FE1701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영어의 불용어 처리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00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만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Brown corpus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에서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: 425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a, about, along, among, anybody, area, ask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b, be, been, beings both, can, certainly, d, do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250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의 불용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Rijsbergen, </a:t>
            </a:r>
            <a:r>
              <a:rPr b="0" i="1" lang="ko-KR" sz="2800" spc="-1" strike="noStrike">
                <a:solidFill>
                  <a:srgbClr val="ffffff"/>
                </a:solidFill>
                <a:latin typeface="Arial"/>
              </a:rPr>
              <a:t>Information Retrieval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London, Butterworths, 1975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2488-CFC8-4457-B27D-A5627F0ED9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7871B-AFA7-4EA6-A72D-660AF34B4EF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영어의 불용어 처리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계속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ORBIT Search Service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에서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: 8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and, an, by, from, of, the, with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분야별 불용어 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컴퓨터 분야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computer, program, machine, language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1493-26E9-4D0F-B111-716033F34903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E14306-EB98-47DB-9A11-148939C0E4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한국어의 불용어 처리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품사 불용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명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수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1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음절 명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동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형용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부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관형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감탄사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명사 불용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불용어 사전에 수록된 것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영문과 숫자 혼합어는 불용어 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3-1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절’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비타민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A’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등 특수색인어는 제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0D78-403B-49AF-B637-E00DC512654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B9FC9A-E149-4857-9AE4-1906B044C5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속도와 색인공간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속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300~60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만 문서에 대해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10~2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만 문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1~2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문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초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색인어 추출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저장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1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1  ~  1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 추출 속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약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5,000~6,000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어절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초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Pentium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 저장 공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원문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vs.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색인어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1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1  ~  1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E1D5-E677-49AF-9CD3-FC7814CE60A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FB6799-BB22-43D7-828A-07803F71777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어 저장 기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역 색인파일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용량 정보자료의 색인시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요약파일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문서량이 적어서 </a:t>
            </a:r>
            <a:r>
              <a:rPr b="0" lang="ko-KR" sz="2800" spc="-1" strike="noStrike" u="sng">
                <a:solidFill>
                  <a:srgbClr val="ffffff"/>
                </a:solidFill>
                <a:uFillTx/>
                <a:latin typeface="Arial"/>
              </a:rPr>
              <a:t>색인할 필요가 없을 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모든 문서를 검색하는 시간 절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색인어 저장 공간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overhead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줄임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ECB-EE3B-41FC-BADD-1B920849B45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FEF3B-8913-4BAA-9756-C8FA08445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요약파일 기법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: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제한적으로 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중간크기의 데이터베이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Hyperties : IBM PC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용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200K DB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의 검색효율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3~1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초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검색빈도가 낮은 데이터베이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문서 전체를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scanning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하지 않아도 됨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분산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DB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환경에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각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machine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마다 요약파일의 사본 유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DB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에서 길이가 긴 필드에 대한 검색시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B4F3-AC53-434E-9FEC-08B8DAEAD93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C3104-FF20-47D8-A92F-DBC5B10D07E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발전방향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멀티미디어 정보자료의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주제어 색인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문서유형별 색인 전문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오류어 처리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색인어 관리 및 후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082D-D67A-46B0-98C8-38B210A43FE1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32D4DF-EA82-42D7-B7C6-709A48343B4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멀티미디어 정보자료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정보자료의 유형에 따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사진 자료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비디오 자료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음성 자료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정보자료의 활용 분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방송 자료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미술관 자료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디자인 자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3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설계 도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지도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지리정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7039-5A02-4AD0-A27F-4FAD872D199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66B8AB-4262-4122-865F-171B0D036A6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이란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?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 추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선별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or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부여하는 작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dex ter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정보자료의 내용에 대해 색인되는 용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검색어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query term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검색할 때 질의어로 사용되는 용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2DD64-25E4-4398-9A79-96C55B5589E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E9B0C3-FCF8-4CBB-9D45-4DE31846E766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멀티미디어 검색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: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정지영상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빨간 장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빨갛게 활짝 핀 장미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노랗게 물들인 머리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d60093"/>
                </a:solidFill>
                <a:latin typeface="Arial"/>
              </a:rPr>
              <a:t>해가 떠오르는 장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d60093"/>
                </a:solidFill>
                <a:latin typeface="Arial"/>
              </a:rPr>
              <a:t>해가 반쯤 떠 있는 장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d60093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d60093"/>
                </a:solidFill>
                <a:latin typeface="Arial"/>
              </a:rPr>
              <a:t>해가 하늘 높이 떠 있는 장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81680" y="2286000"/>
            <a:ext cx="1181160" cy="198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9C7C-B192-4E20-A21C-F1382CBC52D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48644F-622C-4283-9BC7-4F2B065376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멀티미디어 검색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: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동영상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인공이 뛰어가는 장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인공이 빨리 뛰어가는 장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인공이 매우 빨리 뛰어가는 장면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주인공이 조금 뛰어가다가 바로 멈추는 장면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7623000" y="1676520"/>
            <a:ext cx="99864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97D4-533B-4A28-8F37-26F4F9A9ABA6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33B66-9499-4403-A654-2296E3C265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주제어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-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비주제어 색인 기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주제어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비주제어를 구별 않고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주제어만 색인하는 방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주제어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비주제어를 구별하여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i="1" lang="ko-KR" sz="3200" spc="-1" strike="noStrike">
                <a:solidFill>
                  <a:srgbClr val="ffff00"/>
                </a:solidFill>
                <a:latin typeface="Arial"/>
              </a:rPr>
              <a:t>주제어와 비주제어를 별도로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0B6C-9A2D-4923-BAFE-CC7004A1B2FC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805557-D0CD-422C-AF8B-FE77FFC785A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주제어 추출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,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문서분류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,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문서요약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,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연어 질의어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문분석 기법에 의한 주제어 추출 기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동 문서분류 기능이 가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요약 기능으로 발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연언어 질의어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NLQ)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시스템 구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BA522-441D-45A9-846F-7A7CC13191F5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123A48-0987-4B2C-9335-9CCD36C323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대화체 문서의 오류어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만나구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만나고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같애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같아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갈려고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가려고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준비허고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준비하고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거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것은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러믄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러면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힘들더래도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힘들더라도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맨날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매일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날으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나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땜에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때문에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2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어떠까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어떨까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CAF-7D15-4A92-9E6F-BF0B201E26CE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FED520-2123-4C8F-8DC2-552DEEE428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전자우편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,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인터넷 뉴스그룹 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갈켜줘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가르쳐 줘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가르쳐줘잉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때가서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동안모아둔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외다수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8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중한사람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글코보면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그러고 보면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2746-31EF-4A32-BD36-66C5AD7DA20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2F3A42-8A31-4003-B073-3D512FA40A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한글 문서의 자동 띄어쓰기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띄어쓰기를 무시한 정보자료의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자인식기의 줄바꿈 문제 해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전자출판 문서의 줄바꿈 문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음성인식 문장의 띄어쓰기 문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D125-7A55-4900-9CB6-4BEB04CCE3B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1F151-AD89-4884-9BAB-293545B4BD3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시소러스 활용 방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 algn="just">
              <a:lnSpc>
                <a:spcPct val="9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검색시에만 이용하는 방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속도 저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색인 및 검색시에 모두 이용하는 방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검색속도 향상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대표어로 색인하므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시소러스가 안정적으로 구축되었을 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 algn="just">
              <a:lnSpc>
                <a:spcPct val="9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대표어 색인 예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한국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대한민국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코리아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Kore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 algn="just">
              <a:lnSpc>
                <a:spcPct val="9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복합명사의 대표어는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649-46B6-42FA-9CB6-5D53A9617976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4A4762-8C24-4E58-9067-1BC2D668DE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어 후처리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불용어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(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오류어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)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의 색인 방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색인어 누락 방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색인어 리스트를 사용자에게 제공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전방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-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후방 일치어 확장 검색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색인비용 증가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: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색인 전문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358B-9865-4217-AF0E-28A3B05DE38C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39B18-7DF1-4350-BCED-126F1BB1A79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어 관리 기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오류어 등 불용어의 지속적인 증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d60093"/>
                </a:solidFill>
                <a:latin typeface="신명조"/>
                <a:ea typeface="신명조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색인어 수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수십만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~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수백만 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1.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주기적으로 색인어 관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신명조"/>
                <a:ea typeface="신명조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일정기간 검색되지 않은 색인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 algn="just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신명조"/>
                <a:ea typeface="신명조"/>
              </a:rPr>
              <a:t>문헌빈도가 임계치를 넘는 색인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2. </a:t>
            </a:r>
            <a:r>
              <a:rPr b="0" lang="ko-KR" sz="3200" spc="-1" strike="noStrike">
                <a:solidFill>
                  <a:srgbClr val="ffff00"/>
                </a:solidFill>
                <a:latin typeface="신명조"/>
                <a:ea typeface="신명조"/>
              </a:rPr>
              <a:t>유형별로 색인어 저장 시스템 분할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93A-2D35-44AC-85A7-FFBC1095EA7C}" type="slidenum">
              <a:t>3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1470F-90A5-4581-A6D4-39C40DEA04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색인 방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ffff00"/>
                </a:solidFill>
                <a:uFillTx/>
                <a:latin typeface="Arial"/>
              </a:rPr>
              <a:t>자동색인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s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수동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 u="sng">
                <a:solidFill>
                  <a:srgbClr val="ffff00"/>
                </a:solidFill>
                <a:uFillTx/>
                <a:latin typeface="Arial"/>
              </a:rPr>
              <a:t>용어추출 색인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s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용어부여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연어 색인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vs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통제어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개별어휘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표어로 색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55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개별어휘와 대표어 모두 색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2932-AB85-413A-B489-02179146399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160B3D-2E67-4167-A02F-1697664DDDB5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 시스템의 평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 속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 정확도 및 색인어 누락 정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복합명사의 분해 성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불용어 처리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4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특수색인어 처리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56CB-B33C-44EB-A801-0AB594319786}" type="slidenum">
              <a:t>4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054E4E-698A-47AF-A94D-18629F5D42A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 시스템의 평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멀티미디어 정보자료의 색인 여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1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형용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동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부사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7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동 띄어쓰기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8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제어 추출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9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요약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분류 기능과 연계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0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음성인식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NLQ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등과의 연계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99F5-1EA9-48EF-8A59-C3E3CA472EAC}" type="slidenum">
              <a:t>4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0D2A08-FC37-4D09-BB91-BDF4498765E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연구방향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정보자료의 다양성에 의한 전문화 추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멀티미디어 정보자료의 색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 유형별로 색인 전문화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기타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: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동 띄어쓰기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오류어 처리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C3A5-5E0D-4216-B20E-184D5E9F7DE7}" type="slidenum">
              <a:t>4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8887DE-66E0-4B78-ADF4-4484941F19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연구방향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계속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문분석 기법의 도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주제어 추출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요약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분류 기능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연언어 질의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16B1-2C61-4CB5-8F60-8AFDD4A838A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75926C-AAE4-4D97-B2D1-910D1442B6F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371240" y="582120"/>
            <a:ext cx="7086600" cy="10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맺음말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90360" y="18288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정보자료의 다양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한국어 자동색인 기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불용어 처리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색인어 관리 기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자동색인의 발전방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멀티미디어 자료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주제어 색인 기법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서유형별 색인 전문화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서요약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400" spc="-1" strike="noStrike">
                <a:solidFill>
                  <a:srgbClr val="ffffff"/>
                </a:solidFill>
                <a:latin typeface="Arial"/>
              </a:rPr>
              <a:t>문서분류 등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6F269-7F2E-439B-98FA-DE9F69031EC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4A769-A9CB-47B8-B223-591949DFB1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맺음말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계속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자동색인의 중요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최소 비용으로 최대 효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ffff"/>
                </a:solidFill>
                <a:uFillTx/>
                <a:latin typeface="Arial"/>
              </a:rPr>
              <a:t>검색 결과에 가장 큰 영향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어의 가중치 부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문서 유형별로 전문화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주제어 추출 기법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검색 정확도 향상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지속적인 성능 향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6629400" y="2819520"/>
            <a:ext cx="1747800" cy="1904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74C3-A497-45BF-AC96-2F1E0924B872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9F320B-7CD1-42AC-97C7-CCA15DD5E7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필요성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정보자료의 폭발적인 증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신속한 정보제공 서비스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Keyword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를 이용한 본문검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색인비용 문제 해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074A-3855-4257-B510-8A01488F3FEF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8FD8F1-0324-4546-AD89-0B5EB2B33AC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자동색인의 최종목표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43000" y="16765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 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정보자료에 나타난 용어 집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 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색인어로 추출된 용어 집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 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검색어로 사용되는 용어 집합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Maximize(I &amp; R) &amp; minimize(I &amp; R</a:t>
            </a:r>
            <a:r>
              <a:rPr b="0" lang="en-US" sz="2800" spc="-1" strike="noStrike" baseline="30000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962520"/>
            <a:ext cx="4495680" cy="2743200"/>
          </a:xfrm>
          <a:prstGeom prst="rect">
            <a:avLst/>
          </a:prstGeom>
          <a:solidFill>
            <a:srgbClr val="2a004e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114800" y="4343400"/>
            <a:ext cx="2057400" cy="198108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819520" y="4191120"/>
            <a:ext cx="3352680" cy="2438280"/>
          </a:xfrm>
          <a:prstGeom prst="ellipse">
            <a:avLst/>
          </a:prstGeom>
          <a:solidFill>
            <a:srgbClr val="0000ff">
              <a:alpha val="50000"/>
            </a:srgbClr>
          </a:solidFill>
          <a:ln w="12600">
            <a:solidFill>
              <a:srgbClr val="2a00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0" y="39625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41911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43434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5D53-B860-455E-A991-C9D28E06C2A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C2471C-4422-4BFF-B0A8-2E4393FD407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정보자료의 유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단위 정보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수치정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사실정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서지정보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정보자료를 그대로 색인 가능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문서 정보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서적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논문 등 정형화된 문서자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신문기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소설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무협지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시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기타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터넷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자우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C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통신 문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85000"/>
              </a:lnSpc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멀티미디어 정보자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lnSpc>
                <a:spcPct val="8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음성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사진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비디오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그래픽 데이터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1E5F-D761-487D-8741-C421034CE01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87ADD-A0EA-4F81-8F60-515681FC066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2388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정보자료의 유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일반문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맞춤법 오류가 거의 없고 문어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신문기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형적인 띄어쓰기 오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복합명사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어체 문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방송대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화체 문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회의록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972-65DD-4E6B-A3CC-F92DE5F3383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FC438-2DDF-45DF-AB4A-5C3CFA50F4E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정보자료의 유형 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(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계속</a:t>
            </a:r>
            <a:r>
              <a:rPr b="1" i="1" lang="ko-KR" sz="4400" spc="-1" strike="noStrike">
                <a:solidFill>
                  <a:srgbClr val="d60093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멀티미디어 문서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음성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그래픽 데이터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동영상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기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부 띄어쓰기가 무시된 문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자우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뉴스그룹 등 오류가 많은 문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4316-4137-4798-933D-D18861F761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6067FC-477C-46F8-8149-B838C8317CC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8:02:29Z</dcterms:created>
  <dc:creator>강승식</dc:creator>
  <dc:description/>
  <dc:language>en-US</dc:language>
  <cp:lastModifiedBy>강승식</cp:lastModifiedBy>
  <cp:lastPrinted>1999-03-19T00:18:30Z</cp:lastPrinted>
  <dcterms:modified xsi:type="dcterms:W3CDTF">2002-07-05T09:00:24Z</dcterms:modified>
  <cp:revision>79</cp:revision>
  <dc:subject/>
  <dc:title>디지털 문헌정보의 자동화</dc:title>
</cp:coreProperties>
</file>