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15B-2270-4311-BA96-8BF38F2C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9DD25-C44C-4C36-BF7B-5CEF2DDB8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07DF-DD93-4878-952F-29C30CF7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753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16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36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753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16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87B0-67DF-499E-97C7-FC663059F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5FFB-71E4-422B-A5CC-0F747CE8D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A3F8B-606C-43B1-96CE-621E42C08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F672-9474-4E63-8533-4D118D91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18E3B-CB51-4F4E-82FC-1A2C159C7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257B-D4E9-4981-AC2F-CA9856B76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990360" y="479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BF282-EF62-456D-BD32-12D59E89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73B04-81BA-466E-9069-8F8247D80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ADF-2C3E-48E0-8BFD-4A5C31DD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9636-99CF-4BC7-8546-204469EDF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A39B-3BB8-4ABC-A87C-791390FC1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964A9-3902-4B86-8729-D79856884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8D92-B0F1-4636-AC42-4D028A624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753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516720" y="190476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99036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753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516720" y="4093920"/>
            <a:ext cx="26312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AF7E-9947-42F5-A5A7-EE5209025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7CE1-8252-4D67-97F2-1B3436A4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0A32-B2D0-484E-BCD2-2DF556ED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0A45-B46C-4FF0-845E-33C95B9DC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360" y="479160"/>
            <a:ext cx="8172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3029A-B958-4F67-A375-E7AF2A419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F773-C862-4098-9E7C-3B4F9FA29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8240" y="409392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AF6E-CA7D-4C5C-BE43-CC8DA7C54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8240" y="1904760"/>
            <a:ext cx="39880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360" y="4093920"/>
            <a:ext cx="817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65FC-C0DD-4863-AEEC-FF0D23A5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99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99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129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DC5A-3BE2-47EA-ABB8-A0523E098429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D8D1-D7B8-4C90-B568-DF9E2FB5E5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6" name=""/>
            <p:cNvSpPr/>
            <p:nvPr/>
          </p:nvSpPr>
          <p:spPr>
            <a:xfrm>
              <a:off x="0" y="1523880"/>
              <a:ext cx="9905760" cy="0"/>
            </a:xfrm>
            <a:prstGeom prst="line">
              <a:avLst/>
            </a:prstGeom>
            <a:ln w="1260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9036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742680" y="1295280"/>
              <a:ext cx="24732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41292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9F076-D438-48CF-BE08-606010F4EE3F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7858A-DC43-45D6-BAFF-4ED1D89347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1402920" y="220932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0"/>
            <a:ext cx="9905760" cy="6858000"/>
            <a:chOff x="0" y="0"/>
            <a:chExt cx="9905760" cy="6858000"/>
          </a:xfrm>
        </p:grpSpPr>
        <p:sp>
          <p:nvSpPr>
            <p:cNvPr id="50" name=""/>
            <p:cNvSpPr/>
            <p:nvPr/>
          </p:nvSpPr>
          <p:spPr>
            <a:xfrm>
              <a:off x="1485720" y="3048120"/>
              <a:ext cx="247320" cy="22860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276720"/>
              <a:ext cx="9905760" cy="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33400" y="0"/>
              <a:ext cx="0" cy="6858000"/>
            </a:xfrm>
            <a:prstGeom prst="line">
              <a:avLst/>
            </a:prstGeom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99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굴림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한국어의 형태론적 중의성 유형 및 해결 방안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0720" y="4038480"/>
            <a:ext cx="685188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강   승   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대학교 컴퓨터학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7. 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품사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9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실질형태소의 품사가 좁은 의미의 품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분류 체계 내에서 다른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나’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: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명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o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대명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곳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    :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명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o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의존명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동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or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보조용언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있다’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: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동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형용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보조용언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A599-F7E0-4E9A-B384-11D80B57174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37D74-CE15-4500-B4B4-E7A9E8B6D6C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품사 체계에 따른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 유형 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차적 품사 중의성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독립언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6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만 단어 사전에서 중의성 개수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--- 848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용 모호성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: 297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체용독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: 35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독 모호성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: 488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용독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: 28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‘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적’으로 끝나는 품사 중의성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: 495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개는 제외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차적 품사 중의성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체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용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독 내에서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차적 품사 중의성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명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어미 등 세분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8817-6A9E-4B65-B7DB-F056E340BF96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F8ECD-66A4-4B0D-9548-FEAFD95E0FD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 해결 방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3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1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절대적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각 분석 결과의 특성에 따라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2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상대적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두 분석 결과에 대해 상대적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3.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통계적 빈도수 이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i="1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빈도가 높은 어절에 대한 통계적 빈도 정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C960-F91D-437D-B035-CBE069F6747F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D49E78-EEBA-4C57-991D-9914DE3D58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절대적 가중치 부여 방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5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[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형태소 길이 비례의 원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형태소의 길이에 따라 가중치 부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[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형태소 개수 비례의 원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분리된 형태소의 개수에 따라 가중치 부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[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원형 보존의 원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축약이나 탈락 등 형태소 변이체 유형에 따라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20A9-0D91-414F-AAC5-132B7655CBD6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693ADF-8E6D-4603-AD50-FD2AEB7479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통계적 빈도수 이용 방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[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통계적 선호도 원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]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빈도가 높은 어절들에 대해 통계적으로 선택되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분석 결과들의 빈도수 정보에 따라 가중치 부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중의성이 일어나는 어절 유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독립언 중의성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: 523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(488+35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용언 중의성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1 : 332(297+35) *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p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      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p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는 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어미 모호성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2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개 중 일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용언 중의성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2 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어근길이가 다른 것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미등록어 모호성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FBF6-D6FD-4897-8961-A33E951310CC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1CC0F2-12B9-4BB8-B97C-D967AD940D4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상대적 가중치 부여 방법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19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어근 유형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독립언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조사 결합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부사와 관형사 우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적’으로 끝나는 명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관형사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조사 결합여부에 따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용언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좌우 문맥이나 통계적 선호도 이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단어유형에 따른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서술격조사가 있는 것의 가중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,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명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동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+...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유형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바람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의 가중치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문법형태소의 빈도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길이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구어체 정보 활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0428-5E95-48FF-B69C-A45AD81479E1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AC54BF-87F1-4E72-9D37-98D9E94AFB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상대적 가중치 부여 방법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(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계속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)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1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아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에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이’ 탈락된 분석 결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 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에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이’를 복원한 분석결과는 그렇지 않은 것보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가중치를 낮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. ---&gt;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오분석 가능성이 높으므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단어유형에 따른 가중치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서술격조사가 있는 것의 가중치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미등록어 추정 결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체언으로 분석된 것의 가중치를 높인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  <a:ea typeface="돋움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8484-1587-43EB-9ED3-1D392D52433D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CD8DDB-F8C6-4F31-85DF-E9AE693C745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결   론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360" y="1904760"/>
            <a:ext cx="817236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형태론적 중의성의 원인 및 유형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의성 유형을 품사체계에 따라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,2,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형태론적 중의성 해결 방안 제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Analytic Approach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의한 형태론적 중의성 해결 가능성 제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향후 계획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충분한 실험에 의해 모호성 세분화 및 해결 방안 검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869-5715-440F-95AD-58E7C5ECE06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9C6581-0552-486F-93FC-82BFD037E2BD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기존의 연구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90360" y="2292120"/>
            <a:ext cx="8172360" cy="372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agged Corpus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축을 중심으로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사 중의성 해결을 중심으로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통계적 기법을 이용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agging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근에는 통계적 기법과 규칙을 혼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의성이 발생하는 원인 규명 및 해결방안에 대한 연구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95D3-0676-4641-B16C-A8A457FBA99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50023B-D6A3-4C62-A8AC-F6811CF77B9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90360" y="479160"/>
            <a:ext cx="8172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형태론적 중의성</a:t>
            </a: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: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분류기준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07920" y="1905120"/>
            <a:ext cx="8420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의 두 형태소 분석 결과에 대해 중의성 발생 원인에 따라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의 두 분석 결과가 한가지 유형에만 속하도록 제약조건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의성 유형을 세분화하여 중의성 해결 방법의 용이성 고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9966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분석 사전에 나타난 다품사 유형을 분석하여 중의성 유형을 세분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3377-108B-4EC6-ACA4-2589CAD4A7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7B370-1AE5-4351-94B7-7362683C91D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60240" y="1981080"/>
            <a:ext cx="858528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실질형태소의 품사가 대분류 차원에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다른 것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독립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는’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: 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   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보고서’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: 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보고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서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보고서’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"/>
          <p:cNvSpPr/>
          <p:nvPr/>
        </p:nvSpPr>
        <p:spPr>
          <a:xfrm>
            <a:off x="660240" y="380880"/>
            <a:ext cx="8420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1. 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어근 유형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D3A-66F6-460B-A16A-F0D7961F26F6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6E0528-A18F-4ED2-BC62-BEF2310994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360" y="636120"/>
            <a:ext cx="8172360" cy="91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형태소 분리 중의성</a:t>
            </a:r>
            <a:endParaRPr b="0" lang="en-US" sz="4400" spc="-1" strike="noStrike">
              <a:solidFill>
                <a:srgbClr val="00ffcc"/>
              </a:solidFill>
              <a:latin typeface="굴림"/>
            </a:endParaRPr>
          </a:p>
        </p:txBody>
      </p:sp>
      <p:sp>
        <p:nvSpPr>
          <p:cNvPr id="99" name=""/>
          <p:cNvSpPr/>
          <p:nvPr/>
        </p:nvSpPr>
        <p:spPr>
          <a:xfrm>
            <a:off x="577800" y="1676520"/>
            <a:ext cx="89154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어미의 분리 위치는 같으나 명사형어미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보조용언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선어말어미 등의 분리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의해 형태소 개수가 달라지는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녹음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녹음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녹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음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그들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그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시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시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시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선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보관함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보관함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보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하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ㅁ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사랑하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사랑하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사랑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하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접미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예뻐지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예뻐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예쁘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어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보조용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다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C49EC-7EBE-4F62-9BBA-6E5FAEF24BCC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F64EA-97A1-49D6-B6AE-209B22D951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3. 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형태소 길이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1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어휘형태소의 품사는 동일하지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어미의 분리 위치에 따라 실질형태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의 길이가 달라지는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 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   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늘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라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자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라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경기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경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조사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경기도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1AB2-BC72-4095-BBB2-F8E3AEA668B2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FF5704-361A-4A81-AB9F-76404258C1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660240" y="1905120"/>
            <a:ext cx="85852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실질형태소가 분리되는 위치는 같으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불규칙 용언의 원형 복원 여부에 따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분석 결과가 달라지는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가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, 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갈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용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ffcc"/>
                </a:solidFill>
                <a:latin typeface="Arial"/>
                <a:ea typeface="돋움"/>
              </a:rPr>
              <a:t>4. </a:t>
            </a:r>
            <a:r>
              <a:rPr b="0" lang="ko-KR" sz="4400" spc="-1" strike="noStrike">
                <a:solidFill>
                  <a:srgbClr val="00ffcc"/>
                </a:solidFill>
                <a:latin typeface="Arial"/>
                <a:ea typeface="돋움"/>
              </a:rPr>
              <a:t>불규칙 원형복원 </a:t>
            </a:r>
            <a:r>
              <a:rPr b="0" lang="ko-KR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E822-FF55-4ADA-AB88-001D82EE3E6C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0210A7-6E6C-45A5-BDD3-A0DC7EE66D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5. 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서술격 조사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5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서술격조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+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돋움"/>
              </a:rPr>
              <a:t>어미 유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돋움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사과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사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사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서술격조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밤이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  :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이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밤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체언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서술격조사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돋움"/>
              </a:rPr>
              <a:t>라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8A7B-55AE-4566-B36F-78F52B0A36B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A6043-C85F-4C5E-A1D9-E995D694934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형태소 분석 과정에서 ‘아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에’를 복원할 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발생하는 중의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       : 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가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용언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어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어미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경찰서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 :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경찰서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,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                        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경찰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체언      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+  '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에서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  <a:ea typeface="돋움"/>
              </a:rPr>
              <a:t>'</a:t>
            </a:r>
            <a:r>
              <a:rPr b="0" lang="ko-KR" sz="1400" spc="-1" strike="noStrike">
                <a:solidFill>
                  <a:srgbClr val="ffffff"/>
                </a:solidFill>
                <a:latin typeface="Arial"/>
                <a:ea typeface="돋움"/>
              </a:rPr>
              <a:t>조사</a:t>
            </a:r>
            <a:endParaRPr b="0" lang="en-US" sz="1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457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6. ‘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아</a:t>
            </a:r>
            <a:r>
              <a:rPr b="0" lang="en-US" sz="4400" spc="-1" strike="noStrike">
                <a:solidFill>
                  <a:srgbClr val="00ffcc"/>
                </a:solidFill>
                <a:latin typeface="Arial"/>
                <a:ea typeface="돋움"/>
              </a:rPr>
              <a:t>/</a:t>
            </a:r>
            <a:r>
              <a:rPr b="0" lang="zh-CN" sz="4400" spc="-1" strike="noStrike">
                <a:solidFill>
                  <a:srgbClr val="00ffcc"/>
                </a:solidFill>
                <a:latin typeface="Arial"/>
                <a:ea typeface="돋움"/>
              </a:rPr>
              <a:t>에’ 복원 </a:t>
            </a:r>
            <a:r>
              <a:rPr b="0" lang="zh-CN" sz="4400" spc="-1" strike="noStrike">
                <a:solidFill>
                  <a:srgbClr val="00ffcc"/>
                </a:solidFill>
                <a:latin typeface="굴림"/>
              </a:rPr>
              <a:t>중의성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599-3483-4FBC-BF4D-6C3DB16BEA47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3A9A0-0177-4B50-8F12-C73F73C65AD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5:54Z</dcterms:created>
  <dc:creator>강승식</dc:creator>
  <dc:description/>
  <dc:language>en-US</dc:language>
  <cp:lastModifiedBy>강승식</cp:lastModifiedBy>
  <cp:lastPrinted>1997-10-08T07:57:46Z</cp:lastPrinted>
  <dcterms:modified xsi:type="dcterms:W3CDTF">2002-07-05T08:32:56Z</dcterms:modified>
  <cp:revision>26</cp:revision>
  <dc:subject/>
  <dc:title>Communicating Bad News</dc:title>
</cp:coreProperties>
</file>