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C55D-319A-4F82-8A9E-4F82AADE1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5BA7-3335-4C89-AE0B-70B4B5AC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FCCF-8A3C-428E-8141-B6CF558C1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136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412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136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545C-5328-47E9-992E-F41274B2B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4D55F-4CA2-4872-9CC5-FA93112C9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22D76-8359-470B-9D90-1FD9B131E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E8A3-198D-45F2-A4C9-F0602CC88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FF0D61-D9BA-45A8-B395-574358D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783D0-C677-4260-9708-35794942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502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B9E82-AED3-4E0C-B312-34F641CA0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67B45-BEC8-4840-ABE6-913DBE5EF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6E34-1679-4B43-8906-88C49E42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CAB1-E300-4B91-B794-DBF55512B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9C2AE-6D67-48AD-A62C-74B97F8F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1FC97-A7EB-4435-82F4-127C2501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72DE5-0C11-41CB-ADE0-01C324102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9136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412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9136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824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E1E1B-9BBE-4167-AF07-58750B991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A19C-0117-4210-8681-08B79B964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40F-63F3-4B68-B6BE-E67AA2EC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BD5E-6F00-464C-B7B1-04074C9D9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502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7D27-E06C-4DDE-AA83-F6D4FDED7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B877-0D3F-4F27-B1D0-DCE84BF10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EBEC-AEE3-450E-97C0-8E0AEAD08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39F9-35DD-446A-8CBE-67894B2A1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25ADF-5463-4C52-8BEB-BCB2BFC3EF6A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7800" y="1106640"/>
            <a:ext cx="866772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30120" y="6324480"/>
            <a:ext cx="40968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36400" y="6238800"/>
            <a:ext cx="239400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7A8A0-AF8A-442F-8C43-058F01BFD7D6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30120" y="380880"/>
            <a:ext cx="73656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1294920"/>
            <a:ext cx="8420400" cy="129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국어 정보처리 방법론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85720" y="4002120"/>
            <a:ext cx="693396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544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강   승   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국민대학교 컴퓨터학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00F5D-60A7-4DD6-8674-95CFA487F45C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KLP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방법론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기능별 모듈화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07920" y="2057040"/>
            <a:ext cx="842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분석과 생성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사전탐색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한글 코드 문제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분석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 형태소 분석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구문분석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중의성 해결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형태소 분석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 조사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어미 분리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불규칙 현상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체언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용언 인식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보조용언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복합명사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숫자와 영문자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준말 처리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Divide and Conquer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기법을 최대한 활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BC84-B2FF-4072-BEF6-30E8EF54591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KLP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방법론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단순화 기법 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07920" y="1752480"/>
            <a:ext cx="8420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언어 현상의 다양성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대표적 현상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개별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NLP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시스템의 제어구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단순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 복잡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Keep It Simple and Scalable!!!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복잡도 증가를 최대한 억제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: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통제불능 회피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유사 언어현상 그룹화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독립적인 모듈 분리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&lt;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예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&gt;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복합명사 분해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복합조사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/</a:t>
            </a: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어미 분해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615C-5B22-4A5A-A37E-FF2460DF137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KLP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방법론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예외처리 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07920" y="16761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4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통계적 기법과 예외처리 기법 활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4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예외처리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case-by-case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문제 해결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4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오류처리 기능 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언어현상의 경계점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145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1&gt;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어절 또는 문장 길이 제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145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&lt;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2&gt;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확장 가능성을 무시한 규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40E6-C9B6-4B2B-8E9B-88B40AD50FBE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결   론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NLP 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시스템 개발 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Tuning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과의 전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국부적인 성능개선 </a:t>
            </a:r>
            <a:r>
              <a:rPr b="0" lang="ko-KR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 시스템 성능개선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??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분석적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-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체계적인 설계 및 구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다양한 언어현상들을 고려한 설계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2-step 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패러다임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기능별 모듈화 기법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단순화 기법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돋움"/>
                <a:ea typeface="돋움"/>
              </a:rPr>
              <a:t>예외처리 기법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FCEE-7D8B-4F58-91C7-5237DE7F0451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0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차  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71600" y="1600200"/>
            <a:ext cx="784872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한국어 정보처리 소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발전과정 및 시기별 구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기초기술과 응용기술 현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4. NLP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시스템의 속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5. KLP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발전방향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방법론적 문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6. KLP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발전방향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연구체계 문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7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결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420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연언어 처리의 중요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8420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1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미래의 응용 소프트웨어는 사용자들의 습성과 특성을 알아내 쉽게 사용될 수 있도록 개발될 것이다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사람의 말을 알아듣고 명령을 처리하는 시스템 등장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!!!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5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미 국회도서관 장서를 </a:t>
            </a:r>
            <a:r>
              <a:rPr b="0" i="1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1</a:t>
            </a:r>
            <a:r>
              <a:rPr b="0" i="1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장의 디스켓에 저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CF99-4A33-44E0-9FEA-E82599AB52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NLP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시스템의 속성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828800" y="3048120"/>
            <a:ext cx="8585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9480" y="1905120"/>
            <a:ext cx="858528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시제품 제작이 비교적 용이하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실용적인 시스템으로 발전하기가 어렵다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예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기계번역 시스템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06F-0ED6-4EA2-A979-FFC10E51553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시제품과 실용적인 시스템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07920" y="16761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언어 현상의 다양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적용범위가 넓은 언어현상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발견이 쉬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적용범위가 좁은 언어현상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처리 어려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언어현상 간의 충돌 문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돋움"/>
                <a:ea typeface="돋움"/>
              </a:rPr>
              <a:t>충돌문제 해결이 점점 어려워진다</a:t>
            </a:r>
            <a:r>
              <a:rPr b="0" i="1" lang="en-US" sz="2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돋움"/>
                <a:ea typeface="돋움"/>
              </a:rPr>
              <a:t>시스템의 제어구조가 복잡해진다</a:t>
            </a:r>
            <a:r>
              <a:rPr b="0" i="1" lang="en-US" sz="2400" spc="-1" strike="noStrike">
                <a:solidFill>
                  <a:srgbClr val="000000"/>
                </a:solidFill>
                <a:latin typeface="돋움"/>
                <a:ea typeface="돋움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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zh-CN" sz="2400" spc="-1" strike="noStrike">
                <a:solidFill>
                  <a:srgbClr val="000000"/>
                </a:solidFill>
                <a:latin typeface="돋움"/>
                <a:ea typeface="돋움"/>
              </a:rPr>
              <a:t>통제 불능 상태에 빠진다</a:t>
            </a:r>
            <a:r>
              <a:rPr b="0" i="1" lang="en-US" sz="2400" spc="-1" strike="noStrike">
                <a:solidFill>
                  <a:srgbClr val="000000"/>
                </a:solidFill>
                <a:latin typeface="돋움"/>
                <a:ea typeface="돋움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0C38-9D4C-405B-8DDC-83158FBD289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60240" y="2286000"/>
            <a:ext cx="8585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0240" y="380880"/>
            <a:ext cx="842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돋움"/>
              </a:rPr>
              <a:t>한국어 정보처리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: 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돋움"/>
              </a:rPr>
              <a:t>문제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1676520"/>
            <a:ext cx="842004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언어정보 구축 및 활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다양한 언어현상 발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언어현상의 충돌 문제 예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en-US" sz="2400" spc="-1" strike="noStrike">
                <a:solidFill>
                  <a:srgbClr val="000000"/>
                </a:solidFill>
                <a:latin typeface="돋움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돋움"/>
              </a:rPr>
              <a:t>분석적</a:t>
            </a:r>
            <a:r>
              <a:rPr b="0" lang="en-US" sz="2400" spc="-1" strike="noStrike">
                <a:solidFill>
                  <a:srgbClr val="000000"/>
                </a:solidFill>
                <a:latin typeface="돋움"/>
              </a:rPr>
              <a:t>-</a:t>
            </a:r>
            <a:r>
              <a:rPr b="0" lang="zh-CN" sz="2400" spc="-1" strike="noStrike">
                <a:solidFill>
                  <a:srgbClr val="000000"/>
                </a:solidFill>
                <a:latin typeface="돋움"/>
              </a:rPr>
              <a:t>체계적 설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돋움"/>
              </a:rPr>
              <a:t>단어 및 문장 유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돋움"/>
              </a:rPr>
              <a:t>조사</a:t>
            </a:r>
            <a:r>
              <a:rPr b="0" lang="en-US" sz="2400" spc="-1" strike="noStrike">
                <a:solidFill>
                  <a:srgbClr val="000000"/>
                </a:solidFill>
                <a:latin typeface="돋움"/>
              </a:rPr>
              <a:t>/</a:t>
            </a:r>
            <a:r>
              <a:rPr b="0" lang="zh-CN" sz="2400" spc="-1" strike="noStrike">
                <a:solidFill>
                  <a:srgbClr val="000000"/>
                </a:solidFill>
                <a:latin typeface="돋움"/>
              </a:rPr>
              <a:t>어미 종류 및 빈도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돋움"/>
              </a:rPr>
              <a:t>접미사 리스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82DE-E9D7-485A-B34B-44C4BD45E8C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74304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돋움"/>
              </a:rPr>
              <a:t>분석적</a:t>
            </a:r>
            <a:r>
              <a:rPr b="1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-</a:t>
            </a: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돋움"/>
              </a:rPr>
              <a:t>체계적 연구체계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초기성능의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0~9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5~20%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성능개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3~10%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성능개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단계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1~5%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성능개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포화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aturation)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상태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400" spc="-1" strike="noStrike" u="sng">
                <a:solidFill>
                  <a:srgbClr val="000000"/>
                </a:solidFill>
                <a:uFillTx/>
                <a:latin typeface="Times New Roman"/>
              </a:rPr>
              <a:t>통제불능 상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포화상태 차이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다양한 현상 고려한 설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87CD-D6EC-44E9-A4AC-4FF2798FEA68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43040" y="457200"/>
            <a:ext cx="842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Arial"/>
                <a:ea typeface="돋움"/>
              </a:rPr>
              <a:t>기초 기술과 응용 기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초 기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생성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전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말뭉치 등 다양한 응용 분야의 요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사항을 충족시키는 요소 기술로 작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응용 기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계번역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자동 색인 등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NLP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분야의 지속적인 발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초 기술 취약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&amp;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응용 기술에 치중 문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DBA1-F677-4A45-8E0A-4479AC88C2B3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KLP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방법론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: 2-step </a:t>
            </a: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패러다임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07920" y="1752480"/>
            <a:ext cx="84204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시제품 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  실용적인 시스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핵심 기능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 확장 기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적용범위 넓은 현상 </a:t>
            </a:r>
            <a:r>
              <a:rPr b="0" lang="en-US" sz="2800" spc="-1" strike="noStrike">
                <a:solidFill>
                  <a:srgbClr val="000099"/>
                </a:solidFill>
                <a:latin typeface="Wingdings"/>
                <a:ea typeface="Wingdings"/>
              </a:rPr>
              <a:t>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 개별적인 언어 현상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해결방법이 명확한 것과 그렇지 않은 것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돋움"/>
                <a:ea typeface="돋움"/>
              </a:rPr>
              <a:t>정상적인 처리 기능과 예외처리 기능</a:t>
            </a:r>
            <a:r>
              <a:rPr b="0" lang="en-US" sz="2800" spc="-1" strike="noStrike">
                <a:solidFill>
                  <a:srgbClr val="000099"/>
                </a:solidFill>
                <a:latin typeface="돋움"/>
                <a:ea typeface="돋움"/>
              </a:rPr>
              <a:t>	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1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돋움"/>
                <a:ea typeface="돋움"/>
              </a:rPr>
              <a:t> </a:t>
            </a:r>
            <a:r>
              <a:rPr b="0" i="1" lang="zh-CN" sz="2400" spc="-1" strike="noStrike">
                <a:solidFill>
                  <a:srgbClr val="000000"/>
                </a:solidFill>
                <a:latin typeface="돋움"/>
                <a:ea typeface="돋움"/>
              </a:rPr>
              <a:t>단순 기능으로부터 확장기능으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B460-9646-4D29-8FED-2E7B3A978C8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05:54Z</dcterms:created>
  <dc:creator>강승식</dc:creator>
  <dc:description/>
  <dc:language>en-US</dc:language>
  <cp:lastModifiedBy>강승식</cp:lastModifiedBy>
  <cp:lastPrinted>1998-10-09T01:05:12Z</cp:lastPrinted>
  <dcterms:modified xsi:type="dcterms:W3CDTF">2002-08-21T06:51:46Z</dcterms:modified>
  <cp:revision>44</cp:revision>
  <dc:subject/>
  <dc:title>Communicating Bad News</dc:title>
</cp:coreProperties>
</file>