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4BE-F017-4A21-B9DB-090DAE18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E0D-AF5F-44BA-9F41-858D0BCA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9DC9-BFBF-4D3C-B7B8-3FBD8129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DDE-8E0B-46EB-BEDB-B28680E4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14A2-37B6-4B0B-BF0C-122B9A22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205F-7BFD-488A-86D9-F96AB4FF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3D54-A910-46E4-B75A-BF25B1B6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48A0-5C0F-4C02-9AFD-054BE137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0454-F1B7-4740-83DD-F9C939E3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65FC-763D-4237-AA9A-8D1550EE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F453-4AD7-422F-B687-99AB5041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720-DDB3-4212-8EF6-93789AAD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D2DA-CE53-4DED-BEB8-EF53ECA8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BDDA-82C1-4862-9C13-5E9DBE6C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81F6-B7FA-478D-B40A-F0B7873E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F164-8C4E-4565-B2CC-07FBF278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3DA7-08AA-407A-A025-EDB1AB96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4FE-25B0-4DF0-AE28-3AA403C7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878-6FC9-489F-8F3E-C90F42EC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96B-3465-4C14-9250-2B6605D7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24B-C3AC-43CA-BC95-1C753321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A34-2421-43F4-A549-E0C1A5BB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70D1-BFEB-4B86-BE45-D15410F9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25E-382B-4AC8-88BF-932F6262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EB06-53DE-4ADC-A8B9-95AF170AAF93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93A9-174A-40C6-BC58-6ADC8E01AF97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16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불규칙 용언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자동적 교체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,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비자동적 교체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4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비자동적 교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4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ㄷ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ㅂ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ㅅ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ㅎ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르’ 불규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14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자동적 교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4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으’ 탈락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ㄹ’ 탈락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여’ 불규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14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기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4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우’ 불규칙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거라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너라’ 불규칙 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472-559D-49CF-B93E-7340282E98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  <a:ea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1049"/>
              </a:spcBef>
              <a:spcAft>
                <a:spcPts val="275"/>
              </a:spcAft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정의 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1] ‘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어’ 탈락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하다’로 끝나는 용언을 제외한 ‘ㅏ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ㅓ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ㅐ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ㅔ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펴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켜’로 끝나는 용언이 ‘아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’로 시작되는 어미와 결합할 때 어미의 첫 음절 ‘아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’가 탈락되는 자동적 교체 현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ㅏ</a:t>
            </a:r>
            <a:r>
              <a:rPr b="0" lang="en-US" sz="2400" spc="-1" strike="noStrike">
                <a:solidFill>
                  <a:srgbClr val="000000"/>
                </a:solidFill>
                <a:latin typeface="½Å¸íÁ¶"/>
                <a:ea typeface="신명조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ㅓ</a:t>
            </a:r>
            <a:r>
              <a:rPr b="0" lang="en-US" sz="2400" spc="-1" strike="noStrike">
                <a:solidFill>
                  <a:srgbClr val="000000"/>
                </a:solidFill>
                <a:latin typeface="½Å¸íÁ¶"/>
                <a:ea typeface="신명조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펴</a:t>
            </a:r>
            <a:r>
              <a:rPr b="0" lang="en-US" sz="2400" spc="-1" strike="noStrike">
                <a:solidFill>
                  <a:srgbClr val="000000"/>
                </a:solidFill>
                <a:latin typeface="½Å¸íÁ¶"/>
                <a:ea typeface="신명조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켜’로 끝나는 용언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신명조"/>
                <a:ea typeface="신명조"/>
              </a:rPr>
              <a:t>항상 ‘아</a:t>
            </a:r>
            <a:r>
              <a:rPr b="0" lang="en-US" sz="2200" spc="-1" strike="noStrike">
                <a:solidFill>
                  <a:srgbClr val="000000"/>
                </a:solidFill>
                <a:latin typeface="½Å¸íÁ¶"/>
                <a:ea typeface="신명조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신명조"/>
                <a:ea typeface="신명조"/>
              </a:rPr>
              <a:t>어’ 탈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ㅐ</a:t>
            </a:r>
            <a:r>
              <a:rPr b="0" lang="en-US" sz="2400" spc="-1" strike="noStrike">
                <a:solidFill>
                  <a:srgbClr val="000000"/>
                </a:solidFill>
                <a:latin typeface="½Å¸íÁ¶"/>
                <a:ea typeface="신명조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신명조"/>
                <a:ea typeface="신명조"/>
              </a:rPr>
              <a:t>ㅔ’로 끝나는 용언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신명조"/>
                <a:ea typeface="신명조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신명조"/>
                <a:ea typeface="신명조"/>
              </a:rPr>
              <a:t>아</a:t>
            </a:r>
            <a:r>
              <a:rPr b="0" lang="en-US" sz="2200" spc="-1" strike="noStrike">
                <a:solidFill>
                  <a:srgbClr val="000000"/>
                </a:solidFill>
                <a:latin typeface="½Å¸íÁ¶"/>
                <a:ea typeface="신명조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신명조"/>
                <a:ea typeface="신명조"/>
              </a:rPr>
              <a:t>어’가 탈락된 것과 그렇지 않은 것 모두 허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064-4256-41D4-AE94-BE67856A64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901"/>
              </a:spcBef>
              <a:spcAft>
                <a:spcPts val="275"/>
              </a:spcAft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정의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2]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와’ 변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푸다’로 끝나는 용언을 제외한 ‘ㅗ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ㅜ’로 끝나는 용언이 ‘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로 시작되는 어미와 결합할 때 ‘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ㅝ’로 축약되는 자동적 교체 현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오다’의 경우에는 ‘아’로 시작되는 어미와 결합할 때 항상 ‘아’가 탈락되지만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그 외의 용언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보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보았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또는 ‘봤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와 같이 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가 탈락되는 것과 그렇지 않은 것 모두 허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B73-F9AF-4721-81EB-8549830848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1049"/>
              </a:spcBef>
              <a:spcAft>
                <a:spcPts val="275"/>
              </a:spcAft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[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정의 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3] ‘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이’ 변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ㅣ’로 끝나는 용언이 ‘어’로 시작되는 어미와 결합할 때 ‘ㅣ’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’가 ‘ㅕ’로 축약되는 자동적 교체 현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이기다’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이기었다’보다 ‘이겼다’가 더 자연스러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피다’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“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꽃이 펴 있다”보다 “꽃이 피어 있다”가 더 자연스러움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A05-FE76-4FE8-B5A0-F00DD2FAAF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자동적 교체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,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비자동적 교체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3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변형의 유형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-1(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비자동적 교체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0" algn="just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ㄷ’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ㅂ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ㅅ’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ㅎ’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러’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르’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거라’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너라’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왜’ 변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3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변형의 유형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-2(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자동적 교체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ㄹ’ 탈락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으’ 탈락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여’ 변형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어’ 탈락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와’ 변형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이’ 변형</a:t>
            </a: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푸’ 변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95C-B727-404B-8D9D-5B00EC8FBE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불규칙 유형 분류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발생 조건에 따라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7000"/>
          </a:bodyPr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’로 시작되는 어미 앞에서 일어나는 불규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43320" indent="-2106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푸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우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러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르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하여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변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-2106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 탈락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워’ 축약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왜’ 축약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여’ 축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’나 매개모음 ‘으’로 시작되는 어미 앞에서 일어나는 불규칙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ㄷ’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ㅅ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’로 시작되는 어미나 매개모음 ‘으’를 요구하는 어미 앞에서 일어나는 불규칙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ㅂ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’나 ‘ㄴ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ㄹ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ㅁ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ㅂ’으로 시작되는 어미 앞에서 일어나는 불규칙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ㅎ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ㄴ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ㅂ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ㅅ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오’로 시작되는 어미 앞에서 일어나는 불규칙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ㄹ’ 탈락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명령형 어미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라’ 앞에서 일어나는 불규칙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거라’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너라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5B1-0BA5-49BD-A091-3CFC613AAF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불규칙 유형 분류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미 유형에 따라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marL="328320" indent="-3283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’로 시작되는 어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6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ㄷ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ㅅ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ㅂ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ㅎ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르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러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하여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푸’ 변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으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 탈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여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워’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왜’ 축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명령형 어미 ‘어라’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거라’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너라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-3283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매개모음 ‘으’로 시작되는 어미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ㄷ’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ㅅ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-3283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매개모음 ‘으’를 요구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ㄴ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ㄹ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오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시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ㅁ’로 시작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하는 어미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ㅂ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-3283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ㄴ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ㄹ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ㅁ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ㅂ’으로 시작되는 어미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ㅎ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28320" indent="-3283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ㄴ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ㅂ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ㅅ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오’로 시작되는 어미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ㄹ’ 탈락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6DC-E7BA-4401-BD2A-B74580B56F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불규칙 유형 분류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어간</a:t>
            </a: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/</a:t>
            </a: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어미 변형에 따라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어간 불규칙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ㄷ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ㅅ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ㄹ’ 탈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ㅂ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으’를 요구하는 어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ㅎ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ㅂ’ 시작 어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어미 불규칙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러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하여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거라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너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어’ 탈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어간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어미 불규칙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르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으’ 탈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푸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여’ 축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워’ 축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왜’ 축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ㅂ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어’ 시작 어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, 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ㅎ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굴림"/>
              </a:rPr>
              <a:t>어’ 시작 어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594-C8D6-429D-A3B2-4975DEB319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3T13:46:05Z</dcterms:modified>
  <cp:revision>27</cp:revision>
  <dc:subject/>
  <dc:title>한국어 정보처리 개요</dc:title>
</cp:coreProperties>
</file>