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0DB5-2750-4597-84B2-C3F66F36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B73-AFE0-4A10-808A-05CC5082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222D-EA9A-44B2-BB4A-1662C17B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303-A1DF-42CB-821B-72707144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72D8-DDE1-4C3A-9F10-61464BBF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82FC-2458-46FB-B17F-0BA44407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8BB5-75B2-480C-8A9A-DD6D9CD6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CBDE-ABA9-4117-96A6-C8EE4540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6D17-67E2-4E9B-BCB9-A7670544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203A-00E9-4359-AE71-77959AB6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1C64-9ADF-440C-A4F4-374D0128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D19-DAA1-4A28-88EC-CEA9133E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661D-5E72-4209-A1EC-D925FAA3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7137-264E-4A11-B4FC-F257530A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94F1-DB7F-4DBE-B508-6D563169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72E4-C5A7-4C24-92E9-25DC0C0C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B080-361C-4FB8-BEA9-6793BE1D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432A-BDBC-4D4A-9889-A905354C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B71-8FD0-4AF7-81B2-CC7AAE6C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C54-3247-451A-8230-ACD81A81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47A-E7B7-4481-B18C-A2B2A5ED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4B5-5B4F-497A-8D42-3DE54CE7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997-2E26-46CB-86E8-44D6A691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D6C-4D31-4A34-BA52-002BF094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6F6C-5881-49D3-8791-AB82DCFD4E94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6FA7-E489-4DB3-9FCD-75315216B2E6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18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품사 표지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품사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9 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품사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명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대명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수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동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형용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부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관형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감탄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조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123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논점</a:t>
            </a:r>
            <a:r>
              <a:rPr b="0" lang="en-US" sz="33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endParaRPr b="0" lang="en-US" sz="3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어말어미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선어말어미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접두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접미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의존명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보조용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자동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타동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F41-74F1-405C-AAFC-018F45EA5F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어휘 형태소의 품사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: 3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분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어휘 형태소의 품사 분류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--- 3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분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NPXM  ‘N’ 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체언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: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명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대명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수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의존명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VJXV  ‘V’ 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용언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: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동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형용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보조용언  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AID   ‘Z’ 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기타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: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부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관형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감탄사    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EAD-8343-417A-92CD-56F555A670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어휘 형태소의 품사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: 5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분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어휘 형태소의 품사 분류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--- 5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분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NPXM  ‘N’  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체언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: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명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대명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수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의존명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VJXV  ‘V’  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용언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: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동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형용사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보조용언  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ADV   ‘B’  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부  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DET   ‘D’  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관형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EXCL  ‘L’   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감탄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F97E-27F8-4A84-A2A8-FCC9A9E129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어휘 형태소의 품사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: 10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분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어휘 형태소의 품사 분류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--- 10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분법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NOUN  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'N'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명  사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PNOUN 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'P'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대명사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XNOUN   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'U'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의존명사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NUMERA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'M'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수  사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VERB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'V'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동  사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ADJ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'J'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형용사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XVERB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'W'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보조용언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ADV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'B'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부  사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DET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'D'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관형사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EXCL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'L'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감탄사 </a:t>
            </a:r>
            <a:r>
              <a:rPr b="0" lang="ko-KR" sz="20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AB5-9514-424D-9ECD-80AED1B917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문법 형태소의 품사 분류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 분석을 위한 문법 형태소의 품사 분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JOSA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j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조  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COPULA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c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서술격 조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EOMI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e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어말어미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PEOMI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f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선어말어미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NEOMI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n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명사형 어미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PREFIX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p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접두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SFX_N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s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체언 접미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들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적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등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AM_POS_SFX_V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t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용언화 접미사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하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되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시키‘ 등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655-4623-4C98-87A3-5C32733784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</a:rPr>
              <a:t>10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분법에 의한 품사 표지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-1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6880" y="1447560"/>
            <a:ext cx="396108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zh-CN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체언의 세부 표지 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NOUN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N'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PNOUN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P'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XNOUN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U'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NUMER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M'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zh-CN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용언의 세부 표지 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VERB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V'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XVERB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W'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ADJ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J'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XADJ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'K'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295280"/>
            <a:ext cx="3657600" cy="5081760"/>
          </a:xfrm>
          <a:prstGeom prst="rect">
            <a:avLst/>
          </a:prstGeom>
          <a:noFill/>
          <a:ln w="0">
            <a:solidFill>
              <a:srgbClr val="306994"/>
            </a:solidFill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zh-CN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부사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zh-CN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관형사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zh-CN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감탄사 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ADV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B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DET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D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EXCL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L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/* </a:t>
            </a:r>
            <a:r>
              <a:rPr b="0" lang="zh-CN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어미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접사 등 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JOSA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j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CORP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c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EOMI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e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POMI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f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NSFX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s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VSFX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t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PUNC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q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HTAG_SYMB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'Q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90A-8123-4F8E-BCB2-A5E544C090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</a:rPr>
              <a:t>10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분법에 의한 품사 표지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-2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6880" y="1447560"/>
            <a:ext cx="396108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NOUN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"NN"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PNOUN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"NP"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XNOUN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"NX"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NUMER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"NU"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VERB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"VV"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ADJ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"VJ"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f35b1b"/>
                </a:solidFill>
                <a:latin typeface="굴림체"/>
                <a:ea typeface="굴림체"/>
              </a:rPr>
              <a:t>#define KTAG_XVERB</a:t>
            </a:r>
            <a:r>
              <a:rPr b="0" lang="en-US" sz="1800" spc="-1" strike="noStrike">
                <a:solidFill>
                  <a:srgbClr val="f35b1b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f35b1b"/>
                </a:solidFill>
                <a:latin typeface="굴림체"/>
                <a:ea typeface="굴림체"/>
              </a:rPr>
              <a:t>"VX"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1447920"/>
            <a:ext cx="3657600" cy="4218840"/>
          </a:xfrm>
          <a:prstGeom prst="rect">
            <a:avLst/>
          </a:prstGeom>
          <a:noFill/>
          <a:ln w="0">
            <a:solidFill>
              <a:srgbClr val="306994"/>
            </a:solidFill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ADV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"AD"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DET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"DT"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EXCL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"IJ"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JOSA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"JO"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CORP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"CP"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EOMI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"EM"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POMI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"EP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5b1b"/>
                </a:solidFill>
                <a:latin typeface="굴림체"/>
                <a:ea typeface="굴림체"/>
              </a:rPr>
              <a:t>#define KTAG_SFX</a:t>
            </a:r>
            <a:r>
              <a:rPr b="0" lang="en-US" sz="1600" spc="-1" strike="noStrike">
                <a:solidFill>
                  <a:srgbClr val="f35b1b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f35b1b"/>
                </a:solidFill>
                <a:latin typeface="굴림체"/>
                <a:ea typeface="굴림체"/>
              </a:rPr>
              <a:t>"SF"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PUNC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"SM"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#define KTAG_SYMB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굴림체"/>
                <a:ea typeface="굴림체"/>
              </a:rPr>
              <a:t>"SY"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B36-6A11-48BF-A29E-C643532045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국어 품사 표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</a:rPr>
              <a:t>ETRI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품사 표지 표준안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세종계획 품사 표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8FF-7506-4290-A85F-E8D939F40F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3T14:09:27Z</dcterms:modified>
  <cp:revision>27</cp:revision>
  <dc:subject/>
  <dc:title>한국어 정보처리 개요</dc:title>
</cp:coreProperties>
</file>