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676-4E5D-4148-B070-682A3AB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391-5CEF-46F1-8D03-278E4D1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569-71AE-4AA6-9BC2-F0C2CDA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A64-4166-45A0-B2A8-43E63483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E8D0-CD5E-4DC2-9443-1DCBF022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388-26EC-4210-819B-1B65A5C7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8C26-6249-4480-88E6-13FB9E9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4C51-4D5C-4E91-A12C-DE0A141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3B66-DB8D-4D32-8D6B-FD9346DE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211-A1C6-47E9-9BED-1EBC2E0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015F-4FC7-4849-A760-A08C271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F15-1C9B-4C1B-9DB7-7F60CFF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973C-4B35-45F7-8523-DFA7A96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BCF5-AA0A-45EB-BA2A-AB8704C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77F5-1FC4-4DBE-87E5-E404625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839-91AE-48B1-B13D-9F7D949C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8BC1-A568-46D9-AF8C-AAE8E36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EAA-B0F0-49F7-9EC6-D18BAAC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37F-E68F-4A0C-94D7-A51CC67D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A0D-00D2-4B91-8AC0-A0904DD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C7A-BD6A-4B7C-A38C-AE59057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D34-5A47-42AC-AFBD-42927E1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CF4-F44A-438A-B8DD-ECF3A09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A03-74E0-482D-A59F-A9ACD66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050-598C-48D2-A4C8-3541AC45EC3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81E9-93EB-4123-B89A-DFF918658F03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5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를 위한 선어말어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포가 넓은 분리적 선어말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, 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만을 선어말어미로 간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구조체에서 단순한 대체나 생략에 의한 방법으로 분석이 가능한 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포가 좁은 수의적 선어말어미와 교착적 선어말어미는 어말어미의 일부로 포함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의 배열 순서는 고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간에 결합할 때 그 선후를 바꿀 수 없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서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읍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올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옵시고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야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읍시다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야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등 선어말어미가 어말어미와 결합된 형태를 어말어미로 간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621-6C19-4C94-9A1F-40B21E9C1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 결합형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(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변이체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)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시었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셨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었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었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282-34C6-4F9B-BE19-BF404E119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결합 관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였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으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+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&gt;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-------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셨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--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ㅏ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ㅓ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ㅐ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          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ㅕㅆ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--+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F55-B619-4861-B9BE-EB10B5EE8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간 말음의 종성 유무에 따라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유종성 어간과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매개모음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무종성 어간과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 유형과 무관하게 결합되는 것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음조화 규칙을 따르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다’로 끝나는 어간에만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7BD-7402-4E5A-B17E-B3F1879CE8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ㅏ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’ 혹은 ‘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ㅔ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갔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서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섰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맸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둘러메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둘러멨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예외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: ‘-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다’로 끝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었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명조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하였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또는 ‘했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주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&gt; 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있다’로 끝나는 것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멋있다’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과 ‘쌔고샜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C5F-254E-4134-A5D5-60CE392BA7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ㅗ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ㅡ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ㅏ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,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따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흘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르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6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의 말음이 ‘ㅣ’로 끝나는 어간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결합제약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7]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로 끝나는 용언 또는 ‘ㅎ’ 불규칙 용언과 결합하는 선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2A8-BD66-4B59-9030-CE872517C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선어말어미의 비결정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(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중의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)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’로 끝나는 용언 중에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도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부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쑤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시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 용언관 관련하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모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죽겠다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죽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쌨다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A73-2DF8-4386-8E3D-2F3A486E0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3:14:03Z</dcterms:modified>
  <cp:revision>29</cp:revision>
  <dc:subject/>
  <dc:title>한국어 정보처리 개요</dc:title>
</cp:coreProperties>
</file>