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5DD-33B6-4A09-8401-C922FA4C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94D-854F-47E8-9087-193D571B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650-0137-4B02-A1F6-4D7AA916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DAC-275A-4AC1-9BD6-81886643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E632-48BD-4A86-ACFC-5AD832F1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2466-E9D4-45BA-90C8-2A1D5E46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8A85-B6FD-4E86-AD3E-0FB9D41A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1695-F553-47B9-882C-6176C1ED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4464-86EE-46D7-BB90-3FFDE444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260F-087E-470E-82A5-8F2B4886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2311-9A86-47B2-AB93-9BA92049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ECC-B408-465A-B887-6AD6F91C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78CF-CD37-4C2F-BFCA-E4F30207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CA55-77FE-4EDC-9C87-3D2329F6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8272-FE9F-4694-8B87-EEB3F56E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B24B-BFBC-41D6-8AED-A0C5B413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86D1-60EE-4E11-98C3-C070BD7F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C1C-07D1-4E31-9EE6-DAC83BE6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B6E-B123-4307-B543-149579AB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D2C-4423-4314-B9B2-7EC72830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988-6BBC-4A8B-8C10-9EB51743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91D-3D54-482F-87E2-FF7D2C48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0FC-2C89-47AF-BB3A-86E97DF2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280-3DD5-424D-8B81-091F93A0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8583-2B39-461A-98A1-8E759504FB9D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B9CE-855C-42EE-8DE6-EF7F65E76D11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9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기의 구현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석 알고리즘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문장 수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3000"/>
          </a:bodyPr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void morph_anal(sent, sout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char *sent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입력 문장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MORES *sout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sent-level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석 결과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char *aWord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input word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int i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out-&gt;nword = sent2words(sent, sout, mode);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절 분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for (i = 0; i &lt; sout-&gt;nword; i++)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aWord = sout-&gt;word[i].phon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석 대상 어절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analyze 'aWord' &amp; result is saved in 'sout-&gt;word[i]'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sout-&gt;word[i].retcode = KMA(aWord, (sout-&gt;word)+i, mode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convert Josa/Eomi to base or original form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D10-10F0-44A7-B6B7-62877013DA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석 알고리즘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절 수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int KMA(word, wout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char *word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입력 어절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WORD *wout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word-level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석 결과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int n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석 결과 개수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initialize(wout);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초기화 및 기분석 사전 탐색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n = tail_guess(word, wout);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 후보 생성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n = head_confirm(wout, n);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근부 인식 및 사전 탐색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if (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석 실패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복합명사 인식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축약어 처리 등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n = postproc(word, wout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return n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255-508C-49C0-9845-46B3FB0292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결과의 생성 기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10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원형 복원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서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어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왔다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었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학교로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학교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막았다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막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었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원형 보존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서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왔다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0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학교로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학교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막았다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막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자연스러운 출력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i="1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i="1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i="1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i="1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’만 원형으로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서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어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왔다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었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학교로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학교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막았다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막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었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625-6664-48B9-AE98-42D6994DF2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결과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자료 구조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문장 구조체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 문장 수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절 구조체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 어절 수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각 형태소 분석 결과에 대한 구조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B7E-5A79-42A3-B133-00D4ED4E76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석 결과 구조체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문장 수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7000"/>
          </a:bodyPr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                                  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Sentence-level output structure of HAM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                                  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typedef struct senten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hon[SENTSIZE];     /* raw string of sentence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SHORT type;               /* type of the sentence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SHORT nword;              /* num. of words in sent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struct ham_word word[MAXWORDS]; /* array of each word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} HAM_MORES, *HAM_PMORES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58B-CF7C-4145-A29E-CB13DBF5E7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석 결과 구조체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절 수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7000"/>
          </a:bodyPr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                                  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Word-level output structure of HAM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                                  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typedef struct ham_wor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hon[WORDSIZE];   /* string of input word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SHORT retcode;          /* HAM return code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SHORT nresult;          /* number of HAM results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struct ham_result result[MAXRESULT];  /* HAM results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gr[MAXRESULT+1];  /* grade index of 'result'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gr[0] : recommended number of HAM candidates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gr[1], gr[2], ...: index of 1st, 2nd, ... grade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8720"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} HAM_WORD, *HAM_PWORD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051-954B-486F-80D9-4A3A5FB86D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각 형태소 분석 결과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typedef struct ham_result {     /*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석 결과  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SHORT score;            /* score of this result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atn;             /*     word pattern   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type;             /* type of input word 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stem[STEMSIZE];   /* stem of input word 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os;              /* 3 simplified stem type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os2;             /* pos attr. for 'pos'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dinf;             /* POS info. in Han-dic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nsfx;             /* index of noun suffix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vsfx;             /* index of verb suffix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josa[JOSASIZE];   /*     Josa string    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PUCHAR jlist;           /*  unit-Josa sequence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eomi[EOMISIZE];   /*     Eomi string    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PUCHAR elist;           /*  unit-Eomi sequence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omi;             /* encoded prefinal Eomi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xverb[XVERBSIZ];  /*     xverb string   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/* morphological attributes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vtype;            /* irregular verb type    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struct jomi_variant jomi;   /* Josa/Eomi variant info. 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 algn="just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굴림체"/>
                <a:ea typeface="굴림체"/>
              </a:rPr>
              <a:t>} HAM_RESULT, *HAM_PRESULT;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E4E-EC8E-4096-9A7B-FAD261E615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조사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/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어미 변이체 정보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0000"/>
          </a:bodyPr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                                  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Josa/Eomi/Pomi variant information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                                                  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typedef struct jomi_variant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eomi;             /* Eomi 'A/O' variant type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pomi;             /* Pomi 'A/O' variant type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xomitype;         /* Eomi before aux. verb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0: 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, 1: 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고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, 2: 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게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, 11: 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지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xomi;             /* Eomi 'A/O' variant type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josa;             /* Josa variants type 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HAM_UCHAR josaAgBg;         /* 'Ag/Bg/hbDtg' info.    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0: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에게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, 1: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게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, 2: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께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, 3: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한테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 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844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} HAM_JOMIVAR, *HAM_PJOMIVAR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E05-0139-4A88-B0F3-93E6D4FCEE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결과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조사 변이체 유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WiAb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은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는’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가’ 구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Wz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로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으로’ 구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Wi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고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고’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라고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라고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Wg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 ‘에서’의 ‘에’ 탈락 정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nameWi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인명 뒤에 조음소 ‘이’ 추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preWi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다’ 앞에 오는 조사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서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부터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서부터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대로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preWi2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’ 앞에 조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&amp;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’ 탈락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학교서다’ </a:t>
            </a:r>
            <a:r>
              <a:rPr b="0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‘학교’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‘(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서’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‘(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이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’+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Ag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게’의 변이체 ‘게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Bg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게’의 변이체 ‘께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25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JOSA_VAR_hbDtg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에게’의 변이체 ‘한테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3E7-F09A-42F5-A9AF-5E7F20ED39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결과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어미 변이체 유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b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아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f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j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여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여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거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러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라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b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아’ 탈락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f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’ 탈락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b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ㅏ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f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ㅓ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j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ㅕ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c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ㅐ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해서’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까매서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하얘서’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lc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ㅙ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되다’에만 적용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If, Ib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러’ 불규칙인 경우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z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ㄴ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ㄹ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ㅁ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ㅂ’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ㄹ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ㅁ’시작어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Uz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습니다’에서 ‘스’ 탈락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xv_Wf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 앞 어미가 ‘아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xv_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 앞 어미가 ‘고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xv_Ag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 앞 어미가 ‘게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EOMI_VAR_Wi_t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무종성 용언 뒤 ‘이다’ 생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03C-449A-4B00-A0D4-E778A1B473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결과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선어말어미 변이체 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Wb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았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Wf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었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Wj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ㅆ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b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ㅏㅆ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f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ㅓㅆ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j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ㅕㅆ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c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ㅐㅆ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&gt;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했다에만 적용됨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lc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ㅙㅆ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&gt;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됐다에만 적용됨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If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렀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&gt;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러’ 불규칙인 경우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WzUi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으시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&amp;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었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POMI_VAR_WzUjV--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으시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&amp;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ㅕㅆ’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&gt; 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으셨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1AF-414B-4D93-89BB-4AC391CEC4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4:27:40Z</dcterms:modified>
  <cp:revision>25</cp:revision>
  <dc:subject/>
  <dc:title>한국어 정보처리 개요</dc:title>
</cp:coreProperties>
</file>