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774-E911-4320-8FA8-75F878C3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D71-9435-4B86-8B66-C2CFA01A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5DF-7BCE-45D2-B936-E87354C3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0C4-660C-4CAC-8D94-F7D08A5B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65FC-EF9D-48B2-8572-A33DB322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4181-3002-461F-B238-BE922A75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6C17-FA3E-44E6-831E-26B246EA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1D2D-F21B-4AA3-AC2D-C859A725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CC32-75DE-48ED-ADF7-509255B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7ECA-C059-4156-9984-5C988778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C7F1-1767-4607-9F43-836CBB5C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8DA-0509-4A84-BC6D-0C7DC67D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31B5-48F9-4D03-87AC-A7D464F9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9864-BAD6-4F90-8FF8-85D08D24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27BC-683E-4827-9734-67CDD281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FDD8-62E2-4301-8C78-5EE790DD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3D17-0491-454E-AC82-6459112E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06B-FA78-4FF2-9730-CF28A9E5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38A-2B68-41C8-BC77-4CB09C92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FA9-ACDF-43EA-8CBD-D5CC828C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899-62DB-437B-856A-336C12D1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D99-4C05-4DEF-BF1F-8093998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304-8EDF-4226-880B-948E672C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60E-ABFC-4B6B-8934-D30DBE2E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F817-47C3-498D-8F47-7ECC33F94641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44ED-69BA-4B5C-BFC1-0715CBCB0C8C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3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과 후보 생성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⑤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일형태소 분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되지 않거나 단일형태소 가능 어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벨기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충무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부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관형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감탄사 확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명사 확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명사 접미사 ‘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화’ 등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⑥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복합어 추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체언 추정 형태소가 사전에 수록되지 않은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4~7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의 복합명사 패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⑦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준말처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키로’ 등 적용 범위가 넓은 것과 좁은 것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⑧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미등록어 추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 결과 및 어절 형성 규칙에 따라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⑨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후처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응용 분야에 적합한 출력 결과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의 변이체 ‘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’ 출력 형태 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33A-5BFC-4516-9095-0807F01FEE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후보 생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 분리에 의한 후보 생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론적 변형에 의한 후보 생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일 명사 혹은 독립언 분석 후보 생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①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는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단일 명사 또는 독립언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②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는’ 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체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③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는’ 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용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④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갈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는’  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ㄹ’ 탈락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⑤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느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’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용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⑥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늘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’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ㄹ’ 탈락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⑦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늫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’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ㅎ’ 변형 후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482-4DF8-428A-8012-D295683323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단일어 후보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일어 후보 제약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1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이상의 문법 형태소가 분리된 어절은 단일어로 분석될 가능성이 매우 낮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일어 후보 제약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2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에’로 끝나는 어절은 단일어 혹은 독립언으로 분석될 가능성이 거의 없으며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은’으로 끝나는 어절은 단일어 혹은 독립언으로 분석될 가능성이 매우 낮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고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노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마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빌어먹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젠장맞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누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멍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성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벨기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오보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마로니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샹들리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틀리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의’로 끝나는 어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4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이상은 ‘주의’로 끝나는 것만 단일어 후보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E38-ECFF-4495-A85A-2E694CECC3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문법 형태소 분리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 형태소 분리 제약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1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이상의 조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가 분리된 어절은 어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가 분리될 가능성이 없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라면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 형태소 분리 제약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2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최장 문법 형태소가 분리된 분석 후보와 최장 문법 형태소보다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1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짧은 문법 형태소에 대한 후보만 생성한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①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학교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에서만은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②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학교에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서만은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③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학교에서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만은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후보생성 안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④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학교에서만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은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후보생성 안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6AC-154D-4516-8407-DCBB3727EC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</a:rPr>
              <a:t>‘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아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’의 변이체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탈락되는 경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‘러’로 바뀌는 경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‘여’로 바뀌는 경우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여’ 불규칙에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명령형 어미 ‘어라’가 ‘거라’ 혹은 ‘너라’로 바뀌는 경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어간의 말음 ‘ㅗ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ㅚ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ㅣ’와 결합하여 ‘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ㅝ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ㅕ’로 축약되는 경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A19-8772-4F96-B45F-B851331461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미 분리 조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1]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규칙 용언과 규칙 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규칙 용언과 어간만 변하는 불규칙 용언의 어미부가 문법 형태소 사전에 어미로 등록되어 있으면 이를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2]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으로 시작되는 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부가 받침 ‘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ㅂ’으로 끝나고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ㅂ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 문법 형태소 사전에 어미로 등록되어 있으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ㅂ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를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3]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하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거라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너라’ 불규칙 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부의 마지막 음절과 어미부의 첫 부분이 각각 ‘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거라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너라’이면 어미부를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AB2-4241-4753-ADBC-28310DD78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4]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가 탈락되는 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부 끝 음절이 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가 아니고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 문법 형태소 사전에 어미로 등록되어 있으면 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가 생략된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5]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로 시작되는 어미의 변이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부 끝 음절의 중성이 ‘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ㅝ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ㅔ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ㅒ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ㅙ’이고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 문법 형태소 사전에 어미로 등록되어 있으면 ‘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의 변이체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조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6]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푸’ 불규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간부가 ‘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이고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 문법 형태소 사전에 어미로 등록되어 있으면 ‘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생략된 어미로 추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554-F6A4-40FB-A6D8-8190143B71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말어미 결합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동사에만 결합되는 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현재형 어미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는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현재형 어미 ‘는’은 예외적으로 형용사 ‘있다’ 또는 ‘없다’와 결합 가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청유형 어미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자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자고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자는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ㅂ시다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명령형 어미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세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세요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형용사에만 결합되는 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고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느니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는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마는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만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면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단다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답시고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디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212-215D-4152-80E2-A13439FDD2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서술격 조사 ‘이’와 결합되는 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동사 혹은 형용사에만 결합되는 어미를 제외한 모든 어말 어미와 결합 가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서술격 조사에만 결합되는 어말어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도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야만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구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구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구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군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군요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로’로 시작되는 어말어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7BB-7F26-42B9-83E4-8521962C59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전처리 기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시스템이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숫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1990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년도에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system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을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instal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하다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법교정기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KoCS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system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을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instal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했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법교정기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KoCS)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한글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숫자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부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부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시스템이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[Kang90]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DF0-CF41-4833-9EDA-59C62965D0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언어별 형태소 분석 특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언어별 형태소 분석 모델의 주요 관점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영어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론적 변형 문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한국어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소 분리 문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일본어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중국어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단어 분리 문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2A5-E723-48F7-B10F-CAD3F6D8E7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오류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맞틀 오류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옳은 어절을 분석하지 못하는 오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엉뚱 오류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옳은 어절을 엉뚱하게 잘못 분석하는 오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틀맞 오류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틀린 어절을 옳게 분석하는 오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472-45B6-4FD7-B0C5-D99BA41CD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기의 세부 기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1)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리 기능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와 어말어미의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붙여쓰기가 허용되는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1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음절 체언과 보조 용언의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두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의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장부호의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2)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원형 복원 기능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불규칙 원형 복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 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의 변이체 복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생략된 서술격 조사 복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8A5-D1A7-4FB8-AB9F-98BCE557D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3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간의 결합 관계 검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체언과 조사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용언과 어미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인명과 조사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매개모음이 삽입되는 조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모음조화를 따르는 어미의 결합 관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4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기타 필요한 기능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 부호와 숫자의 처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복합어와 미등록어의 인식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복합명사 분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준말 처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사전 탐색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0F0-67EB-455B-B3AE-9D0393ECB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리 기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와 어미를 분석하기 위한 기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1.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는 통합형으로 분석한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2.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 어미는 통합형으로 분석한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3.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말 어미와 조사의 결합을 통합형으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사를 분리하기 위한 기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4.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두사는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두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근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을 사전에 수록한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두사와 어근을 분리하기 위한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routine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제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5.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는 각 유형에 따라 처리한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D66-7428-4D36-856A-2D702D946B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리 기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붙여쓰기 허용되는 낱말들의 분리 기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6.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붙여쓰기 허용되는 단음절어의 결합형을 사전에 수록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7.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 용언은 유형에 따라 처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불규칙 용언의 처리 기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8.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불규칙 용언은 어간과 불규칙 정보를 사전에 수록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  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변이체를 분리하기 위한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routine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제공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E8C-B45F-4FDC-89DC-24B86A87DE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다단계 모델에 의한 형태소 분석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①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전처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입력 문자열에서 어절 추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장 부호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숫자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영문자와 같이 형태소 분석 대상이 되지 않는 문자들의 분리 혹은 제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장부호는 별개의 어절로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불필요한 문자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제어문자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특수문자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Tag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등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제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한글 코드를 내부 코드로 변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합형 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or 3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바이트 코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②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절을 구성하는 각 형태소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절 형성 규칙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word-formation rule)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에 따라 조사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가 분리된 경우는 선어말어미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태소와 문법형태소간의 결합관계를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불규칙 활용 가능성 검사 및 원형 복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30A-583F-470E-AB1E-79CB80A1C1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③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 분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 분리된 분석 후보에 대하여 체언 분석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 형태소 사전에서 체언 확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접미사 분리 후 사전 탐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명사형 전성어미 발견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용언 분석 단계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④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용언 분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된 분석 후보에 대하여 용언 분석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태소 사전에서 용언 확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용언화 접미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스럽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시키’ 등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서술격 조사 ‘이’ 발견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생략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체언 분석 단계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보조 용언 확인 및 본 용언 분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DEF-0996-4310-AF9C-7BDF987FFB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2:05:21Z</dcterms:modified>
  <cp:revision>35</cp:revision>
  <dc:subject/>
  <dc:title>한국어 정보처리 개요</dc:title>
</cp:coreProperties>
</file>