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5483-2839-4A0B-A174-A0EEDF06A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724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7070-DE1B-49F9-A57A-647A6D2B7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992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5086-0E4E-4634-B042-8DABA1154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52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288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72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52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288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FE2A-7289-49CD-9A9C-F965E15B9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EC980-B90D-452D-B2CD-AF21B2B3E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5440" indent="0" algn="ctr"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D8F73-0FA8-40F1-AF34-8336C81B9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76070-B7E3-4856-B99A-65684095E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B6EA9-7B7C-49AC-A1BB-A14BDE30E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4409F-E0F1-4500-9A0F-AD56C4916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91600"/>
            <a:ext cx="784872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5440" algn="ctr">
              <a:spcBef>
                <a:spcPts val="1049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F402C-4FB7-472A-8EC2-0FEF97784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4869E-EFD7-4934-A59F-56AAACC81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5440" indent="0" algn="ctr"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1566-245C-4F03-A239-7ABEBBF0A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992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7D578-D7E9-41FC-BEA4-D9236BA72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7F511-BCEF-46ED-B433-FD113DC9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724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4CCD3-7432-4661-A1AA-80436B87F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992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6CD25-7CCC-478B-AF00-945746029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52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288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72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52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288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1C0C9-293D-4DA0-B766-F22F39244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3E42-A1E8-4D00-B9B7-4053CB037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806E-C258-4611-9A49-F199EF9FA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92A1-DAAD-4A7A-95EC-9B9584997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291600"/>
            <a:ext cx="784872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5440" algn="ctr">
              <a:spcBef>
                <a:spcPts val="1049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6D63-5011-4D12-89DA-3796EC5A8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C24C-A58E-45C1-AED0-7689EADA2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992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B856-9EAF-4F6D-97BD-CC33C6A1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E3E5-385B-4B38-B37C-D58A2C5F5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05050"/>
                </a:solidFill>
                <a:latin typeface="Arial"/>
              </a:rPr>
              <a:t>&lt;date/time&gt;</a:t>
            </a:r>
            <a:r>
              <a:rPr b="0" lang="ko-KR" sz="1000" spc="-1" strike="noStrike">
                <a:solidFill>
                  <a:srgbClr val="50505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505050"/>
                </a:solidFill>
                <a:latin typeface="Arial"/>
              </a:rPr>
              <a:t>http://nlp.kookmin.ac.kr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0505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1F897-4770-4FFC-9CB4-05D31C41D2CF}" type="slidenum">
              <a:rPr b="0" lang="en-US" sz="1000" spc="-1" strike="noStrike">
                <a:solidFill>
                  <a:srgbClr val="50505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3600" spc="-1" strike="noStrike">
                <a:solidFill>
                  <a:srgbClr val="cd0355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spcBef>
                <a:spcPts val="1049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998640" indent="-220680">
              <a:spcBef>
                <a:spcPts val="1049"/>
              </a:spcBef>
              <a:buClr>
                <a:srgbClr val="ff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3" marL="1279440" indent="-166680">
              <a:spcBef>
                <a:spcPts val="1049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4" marL="1560600" indent="-166680">
              <a:spcBef>
                <a:spcPts val="1049"/>
              </a:spcBef>
              <a:buClr>
                <a:srgbClr val="ff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5" marL="1560600" indent="-166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6" marL="1560600" indent="-166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1106640"/>
            <a:ext cx="8001000" cy="648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20520" bIns="20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" name="kookmin" descr=""/>
          <p:cNvPicPr/>
          <p:nvPr/>
        </p:nvPicPr>
        <p:blipFill>
          <a:blip r:embed="rId2"/>
          <a:stretch/>
        </p:blipFill>
        <p:spPr>
          <a:xfrm>
            <a:off x="304920" y="6324480"/>
            <a:ext cx="377640" cy="3812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495360" y="6238800"/>
            <a:ext cx="2209680" cy="28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-15480" bIns="-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0505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0505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47F78-3F39-4A30-A827-1F94E555606C}" type="slidenum">
              <a:rPr b="0" lang="en-US" sz="1000" spc="-1" strike="noStrike">
                <a:solidFill>
                  <a:srgbClr val="50505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3600" spc="-1" strike="noStrike">
                <a:solidFill>
                  <a:srgbClr val="cd0355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pic>
        <p:nvPicPr>
          <p:cNvPr id="48" name="kookmin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679320" cy="685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5440" indent="0" algn="ctr">
              <a:spcBef>
                <a:spcPts val="1049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501480" indent="0" algn="ctr">
              <a:spcBef>
                <a:spcPts val="901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5960" algn="ctr">
              <a:spcBef>
                <a:spcPts val="825"/>
              </a:spcBef>
              <a:buClr>
                <a:srgbClr val="ff0000"/>
              </a:buClr>
              <a:buFont typeface="Arial"/>
              <a:buChar char="•"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27320" algn="ctr"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70120" algn="ctr"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0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0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4000" spc="-1" strike="noStrike">
                <a:solidFill>
                  <a:srgbClr val="cd0355"/>
                </a:solidFill>
                <a:latin typeface="Arial"/>
                <a:ea typeface="굴림"/>
              </a:rPr>
              <a:t>12. </a:t>
            </a:r>
            <a:r>
              <a:rPr b="1" i="1" lang="zh-CN" sz="4000" spc="-1" strike="noStrike">
                <a:solidFill>
                  <a:srgbClr val="cd0355"/>
                </a:solidFill>
                <a:latin typeface="Arial"/>
                <a:ea typeface="굴림"/>
              </a:rPr>
              <a:t>한국어 형태소 분석 기법</a:t>
            </a:r>
            <a:endParaRPr b="1" i="1" lang="en-US" sz="40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6572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marL="55440" indent="0" algn="ctr"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7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월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5440" indent="0" algn="ctr"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5440" indent="0" algn="ctr"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국민대학교 컴퓨터학부 강승식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어절 유형의 확장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724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 fontScale="99000"/>
          </a:bodyPr>
          <a:p>
            <a:pPr marL="3283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어절의 기본형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283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(1) </a:t>
            </a:r>
            <a:r>
              <a:rPr b="0" lang="zh-CN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체언부 </a:t>
            </a:r>
            <a:r>
              <a:rPr b="0" lang="en-US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+ </a:t>
            </a:r>
            <a:r>
              <a:rPr b="0" lang="zh-CN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조사부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283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(2) </a:t>
            </a:r>
            <a:r>
              <a:rPr b="0" lang="zh-CN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용언부 </a:t>
            </a:r>
            <a:r>
              <a:rPr b="0" lang="en-US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+ </a:t>
            </a:r>
            <a:r>
              <a:rPr b="0" lang="zh-CN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어미부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283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(3) </a:t>
            </a:r>
            <a:r>
              <a:rPr b="0" lang="zh-CN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단일어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283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어절의 확장형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283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(4) </a:t>
            </a:r>
            <a:r>
              <a:rPr b="0" lang="zh-CN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체언부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 체언 </a:t>
            </a:r>
            <a:r>
              <a:rPr b="0" lang="en-US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+ </a:t>
            </a:r>
            <a:r>
              <a:rPr b="0" lang="zh-CN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접미사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283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(5) </a:t>
            </a:r>
            <a:r>
              <a:rPr b="0" lang="zh-CN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체언부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 체언 </a:t>
            </a:r>
            <a:r>
              <a:rPr b="0" lang="en-US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+ </a:t>
            </a:r>
            <a:r>
              <a:rPr b="0" lang="zh-CN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체언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283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(6) </a:t>
            </a:r>
            <a:r>
              <a:rPr b="0" lang="zh-CN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용언부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 체언 </a:t>
            </a:r>
            <a:r>
              <a:rPr b="0" lang="en-US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+ </a:t>
            </a:r>
            <a:r>
              <a:rPr b="0" lang="zh-CN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용언화접미사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283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(7) </a:t>
            </a:r>
            <a:r>
              <a:rPr b="0" lang="zh-CN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용언부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 용언 </a:t>
            </a:r>
            <a:r>
              <a:rPr b="0" lang="en-US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+ </a:t>
            </a:r>
            <a:r>
              <a:rPr b="0" lang="zh-CN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아</a:t>
            </a:r>
            <a:r>
              <a:rPr b="0" lang="en-US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zh-CN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어</a:t>
            </a:r>
            <a:r>
              <a:rPr b="0" lang="en-US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?+ </a:t>
            </a:r>
            <a:r>
              <a:rPr b="0" lang="zh-CN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보조용언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283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(8) </a:t>
            </a:r>
            <a:r>
              <a:rPr b="0" lang="zh-CN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조사부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 조사 </a:t>
            </a:r>
            <a:r>
              <a:rPr b="0" lang="en-US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+ ... + </a:t>
            </a:r>
            <a:r>
              <a:rPr b="0" lang="zh-CN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조사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2832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(9) </a:t>
            </a:r>
            <a:r>
              <a:rPr b="0" lang="zh-CN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어미부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(</a:t>
            </a:r>
            <a:r>
              <a:rPr b="0" lang="zh-CN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선어말어미</a:t>
            </a:r>
            <a:r>
              <a:rPr b="0" lang="en-US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) + </a:t>
            </a:r>
            <a:r>
              <a:rPr b="0" lang="zh-CN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어미 </a:t>
            </a:r>
            <a:r>
              <a:rPr b="0" lang="en-US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+ ... + </a:t>
            </a:r>
            <a:r>
              <a:rPr b="0" lang="zh-CN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어미 </a:t>
            </a:r>
            <a:r>
              <a:rPr b="0" lang="en-US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+ (</a:t>
            </a:r>
            <a:r>
              <a:rPr b="0" lang="zh-CN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조사</a:t>
            </a:r>
            <a:r>
              <a:rPr b="0" lang="en-US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B2B5-409D-4DCA-ABD8-BB0DA6E8E0D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품사의 확장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품사의 기본형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(1) </a:t>
            </a:r>
            <a:r>
              <a:rPr b="0" lang="zh-CN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어휘형태소 </a:t>
            </a: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: </a:t>
            </a:r>
            <a:r>
              <a:rPr b="0" lang="zh-CN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체언</a:t>
            </a: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, </a:t>
            </a:r>
            <a:r>
              <a:rPr b="0" lang="zh-CN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용언</a:t>
            </a: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, </a:t>
            </a:r>
            <a:r>
              <a:rPr b="0" lang="zh-CN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기타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(2) </a:t>
            </a:r>
            <a:r>
              <a:rPr b="0" lang="zh-CN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문법형태소 </a:t>
            </a: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: </a:t>
            </a:r>
            <a:r>
              <a:rPr b="0" lang="zh-CN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조사</a:t>
            </a: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, </a:t>
            </a:r>
            <a:r>
              <a:rPr b="0" lang="zh-CN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어미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품사의 확장형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(3) </a:t>
            </a:r>
            <a:r>
              <a:rPr b="0" lang="zh-CN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체언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 명사</a:t>
            </a: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, </a:t>
            </a:r>
            <a:r>
              <a:rPr b="0" lang="zh-CN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대명사</a:t>
            </a: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, </a:t>
            </a:r>
            <a:r>
              <a:rPr b="0" lang="zh-CN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의존명사</a:t>
            </a: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, </a:t>
            </a:r>
            <a:r>
              <a:rPr b="0" lang="zh-CN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수사</a:t>
            </a: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, </a:t>
            </a:r>
            <a:r>
              <a:rPr b="0" lang="zh-CN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명사추정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(4) </a:t>
            </a:r>
            <a:r>
              <a:rPr b="0" lang="zh-CN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용언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 동사</a:t>
            </a: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, </a:t>
            </a:r>
            <a:r>
              <a:rPr b="0" lang="zh-CN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형용사</a:t>
            </a: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, </a:t>
            </a:r>
            <a:r>
              <a:rPr b="0" lang="zh-CN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보조동사</a:t>
            </a: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, </a:t>
            </a:r>
            <a:r>
              <a:rPr b="0" lang="zh-CN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보조형용사</a:t>
            </a: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, </a:t>
            </a:r>
            <a:r>
              <a:rPr b="0" lang="zh-CN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용언추정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(5) </a:t>
            </a:r>
            <a:r>
              <a:rPr b="0" lang="zh-CN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기타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 부사</a:t>
            </a: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, </a:t>
            </a:r>
            <a:r>
              <a:rPr b="0" lang="zh-CN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관형사</a:t>
            </a: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, </a:t>
            </a:r>
            <a:r>
              <a:rPr b="0" lang="zh-CN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감탄사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(6) </a:t>
            </a:r>
            <a:r>
              <a:rPr b="0" lang="zh-CN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명사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 보통명사</a:t>
            </a: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, </a:t>
            </a:r>
            <a:r>
              <a:rPr b="0" lang="zh-CN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고유명사 등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(7) </a:t>
            </a:r>
            <a:r>
              <a:rPr b="0" lang="zh-CN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대명사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 인칭대명사</a:t>
            </a: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, </a:t>
            </a:r>
            <a:r>
              <a:rPr b="0" lang="zh-CN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지시대명사 등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(8) </a:t>
            </a:r>
            <a:r>
              <a:rPr b="0" lang="zh-CN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동사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 자동사</a:t>
            </a: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, </a:t>
            </a:r>
            <a:r>
              <a:rPr b="0" lang="zh-CN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타동사</a:t>
            </a: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, </a:t>
            </a:r>
            <a:r>
              <a:rPr b="0" lang="zh-CN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피동사</a:t>
            </a: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, </a:t>
            </a:r>
            <a:r>
              <a:rPr b="0" lang="zh-CN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사동사 등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(9) </a:t>
            </a:r>
            <a:r>
              <a:rPr b="0" lang="zh-CN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조사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 </a:t>
            </a:r>
            <a:r>
              <a:rPr b="0" lang="zh-CN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주격조사</a:t>
            </a:r>
            <a:r>
              <a:rPr b="0" lang="en-US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, </a:t>
            </a:r>
            <a:r>
              <a:rPr b="0" lang="zh-CN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소유격 조사</a:t>
            </a:r>
            <a:r>
              <a:rPr b="0" lang="en-US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, </a:t>
            </a:r>
            <a:r>
              <a:rPr b="0" lang="zh-CN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목적격 조사</a:t>
            </a:r>
            <a:r>
              <a:rPr b="0" lang="en-US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, </a:t>
            </a:r>
            <a:r>
              <a:rPr b="0" lang="zh-CN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특수 조사 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(10) </a:t>
            </a:r>
            <a:r>
              <a:rPr b="0" lang="zh-CN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어미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 종결어미</a:t>
            </a:r>
            <a:r>
              <a:rPr b="0" lang="en-US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, </a:t>
            </a:r>
            <a:r>
              <a:rPr b="0" lang="zh-CN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연결어미 등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57A2-26F0-40B5-AF7D-48457E48D95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어형 중심 형태소 분석 알고리즘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724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 fontScale="97000"/>
          </a:bodyPr>
          <a:p>
            <a:pPr lvl="1" marL="643320" indent="0" algn="just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Algorithm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어형인식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(wo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3320" indent="0" algn="just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char word[MAX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3320" indent="0" algn="just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3320" indent="0" algn="just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int sylinfo[MAX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3320" indent="0" algn="just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WORDTYPE wordtyp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3320" indent="0" algn="just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1. scan_syl_info(word, sylinfo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3320" indent="0" algn="just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2. wordtype = guess_wordtype(sylinfo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3320" indent="0" algn="just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3. check_wordtype(word, wordtyp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3320" indent="0" algn="just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4. case wordtyp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3320" indent="0" algn="just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JOSA_FIX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3320" indent="0" algn="just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noun_analysis(wor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3320" indent="0" algn="just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EOMI_FIX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3320" indent="0" algn="just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verb_analysis(wor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3320" indent="0" algn="just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SINGLEWOR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3320" indent="0" algn="just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singleword_analysis(wor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3320" indent="0" algn="just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AMBIGUOU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3320" indent="0" algn="just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multiple_analysis(wor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3320" indent="0" algn="just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9942-971F-4E7B-B87D-04FE5C1A158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우선 순위 결정하는 경험 규칙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①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분석 성공한 결과를 추정에 의한 분석 결과보다 가중치를 높인다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②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복잡한 단어 유형보다는 단순한 단어 유형의 가중치를 높인다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예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)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보관함의 가중치를 보관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+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하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+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ㅁ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?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보다 높게 한다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③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어휘형태소의 길이가 긴 분석 결과의 가중치를 높인다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④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문법형태소의 길이가 긴 분석 결과의 가중치를 높인다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⑤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조음소 이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으가 생략된 분석 결과에 대한 가중치를 낮춘다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⑥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문장의 마지막 단어는 용언 분석 결과에 대한 가중치를 높인다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⑦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사용 빈도가 낮은 형태소가 포함된 분석 결과의 가중치를 낮춘다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⑧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미등록어 추정 결과는 용언 분석 결과보다 체언 분석 결과의 가중치를 높인다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C41C-11C1-44CF-A755-91BCCE86B00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한국어 형태소 분석</a:t>
            </a:r>
            <a:r>
              <a:rPr b="1" i="1" lang="en-US" sz="3600" spc="-1" strike="noStrike">
                <a:solidFill>
                  <a:srgbClr val="cd0355"/>
                </a:solidFill>
                <a:latin typeface="Arial"/>
                <a:ea typeface="굴림"/>
              </a:rPr>
              <a:t>: </a:t>
            </a: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분류 기준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lnSpc>
                <a:spcPct val="7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분석 모델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7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언어 독립적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언어 종속적 모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7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분석 알고리즘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7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규칙 기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사전 기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말뭉치 기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 algn="just">
              <a:lnSpc>
                <a:spcPct val="7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형태소 분석 방향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 algn="just">
              <a:lnSpc>
                <a:spcPct val="7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bottom-up parallel, top-down predi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7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어절 검색 방향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7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좌우 분석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우좌 분석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양방향 분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 algn="just">
              <a:lnSpc>
                <a:spcPct val="7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형태소 결합 제약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 algn="just">
              <a:lnSpc>
                <a:spcPct val="7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어절형성 규칙과 결합제약 규칙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접속 정보에 의한 결합제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 algn="just">
              <a:lnSpc>
                <a:spcPct val="7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문법형태소 사전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 algn="just">
              <a:lnSpc>
                <a:spcPct val="7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단위형태소 수록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결합형태소 수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 algn="just">
              <a:lnSpc>
                <a:spcPct val="7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형태소 처리 단위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 algn="just">
              <a:lnSpc>
                <a:spcPct val="7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자소 단위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음절 단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4660-0DD1-4987-BA22-3DB4E751757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한국어 형태소 분석 기법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Head-tail 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구분법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Tabular 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파싱법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양방향 최장일치법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음절 단위 분석법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사전 기반 형태소 분석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두 단계 확장 모델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4D6B-F3A9-4371-899F-107CAAF1D6B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ko-KR" sz="3600" spc="-1" strike="noStrike">
                <a:solidFill>
                  <a:srgbClr val="cd0355"/>
                </a:solidFill>
                <a:latin typeface="Arial"/>
                <a:ea typeface="굴림"/>
              </a:rPr>
              <a:t>Head-tail </a:t>
            </a:r>
            <a:r>
              <a:rPr b="1" i="1" lang="ko-KR" sz="3600" spc="-1" strike="noStrike">
                <a:solidFill>
                  <a:srgbClr val="cd0355"/>
                </a:solidFill>
                <a:latin typeface="Arial"/>
                <a:ea typeface="굴림"/>
              </a:rPr>
              <a:t>구분법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Head : 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변형되지 않는 부분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Tail : 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변형이 일어나는 부분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방법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절 가능한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tail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을 모두 찾아 테이블 구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Head-tai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결합관계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접속정보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Head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에 대한 사전 탐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8DE6-782B-464A-97BB-42644309985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ko-KR" sz="3600" spc="-1" strike="noStrike">
                <a:solidFill>
                  <a:srgbClr val="cd0355"/>
                </a:solidFill>
                <a:latin typeface="Arial"/>
              </a:rPr>
              <a:t>Tabular </a:t>
            </a:r>
            <a:r>
              <a:rPr b="1" i="1" lang="ko-KR" sz="3600" spc="-1" strike="noStrike">
                <a:solidFill>
                  <a:srgbClr val="cd0355"/>
                </a:solidFill>
                <a:latin typeface="Arial"/>
                <a:ea typeface="굴림"/>
              </a:rPr>
              <a:t>파싱법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자모 단위의 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substring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에 대한 사전 탐색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모든 가능한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substring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추출 </a:t>
            </a:r>
            <a:r>
              <a:rPr b="0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 삼각 테이블 구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삼각 테이블의 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substring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에 대해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CYK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알고리즘 적용 </a:t>
            </a:r>
            <a:r>
              <a:rPr b="0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 입력 문자열 구성쌍 발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형태소 결합 제약 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접속 정보표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0">
              <a:spcBef>
                <a:spcPts val="901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0">
              <a:spcBef>
                <a:spcPts val="901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EB8F-9A96-4D90-A3CE-1B5BBE6D634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양방향 최장일치법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최장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-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최단 일치법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형태소 분석을 철자검사에 적용하는 방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입력 문자열에 대한 첫 분석 결과만 확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Longest morpheme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을 우선적으로 선택하여 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Tabular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파싱법의 효율 개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양방향 최장일치법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어절의 양쪽 끝에서 양방향으로 최장 형태소 탐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좌방향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우방향 최장일치하는 위치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&amp; overlap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2D2F-68D9-4944-864C-C5468AEA950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음절 단위 분석법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굴림"/>
              </a:rPr>
              <a:t>어절 분석 단위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굴림"/>
              </a:rPr>
              <a:t>음절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굴림"/>
              </a:rPr>
              <a:t>후보 생성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굴림"/>
              </a:rPr>
              <a:t>후보 선택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굴림"/>
              </a:rPr>
              <a:t>strategy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굴림"/>
              </a:rPr>
              <a:t>조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굴림"/>
              </a:rPr>
              <a:t>어미 분리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가능한 후보 생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-220680" algn="just">
              <a:lnSpc>
                <a:spcPct val="100000"/>
              </a:lnSpc>
              <a:spcBef>
                <a:spcPts val="825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조사 분리 후보 </a:t>
            </a:r>
            <a:r>
              <a:rPr b="0" lang="en-US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: </a:t>
            </a:r>
            <a:r>
              <a:rPr b="0" lang="zh-CN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체언 </a:t>
            </a:r>
            <a:r>
              <a:rPr b="0" lang="en-US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+ </a:t>
            </a:r>
            <a:r>
              <a:rPr b="0" lang="zh-CN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조사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-220680" algn="just">
              <a:lnSpc>
                <a:spcPct val="100000"/>
              </a:lnSpc>
              <a:spcBef>
                <a:spcPts val="825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어미 분리 후보 </a:t>
            </a:r>
            <a:r>
              <a:rPr b="0" lang="en-US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: </a:t>
            </a:r>
            <a:r>
              <a:rPr b="0" lang="zh-CN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용언 </a:t>
            </a:r>
            <a:r>
              <a:rPr b="0" lang="en-US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+ </a:t>
            </a:r>
            <a:r>
              <a:rPr b="0" lang="zh-CN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어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-220680" algn="just">
              <a:lnSpc>
                <a:spcPct val="100000"/>
              </a:lnSpc>
              <a:spcBef>
                <a:spcPts val="825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명사 및 독립언 후보 </a:t>
            </a:r>
            <a:r>
              <a:rPr b="0" lang="en-US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: </a:t>
            </a:r>
            <a:r>
              <a:rPr b="0" lang="zh-CN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단일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굴림"/>
              </a:rPr>
              <a:t>어휘부 분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굴림"/>
              </a:rPr>
              <a:t>접미사 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굴림"/>
              </a:rPr>
              <a:t>사전 탐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굴림"/>
              </a:rPr>
              <a:t>음절 특성을 이용한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굴림"/>
              </a:rPr>
              <a:t>pruning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0677-964D-47E9-9C4E-34572F1770D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사전 기반 형태소 분석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lnSpc>
                <a:spcPct val="10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형태소 분석 관련 정보를 주로 사전에 기술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형태론적 변형 정보 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-220680">
              <a:lnSpc>
                <a:spcPct val="100000"/>
              </a:lnSpc>
              <a:spcBef>
                <a:spcPts val="825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‘</a:t>
            </a:r>
            <a:r>
              <a:rPr b="0" lang="ko-KR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아름답’ </a:t>
            </a:r>
            <a:r>
              <a:rPr b="0" lang="ko-KR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정칙 활용 어미와 결합 제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-220680">
              <a:lnSpc>
                <a:spcPct val="100000"/>
              </a:lnSpc>
              <a:spcBef>
                <a:spcPts val="825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‘</a:t>
            </a:r>
            <a:r>
              <a:rPr b="0" lang="ko-KR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아름다우’ </a:t>
            </a:r>
            <a:r>
              <a:rPr b="0" lang="ko-KR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: ‘</a:t>
            </a:r>
            <a:r>
              <a:rPr b="0" lang="ko-KR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ㅂ’ 불규칙 활용 어미와 결합제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10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어절 사전을 이용한 방법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고빈도 어절의 분석 결과를 사전에 수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9DF0-B8B5-4EE4-94CA-C287A2BAEE1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두 단계 확장 모델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lnSpc>
                <a:spcPct val="9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굴림"/>
              </a:rPr>
              <a:t>형태소 분석 단계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굴림"/>
              </a:rPr>
              <a:t>기본 기능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굴림"/>
              </a:rPr>
              <a:t>모든 응용 분야에 공통적인 기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-220680">
              <a:lnSpc>
                <a:spcPct val="90000"/>
              </a:lnSpc>
              <a:spcBef>
                <a:spcPts val="825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굴림"/>
              </a:rPr>
              <a:t>어형 인식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굴림"/>
              </a:rPr>
              <a:t>형태소 분리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굴림"/>
              </a:rPr>
              <a:t>중심의 형태소 분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1666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형태소 분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형태론적 변형 처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사전 탐색 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굴림"/>
              </a:rPr>
              <a:t>확장 기능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굴림"/>
              </a:rPr>
              <a:t>일부 응용 분야에 해당되는 기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-220680">
              <a:lnSpc>
                <a:spcPct val="90000"/>
              </a:lnSpc>
              <a:spcBef>
                <a:spcPts val="825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굴림"/>
              </a:rPr>
              <a:t>형태소 유형의 세분화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굴림"/>
              </a:rPr>
              <a:t>세분화된 품사 체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1666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체언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N/P/X/M,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용언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V/J/X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-220680">
              <a:lnSpc>
                <a:spcPct val="90000"/>
              </a:lnSpc>
              <a:spcBef>
                <a:spcPts val="825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굴림"/>
              </a:rPr>
              <a:t>복합어 분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굴림"/>
              </a:rPr>
              <a:t>사전 유형 구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-220680">
              <a:lnSpc>
                <a:spcPct val="90000"/>
              </a:lnSpc>
              <a:spcBef>
                <a:spcPts val="825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굴림"/>
              </a:rPr>
              <a:t>기본 사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-220680">
              <a:lnSpc>
                <a:spcPct val="90000"/>
              </a:lnSpc>
              <a:spcBef>
                <a:spcPts val="825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굴림"/>
              </a:rPr>
              <a:t>확장 사전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굴림"/>
              </a:rPr>
              <a:t>복합어 분해 사전 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8ECB-7586-434D-A842-51A512171E9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5T00:06:18Z</dcterms:created>
  <dc:creator>강승식</dc:creator>
  <dc:description/>
  <dc:language>en-US</dc:language>
  <cp:lastModifiedBy>강승식</cp:lastModifiedBy>
  <dcterms:modified xsi:type="dcterms:W3CDTF">2002-07-23T11:03:50Z</dcterms:modified>
  <cp:revision>24</cp:revision>
  <dc:subject/>
  <dc:title>한국어 정보처리 개요</dc:title>
</cp:coreProperties>
</file>