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F28-888E-41F7-A619-8EA6D36B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BC2-CC57-4B11-8393-A7D3DC8F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8B7-B39B-46D4-99B8-3CEA38EE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312-5F84-4F20-AA06-C66F0723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A34C-A229-4966-AFE1-63D32766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F725-1194-4732-83A6-FB585874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7139-2D0A-4072-B4A4-650C554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2EEF-A0CD-451C-A38D-698254A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37F3-E7C2-4469-A3B7-38EAD4C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1D4-A3BF-43EA-A408-10D2B37A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2D81-7140-4E6F-86EF-2FE24DB1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233-5B87-4747-85EB-E10075A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F1E-234F-481E-8008-8991C64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EBAC-AF62-4686-81EC-EF521B6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A45A-937A-4EF2-B8B4-C4BAB8B0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F2B7-EC64-43F6-B1F3-21F44772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0A55-7737-43CF-BDF4-6FFCCCDB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B1A-98FB-43D4-9255-85F581D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B22-848F-44B3-B4B6-ECAB90EE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56F-DD07-4220-AE87-65FF3C58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519-4790-4A16-8E89-48F4FE43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210-1E34-40C5-AE3D-A40095AC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B74-F377-461E-8F90-EA8106D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C73-1E30-4C82-9731-80974FE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6119-3A6E-440A-A6E9-F170B90911E0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D29-DBCA-4F34-A75A-8BEA55CE5EFA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4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조사</a:t>
            </a: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어미의 음절 특성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와 어말어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국어사전에 수록된 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5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복합조사 포함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2,00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말어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50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복합어미 포함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2,000 ~ 3,000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 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복합조사와 복합어미를 포함한 조사와 어말어미는 미등록어가 거의 없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말어미는 사용 빈도에 따라 고빈도어와 저빈도어로 구분이 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046-ACB1-4FF6-9374-A18C2E4C2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의 출현 빈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70% :  9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0% : 20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5% : 32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9% : 69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70% :  10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0% :  33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5% :  54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99% : 117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8BF-B55B-458D-902B-A8F2DC81F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의 누적 빈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79640" y="1447920"/>
          <a:ext cx="69879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447920"/>
                    <a:ext cx="69879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BB0-E85B-4CDD-B0C2-35CDEB792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의 누적 빈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447920"/>
          <a:ext cx="8001000" cy="44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010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447-4AC4-4341-BBD8-4AE7DA3D20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체언과 조사의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음으로 끝나는 체언에만 결합되는 조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모음으로 끝나는 체언에만 결합되는 조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랑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고유명사와 결합할 때 조음소 ‘이’ 삽입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와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음으로 끝나는 체언과 결합할 때 ‘이’ 삽입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랑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CE6-C4F9-4B09-8BE9-F51C57602D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의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은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를’이 모음으로 끝나는 어간과 결합할 때 ‘ㄴ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로 축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로 끝나는 어절을 분석할 때 항상 ‘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이 축약 어미일 가능성이 있으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으로 끝나는 단어는 ‘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이 어미일 가능성이 없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으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느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을’로 끝나는 용언은 소수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느’로 끝나는 용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감쪼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그러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근사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긁어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모으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그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까무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꼬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노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더느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무느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을’로 끝나는 용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개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을다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그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르’로 끝나는 용언은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08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이며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예외 처리 곤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E44-5B56-4BF6-A9FA-C822726F9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2:32:51Z</dcterms:modified>
  <cp:revision>36</cp:revision>
  <dc:subject/>
  <dc:title>한국어 정보처리 개요</dc:title>
</cp:coreProperties>
</file>