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33-24C0-4D56-A30B-04A93AB3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430-C638-4859-A5D0-7A320EB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370-3C5B-4D0F-9360-8FAB3CB1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3C8-72A9-44C0-A094-579CBC7D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CC28-C368-4A70-A001-BD1D3AD2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9398-0273-49FD-BA39-5D422223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D86-C63C-4845-8C6E-F7C95A4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0672-6898-4329-A13E-0226C2D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6C0B-878B-40EF-AA5E-91F1410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AD1-0766-408F-9C53-14F3418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B6B2-F52A-446A-B6B2-BF964F96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318-5F7F-42B1-A3AE-CDD06F7B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659-DBAF-403E-9E2B-6A9ACCF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E35B-725E-4279-9E61-B5785D2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C140-0F08-41A1-9621-836BAC4A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E25C-D773-40C5-B9B6-55576678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166D-F71D-48B1-AC5C-F036518B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485-B16E-440E-97E8-9280F89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E5E-D890-4643-9BD9-9041327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55E-C059-4B64-ACDA-20E15A05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FBF-2970-426C-83EA-6A3BBDC8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B7C-B413-48EA-9621-2B6F0D3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1EB-1C5D-4C5B-B0CB-98A786B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C55-FBC0-41F4-AF0A-3BF6D3E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9734-16A8-4435-A8B4-7EDFA718D5EA}" type="datetime"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307-65D5-411C-975D-EF4E06634741}" type="slidenum">
              <a:rPr b="0" lang="ko-KR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756-21C3-4DF4-961E-31F1E42832F7}" type="datetime">
              <a:rPr b="0" lang="ko-KR" sz="1400" spc="-1" strike="noStrike">
                <a:solidFill>
                  <a:srgbClr val="5e574e"/>
                </a:solidFill>
                <a:latin typeface="Arial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6D1-91C2-4A9D-9AEC-DD46316D5D14}" type="slidenum">
              <a:rPr b="0" lang="ko-K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17.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구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국민대학교 컴퓨터학부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강  승  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생성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2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알다’   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V  REG  &lt;NEG 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모르다’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사랑하다’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V  YEO  &lt;PAS 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에게’ ‘사랑받다’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그러나’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SENT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너무’   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VERB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일찍이’    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  VP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를 가로질러’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MW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에 관하여’   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MW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때문에’       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POST  P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7C7-6FB5-4798-B1AE-2C15A9C9E8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A113B-593F-4570-A8A0-AAA710359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한영 변환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3059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굴림체"/>
                <a:ea typeface="굴림체"/>
              </a:rPr>
              <a:t>가늘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lender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글씨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writing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목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neck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팔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rm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fine  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모래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and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베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linen)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비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rai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delicate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뼈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b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 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이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lender in the middle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가운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가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apering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차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b 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어지는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 fine pointed fountain pen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촉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이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ㄴ 만년필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en A:OBJ thin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make A:OBJ thin    (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sharpen a pencil  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깎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with *POS eyes halfclosed (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눈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뜨고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live on a slim income (=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게 먹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고 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DFT 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835-50D3-44D1-8701-670EAC65BE3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71E8F-8998-4CAF-AB03-6663605D0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한 변환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523880"/>
            <a:ext cx="8381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굴림체"/>
                <a:ea typeface="굴림체"/>
              </a:rPr>
              <a:t>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vt &lt;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주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전하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nformation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정보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knowledge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지식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베풀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favor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은혜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kindness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친절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BJ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열다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party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잔치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vi &lt;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주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발하다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forth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야기시키다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rise to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낳다 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birth to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A: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을 포기하다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give up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f A = (smoking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담배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or (drinking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술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   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hen V =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끊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     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if A = (habit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버릇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then V = 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그만두다</a:t>
            </a: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BCE-2A2B-4160-BAEE-DCA57FA0BB4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883C9-39A5-402C-9B0A-1B22DB71DC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동의어 집합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y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품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어휘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83,000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여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5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.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개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59,000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여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형용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,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사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0.9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EE7-F074-48C0-8CD2-AF0EC87908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DF6D8-6392-48D9-AECE-236AB0A811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굴림체"/>
                <a:ea typeface="굴림체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ense 2 : &lt;sugar, refined suga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sweetenin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foodstuff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food, nutrie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substance, mat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object, inanimate objec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entit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130-4F94-44E4-96B7-E6374F004F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F4DE-4706-4240-A512-6B6855301A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한국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3300"/>
                </a:solidFill>
                <a:latin typeface="굴림체"/>
                <a:ea typeface="굴림체"/>
              </a:rPr>
              <a:t>기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Sense 1 :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기계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단순기계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기계적 장치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장치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수단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인공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물건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무생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실제물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=&gt; &lt;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실체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F0-8951-450C-B187-AC26E111DB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3CFC0-D85A-475A-9C1D-BBC52DBE3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영어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WordNet : synset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항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Ant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반대어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ypernym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상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yp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하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Mer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부분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Holonym 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소속개념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Entailment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연어 </a:t>
            </a: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synset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포인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Troponym 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동사의 구문형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Pertainym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수식어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ABF-F4DE-4844-9451-148F3BD536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113FA-E25C-4F45-84B5-E54EB07A27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부작용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 어휘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반드시 많다고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정보 세분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세분화할수록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사전정보 과잉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많은 정보가 수록된다고 좋은 것은 아니다</a:t>
            </a:r>
            <a:r>
              <a:rPr b="0" i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C2F-BC79-4C3B-992E-78BE9B8C32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D04D1-07EE-4BEB-BB55-8EEFEF77C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부작용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어휘수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석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하고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  ‘법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  ‘망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바탕체"/>
                <a:ea typeface="바탕체"/>
              </a:rPr>
              <a:t>명사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복합명사 분해 정확도가 낮아진다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품사 세분화 </a:t>
            </a: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석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체언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대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수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의존명사 구분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불필요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시스템이 복잡해지고 사전의 크기만 커진다</a:t>
            </a:r>
            <a:r>
              <a:rPr b="1" i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C47-F435-4F56-BA78-2F357BDF4F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DEF26-B113-4890-BC27-781155F26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휘수와 사전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휘수가 많을수록 좋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빈도수 등 사전정보가 충분히 수록된다면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(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필요에 따라 소규모 사전으로 변환이 가능하므로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사전정보를 세분화할수록 좋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계층적 분류 등에 의해 특정 목적에 적합하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상위범주 정보들로 변환이 가능하다면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다양한 목적으로 사용되는 범용사전 구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51A-35A4-4E66-A9D4-B0C79EDF6E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72B50-F8DF-4518-A3D7-306B736CB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885680"/>
            <a:ext cx="7797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의 필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 종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분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변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생성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 필수적인 사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구조와 탐색 방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맺음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9F8-E794-4F9D-BA73-BF6CA61D67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BF4EA-B73F-4E18-B9BB-0210F846E1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NLP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에서 </a:t>
            </a:r>
            <a:r>
              <a:rPr b="1" lang="ko-KR" sz="4800" spc="-1" strike="noStrike">
                <a:solidFill>
                  <a:srgbClr val="ff3300"/>
                </a:solidFill>
                <a:latin typeface="Times New Roman"/>
              </a:rPr>
              <a:t>꼭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 필요한 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모든 경우에 대한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dat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복합조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절유형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’의 이형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일반규칙과 예외처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부사의 수식대상은 부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용사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	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매우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빨리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매우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빠르다         부사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용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사과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또는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/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및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배     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	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농사를 짓는 </a:t>
            </a:r>
            <a:r>
              <a:rPr b="1" i="1" lang="ko-KR" sz="2400" spc="-1" strike="noStrike">
                <a:solidFill>
                  <a:srgbClr val="ff3300"/>
                </a:solidFill>
                <a:latin typeface="Times New Roman"/>
                <a:ea typeface="굴림체"/>
              </a:rPr>
              <a:t>한편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농사를 지었다        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유형별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특성별로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grouping :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태그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19440" y="43578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3760" y="48481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5319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CD1-FFE7-4CBA-91D6-70A9C801CE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DADD7-6A12-4E5E-A4BF-70FDF0231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체언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동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형용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부사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, </a:t>
            </a:r>
            <a:r>
              <a:rPr b="1" i="1" lang="ko-KR" sz="3200" spc="-1" strike="noStrike">
                <a:solidFill>
                  <a:srgbClr val="ff3300"/>
                </a:solidFill>
                <a:latin typeface="Times New Roman"/>
                <a:ea typeface="굴림체"/>
              </a:rPr>
              <a:t>독립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체언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(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대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수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의존명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)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세분화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독립언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(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관형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감탄사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)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구분 필요성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하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되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시키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답다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, -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스럽다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태소 분석 용도에 따라 다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체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독립언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결과 출력할 때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계번역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명사만 추출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파싱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A46-551B-41F8-8E8C-2EB6C35F52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9A276-C925-4505-96B4-6BA3B66A1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066680" y="685800"/>
          <a:ext cx="769644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7696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656-EBCC-4264-A714-FC5AE06981E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E5CB0-299D-4E36-8090-892EEC7F3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절 유형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676520"/>
            <a:ext cx="787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1. PTN_N 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/PN/NM/XN/CN/UN/AS/HJ/E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2. PTN_NJ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3. PTN_NSM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4. PTN_NSMJ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5. PTN_NSMXM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N6. PTN_NJC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에서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터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에서부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1. PTN_VM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2. PTN_VMJ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3. PTN_VMC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4. PTN_VMXM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V5. PTN_VMXMJ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A1. PTN_AID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단일어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  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관형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감탄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A2. PTN_ADVJ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부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빨리도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X1. PTN_NVM     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동사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밥먹다’ </a:t>
            </a:r>
            <a:r>
              <a:rPr b="1" lang="ko-KR" sz="18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F4-3526-46A3-AC52-5CF946A7680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B4F13-FA52-454A-B8EC-7C0295534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결과 생성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조사의 이형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가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을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와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은는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에 탈락 여부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에게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게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한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말어미의 이형태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’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여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ㅏ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ㅓ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ㅕ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ㅐ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러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아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어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ㄴ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ㄹ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ㅁ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ㅂ’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’ 탈락 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ㄹ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ㅁ’ 시작어미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’ 탈락 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선어말어미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았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었’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(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으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r>
              <a:rPr b="0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255-5F9D-447D-94BC-883498A955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772A-4835-49DA-AC6F-219C1E392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태그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‘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어’ 이형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873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b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아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어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j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여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거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너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러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라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b_tal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아’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Wf_tal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어’ 탈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b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ㅏ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ㅓ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j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ㅕ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c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ㅐ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해서’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, 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하얘서’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ㅎ불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lc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ㅙ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되다’만 적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EOMI_VAR_Ib,If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-- ‘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라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러’ </a:t>
            </a:r>
            <a:r>
              <a:rPr b="0" lang="ko-KR" sz="2800" spc="-1" strike="noStrike">
                <a:solidFill>
                  <a:srgbClr val="000000"/>
                </a:solidFill>
                <a:latin typeface="바탕체"/>
                <a:ea typeface="바탕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바탕체"/>
                <a:ea typeface="바탕체"/>
              </a:rPr>
              <a:t>러’ 불규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AC2-9D85-4978-9A0E-92C44C27B3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0283-E858-488A-964B-01E0CB1B8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빈도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휘형태소 빈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문법형태소 빈도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절유형 빈도정보 </a:t>
            </a: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어절유형 쌍의 공기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형태론적 중의성 해결에 활용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굴림체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D5C-27BA-47DC-A18C-7B320AD5C94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F4FF7-5021-4236-B590-51A1BC5CC5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 중의성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  </a:t>
            </a: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가시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갈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동사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시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선어말어미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접두사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접미사 분리 중의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흥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철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88F-5F36-4378-B7E9-1E5A0DB29A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89915-52C4-43DF-B783-D64BB4E52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NLP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에서 불필요한 정보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모든 경우를 포괄하지 못하는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하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되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스럽다’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형태로 결정되는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	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은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는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이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가’의 구분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적용범위가 매우 좁은 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푸’ 불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거의 발견되지 않는 어휘나 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lt;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예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&gt;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하고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법의’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, 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망의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142-BF14-4303-AD5B-CBFD738B29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25E9A-A675-4D13-A67F-A9FE8E5D8D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정보의 양면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부족할 때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생성 정확도가 낮아진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과다할 때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분석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생성 정확도가 낮아질 수 있다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.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적절한 수준은 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  <a:ea typeface="굴림체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행착오 과정에서 발견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E1C-3D5F-4E9F-82E1-2BC2774E88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12ACE-2C72-4487-B17B-52EA6EC26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을 구축하는 이유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형태소 분석의 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입력어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석결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분석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정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분석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Times New Roman"/>
              </a:rPr>
              <a:t>기계번역의 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원시문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역문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번역 사전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원시언어 단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목적언어 단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역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+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29040" y="26812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ED2-7D39-4479-9F73-2DA94BADFF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14370-227F-4110-9B5F-102730060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구축 접근 방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op-down </a:t>
            </a:r>
            <a:r>
              <a:rPr b="1" lang="ko-KR" sz="3200" spc="-1" strike="noStrike">
                <a:solidFill>
                  <a:srgbClr val="0033cc"/>
                </a:solidFill>
                <a:latin typeface="Times New Roman"/>
              </a:rPr>
              <a:t>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ottom-up </a:t>
            </a:r>
            <a:r>
              <a:rPr b="1" lang="ko-KR" sz="3200" spc="-1" strike="noStrike">
                <a:solidFill>
                  <a:srgbClr val="0033cc"/>
                </a:solidFill>
                <a:latin typeface="Times New Roman"/>
              </a:rPr>
              <a:t>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을 위한 의미중의성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 시스템에서 중의성 어휘수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경우에 대한 해결방안 모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여러 경우를 고려하여 의미표지 설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D9E-F4FB-4A69-807D-9AA680F9518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D781-972C-4D44-A4B2-125936E1A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탐색 기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선형탐색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earch)  : non-sorted 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이진탐색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) : sorted 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해싱기법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ing) 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스펠러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트라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조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동일한 탐색속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오토마타 구조    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음절 단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계층적 구조        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43F-8F92-44FE-966E-B2B2DCF696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AEDC3-A760-4FAD-9E6E-DD69E473A1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평균 탐색속도가 가장 빠른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억공간의 크기도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빈도수에 따른 사전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규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초고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ltra-high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고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gh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저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w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초저빈도어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ltra-low Freq. D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BE1-4C15-4481-9909-044E6C63673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38366-DB59-4989-966D-0E8E42A20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탐색 편의성에 따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길이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품사별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길이별 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역순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B1-72A7-49E9-AD41-1E69F700F8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52217-6B3A-43FB-960B-D182A402A9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의 구조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선형적 구조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&lt;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태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프레임 구조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&lt;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프레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DDL(Dic. Descrip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규칙과 사전의 중간형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기계번역 변환사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의미중의성 해결 사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7E1-8FE2-4681-8B2B-77ACDF574C7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756B3-1D95-44DC-87F1-1B2BC73033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을 구축할 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의 목적을 명확히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범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모든 정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정 용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이 어떤 역할을 하는지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파싱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미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의성 해결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ff3300"/>
                </a:solidFill>
                <a:latin typeface="Times New Roman"/>
              </a:rPr>
              <a:t>어떤 정보들을 기술할 것인지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실제로 어떻게 활용될 것인지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498-A147-4739-B295-BE3A30D7D2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C149B-7154-4D31-B230-CD2A983E8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의 구축 방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범용사전 구축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바람직한 방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양한 응용 목적 충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목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능에 따라 재가공 루틴 제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통계</a:t>
            </a: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-</a:t>
            </a: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경험 정보의 중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규칙의 범용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빈도정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예외처리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모든 정보는 개별적으로 추출 가능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B33-968F-47AA-B81D-819A09AAFA0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0A6DD-72B5-4B8D-90F5-84714CDC9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향후 과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문표지와 의미표지 설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생성규칙의 빈도정보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통계적 파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조 중의성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미 중의성 해결 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연어정보의 설정 및 기술 방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97D-7808-47D1-905E-4F473ECF3E2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01AB6-A750-4B1B-8599-F112476BDD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맺음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굴림"/>
              </a:rPr>
              <a:t>사전정보 설정의 중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다양한 활용 목적에 적합하게 설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유형별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특성별로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ouping :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부사 유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계층적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대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중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소 분류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으로 융통성 있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각 응용분야에 대해 구체적으로 정의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각 유형들에 대한 모든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dat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33cc"/>
                </a:solidFill>
                <a:latin typeface="Times New Roman"/>
              </a:rPr>
              <a:t>일반규칙과 예외규칙의 구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357-02A2-4605-A2FD-BAB40D1676B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55826-D561-4F8F-A70C-44A7EDE7E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맺음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시행착오에 의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형태소 태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형태소 분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필요하게 많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싱 고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?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충분한지…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vi/vt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B4A-5563-405D-B33B-CDA4F8AA742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BC3A8-55F3-4D22-A5AA-C20206ED6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과 기존 사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용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일반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학생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컴퓨터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정보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뜻풀이 위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백과사전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LP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정보 표현 방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간위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컴퓨터 프로그램 위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519-5F33-437D-90CF-EB7908B8C0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3946-D05D-4F59-89DD-EAD4EA9C32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과 기존 사전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목적의 사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복합 조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어미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소러스 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LP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특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사    람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통계적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경험적 </a:t>
            </a:r>
            <a:r>
              <a:rPr b="1" i="1" lang="ko-KR" sz="2800" spc="-1" strike="noStrike">
                <a:solidFill>
                  <a:srgbClr val="ff3300"/>
                </a:solidFill>
                <a:latin typeface="Times New Roman"/>
              </a:rPr>
              <a:t>지식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을 갖추고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컴퓨터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통계적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경험적 </a:t>
            </a:r>
            <a:r>
              <a:rPr b="1" i="1" lang="ko-KR" sz="2800" spc="-1" strike="noStrike">
                <a:solidFill>
                  <a:srgbClr val="ff3300"/>
                </a:solidFill>
                <a:latin typeface="Times New Roman"/>
              </a:rPr>
              <a:t>지식</a:t>
            </a:r>
            <a:r>
              <a:rPr b="1" i="1" lang="ko-KR" sz="2800" spc="-1" strike="noStrike">
                <a:solidFill>
                  <a:srgbClr val="0033cc"/>
                </a:solidFill>
                <a:latin typeface="Times New Roman"/>
              </a:rPr>
              <a:t>을 사전에 수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&gt; 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는’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시는’의 형태소 분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외처리 사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외규칙의 필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B69-FAF3-424D-8089-4731F96120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1FA5E-4C5E-455A-8878-0D8581AF6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사전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vs.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규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의 모든 내용을 규칙으로 표현 가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모든 규칙은 사전으로 구축할 수 있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규칙으로 표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적용범위의 넓고 좁음에 따라 결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처리의 효율성과 편의성을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기억공간의 효율성 고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0B9-1236-4562-8825-1A061FE545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CBB22-DA10-440F-B6E1-4C259C36AF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종류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분석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생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법형태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어휘형태소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복합어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?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용자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분석 사전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구문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의미 분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장패턴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미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중의성 해결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?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생성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생성사전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phrase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사전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74C-68CD-4A1B-8687-A3A60B5817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4E7BB-04BB-4208-898F-3CFB028B8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전자사전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응용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S/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정보검색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자동색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시소러스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불용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맞춤법 검사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교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분야별 전문용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인명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지명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속어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은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철자교정 사전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대역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변환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중의성 해결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자연언어 이해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개념어 사전</a:t>
            </a:r>
            <a:r>
              <a:rPr b="0" i="1" lang="ko-K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EF6-F837-481E-860C-AD6143F939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9E583-6A37-47BD-8633-85909BF26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60093"/>
                </a:solidFill>
                <a:latin typeface="Times New Roman"/>
              </a:rPr>
              <a:t>형태소 분석사전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2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:VI RG:V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례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가호호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AD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감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격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격표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결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결의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EIV:DOTV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바탕"/>
                <a:ea typeface="바탕"/>
              </a:rPr>
              <a:t>가경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DODJ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0B6-249B-4071-8DFE-D34995B648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F76B2-35FF-4B2A-BABF-0B1BBD955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09:54:24Z</dcterms:created>
  <dc:creator>강승식</dc:creator>
  <dc:description/>
  <dc:language>en-US</dc:language>
  <cp:lastModifiedBy>강승식</cp:lastModifiedBy>
  <cp:lastPrinted>2000-01-13T21:02:00Z</cp:lastPrinted>
  <dcterms:modified xsi:type="dcterms:W3CDTF">2002-07-23T13:51:39Z</dcterms:modified>
  <cp:revision>180</cp:revision>
  <dc:subject/>
  <dc:title>정보 사회와 컴퓨터</dc:title>
</cp:coreProperties>
</file>