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7BC-471F-413F-92D5-2F72DCBB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BC4-4B95-4EED-8B63-E0ADD09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E0E-033B-494F-9FFA-ECEF5176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CB1-8022-44D8-A254-98945BD7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E24D-AF6B-4ADC-932C-ADD85733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19FF-0F73-44A1-8364-54625C49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9E9A-F1A9-416A-8045-A9EE3E3E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0367-A3C0-4870-8079-C12142B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9BEA-8F30-4A52-BFB2-EF23DD5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BEB2-E7DD-494A-BFAB-0F02CC9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038-F074-4426-A6C6-F011A44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908-F017-4A6B-AFF6-64902E14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4A4F-61AF-4476-B0F3-E610BF3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CD5E-D067-46B2-9B35-BB5878D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FE6B-E97E-43D1-861C-EA2D81FD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740E-8714-4889-8063-31912E05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75CA-2112-4712-BA30-A3786663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EB6-A2B0-4B41-ABC9-C34FFD18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16E-D062-40F4-8855-9F8FCA65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68A-346A-4B05-AD97-B5E54F59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827-480B-4621-8148-429E7241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3F8-5C6D-4DE9-97A2-B09FA4F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1A1-617F-4A77-9821-E40586FB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027-2710-4E35-9637-FBBD6E2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A832-76FC-4E95-A49A-DC1E14C2C6C1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D0A9-9EA6-4D55-9545-50057392E17D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5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리를 위한 선어말어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포가 넓은 분리적 선어말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, 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, 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, 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만을 선어말어미로 간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구조체에서 단순한 대체나 생략에 의한 방법으로 분석이 가능한 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포가 좁은 수의적 선어말어미와 교착적 선어말어미는 어말어미의 일부로 포함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의 배열 순서는 고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선어말어미간에 결합할 때 그 선후를 바꿀 수 없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서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읍시다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올시다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옵시고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야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읍시다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야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등 선어말어미가 어말어미와 결합된 형태를 어말어미로 간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864-AB5D-42E1-88CA-77790EE3BC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 결합형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(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변이체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)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FFF-C328-4F69-9D42-4233451019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의 결합 관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였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았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으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+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시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-------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셨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--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ㅏ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ㅓ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ㅐ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ㅕ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413-D940-4800-96B9-4031110D5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의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간 말음의 종성 유무에 따라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유종성 어간과 결합되는 것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매개모음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무종성 어간과 결합되는 것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 유형과 무관하게 결합되는 것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모음조화 규칙을 따르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다’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다’로 끝나는 어간에만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631-4F84-4C10-B30C-E1778A7B2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4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의 말음이 ‘ㅏ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’ 혹은 ‘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ㅔ’로 끝나는 어간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갔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섰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맸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둘러메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둘러멨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예외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: ‘-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하다’로 끝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하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명조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하였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또는 ‘했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주의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&gt; ‘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있다’로 끝나는 것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멋있다’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과 ‘쌔고샜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443-72F9-4AA1-9FB5-377989785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5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의 말음이 ‘ㅗ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ㅡ’로 끝나는 어간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따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흘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르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6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의 말음이 ‘ㅣ’로 끝나는 어간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7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다’로 끝나는 용언 또는 ‘ㅎ’ 불규칙 용언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E1A-057C-4D82-8FCA-31F1EBCDEF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의 비결정정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(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중의성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)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시’로 끝나는 용언 중에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도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마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모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부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쑤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자시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 탈락 용언관 관련하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모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죽겠다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죽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쌨다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1ED-9D1F-40F0-A386-BEB248F95F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3:14:03Z</dcterms:modified>
  <cp:revision>29</cp:revision>
  <dc:subject/>
  <dc:title>한국어 정보처리 개요</dc:title>
</cp:coreProperties>
</file>