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763-4CCC-4702-898D-66A55C86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BAF-38DC-49D6-906F-C63EFECC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29E-FADF-4476-B7B7-AB5B10D2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6F4-A10F-4621-8E4A-26B90D0F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43D5-74DE-453E-BEEA-052F369E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F670-0D15-4869-B791-2E627F6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26E5-BA1A-4967-B0D0-1D3C389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4A29-8F37-4958-9EA3-DA45D2B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4F2-D480-42FD-B255-7188F569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56CE-0928-4BD1-9432-4D86768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908-E23C-40BD-9BCC-DEC22CF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70D-ABAD-41CD-B717-2267822F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A89-05DF-40B4-9CA1-67A92D6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BE8-74FF-4A57-9A82-630A7A3D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043E-586E-4C9C-95A8-4A05EC4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C6F-8A33-46A5-8D95-92A874F8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6525-6895-483D-883C-2284CDA9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CBC-05CD-4A7D-8382-A6F1389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C51-0785-41BC-AD6D-8EC2D816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98A-6B64-4342-A5CC-AB71421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F39-0EF3-4DA5-A039-53842E9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F76-701C-4E74-AD00-5006071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543-FA2E-4082-8F4B-F93B0EB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462-65DB-4CE9-A214-F328292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A69-B4AF-49E4-9572-01BA051630F5}" type="datetime">
              <a:rPr b="0" lang="ko-KR" sz="1400" spc="-1" strike="noStrike">
                <a:solidFill>
                  <a:srgbClr val="5e574e"/>
                </a:solidFill>
                <a:latin typeface="Times New Roman"/>
              </a:rPr>
              <a:t>26年 7月 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5F3D-3C15-4036-9E4F-6D3BB3F76C8A}" type="slidenum">
              <a:rPr b="0" lang="ko-KR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904E-3827-41DC-8DFB-0EAB73A2AE1B}" type="datetime">
              <a:rPr b="0" lang="ko-KR" sz="1400" spc="-1" strike="noStrike">
                <a:solidFill>
                  <a:srgbClr val="5e574e"/>
                </a:solidFill>
                <a:latin typeface="Arial"/>
              </a:rPr>
              <a:t>26年 7月 31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402-B734-4BE3-A36F-988CC9B0ADC2}" type="slidenum">
              <a:rPr b="0" lang="ko-K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17.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 구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국민대학교 컴퓨터학부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강  승  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생성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2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알다’   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V  REG  &lt;NEG 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모르다’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사랑하다’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V  YEO  &lt;PAS 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에게’ ‘사랑받다’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그러나’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  SENT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너무’   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  VERB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일찍이’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  VP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를 가로질러’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POST  MW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에 관하여’   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POST  MW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때문에’       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POST  P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FFB-F198-4868-BB6F-F2B1D0CA66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5BB86-B1C5-42C6-95A5-470C6D6303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한영 변환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3059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굴림체"/>
                <a:ea typeface="굴림체"/>
              </a:rPr>
              <a:t>가늘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lender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글씨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writing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목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neck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팔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rm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fine   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모래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and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베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linen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비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rai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delicate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뼈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b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harp  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이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lender in the middle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가운데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가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tapering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차츰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b 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어지는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 fine pointed fountain pen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촉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이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ㄴ 만년필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harpen A:OBJ thin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하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make A:OBJ thin    (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하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harpen a pencil 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깎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with *POS eyes halfclosed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눈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뜨고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live on a slim income (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먹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고 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DFT 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8DD-67BF-4BF3-9811-14CE418571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4AA7A-7C8C-4BF2-BF11-9B6C161A7C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한 변환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523880"/>
            <a:ext cx="8381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굴림체"/>
                <a:ea typeface="굴림체"/>
              </a:rPr>
              <a:t>g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vt &lt;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주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전하다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nformation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정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knowledge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지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베풀다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favor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은혜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kindness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친절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열다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party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잔치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vi &lt;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주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발하다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forth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야기시키다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rise to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낳다  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birth to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포기하다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up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f A = (smoking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담배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r (drinking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술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  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then V =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끊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f A = (habit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버릇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then V =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그만두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FC0-D374-41A0-BA13-A276FD2D167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09FCC-C961-4D5D-8BCB-4ECADE24F8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동의어 집합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y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품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어휘수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83,000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여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57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.7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개수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59,000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여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41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0.9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7DA-C2A7-4B85-8AD1-E6E09FEFB2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6F44F-2868-4476-BCEA-220676584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굴림체"/>
                <a:ea typeface="굴림체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ense 2 : &lt;sugar, refined suga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sweetenin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foodstuff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food, nutrien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substance, mat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object, inanimate objec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entit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EE8-CB83-4952-87BF-F5D0308ED1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23DE4-0BD3-4328-B421-34A484152E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한국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3300"/>
                </a:solidFill>
                <a:latin typeface="굴림체"/>
                <a:ea typeface="굴림체"/>
              </a:rPr>
              <a:t>기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ense 1 :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기계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단순기계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기계적 장치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장치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수단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인공물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물건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무생물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실제물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실체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355-F69C-4886-AB6E-C530CD72D96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07D89-5EF6-4A29-9A86-FA551E38CA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 : synset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항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Ant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반대어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Hypernym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상위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Hyp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하위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Mer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분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Hol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소속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Entailment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연어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Troponym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의 구문형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Pertainym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수식어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48C-9713-4D32-BA96-A81227618F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1BC45-0D7A-43EB-A309-F37A99F526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부작용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사전 어휘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반드시 많다고 좋은 것은 아니다</a:t>
            </a: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사전정보 세분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세분화할수록 좋은 것은 아니다</a:t>
            </a: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사전정보 과잉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많은 정보가 수록된다고 좋은 것은 아니다</a:t>
            </a: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24C-8916-4EAE-B7F7-7F18AB1B65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5682D-23EC-4867-94E4-EF2DD2E262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부작용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어휘수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석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하고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바탕체"/>
                <a:ea typeface="바탕체"/>
              </a:rPr>
              <a:t>명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  ‘법의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바탕체"/>
                <a:ea typeface="바탕체"/>
              </a:rPr>
              <a:t>명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  ‘망의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바탕체"/>
                <a:ea typeface="바탕체"/>
              </a:rPr>
              <a:t>명사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복합명사 분해 정확도가 낮아진다</a:t>
            </a: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품사 세분화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석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체언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대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수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의존명사 구분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불필요한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시스템이 복잡해지고 사전의 크기만 커진다</a:t>
            </a: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A73-0A09-4981-A864-7B06263FBB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1FFE0-E508-4CE0-836E-98762E4B06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어휘수와 사전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휘수가 많을수록 좋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빈도수 등 사전정보가 충분히 수록된다면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...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필요에 따라 소규모 사전으로 변환이 가능하므로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사전정보를 세분화할수록 좋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계층적 분류 등에 의해 특정 목적에 적합하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상위범주 정보들로 변환이 가능하다면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다양한 목적으로 사용되는 범용사전 구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A3A-506C-4FE1-B81F-517F18C752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E71E0-1EC4-49A0-B8E7-8EF4337D36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목  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885680"/>
            <a:ext cx="7797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의 필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 종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분석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변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생성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에 필수적인 사전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구조와 탐색 방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맺음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8A7-392F-4492-9153-B70564740B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90498-6D2D-4DDE-AB8C-7C6D03060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NLP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에서 </a:t>
            </a:r>
            <a:r>
              <a:rPr b="1" lang="ko-KR" sz="4800" spc="-1" strike="noStrike">
                <a:solidFill>
                  <a:srgbClr val="ff3300"/>
                </a:solidFill>
                <a:latin typeface="Times New Roman"/>
              </a:rPr>
              <a:t>꼭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 필요한 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모든 경우에 대한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dat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복합조사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절유형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’의 이형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일반규칙과 예외처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부사의 수식대상은 부사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용사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	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매우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빨리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매우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빠르다         부사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용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사과 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또는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/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및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배        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	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농사를 짓는 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한편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농사를 지었다        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유형별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특성별로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grouping : 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태그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19440" y="43578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33760" y="48481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5319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201-700B-499A-9295-0A72F675CA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EDE2E-6861-41F5-8BFA-C657152C44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체언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동사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형용사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부사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독립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체언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(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명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대명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수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의존명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)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세분화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독립언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(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관형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감탄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)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구분 필요성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하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되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시키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답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스럽다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태소 분석 용도에 따라 다르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체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독립언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분석결과 출력할 때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기계번역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명사만 추출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파싱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B37-372E-4974-BC16-25FF12B030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D926B-1345-48C3-8236-7A83550F1A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066680" y="685800"/>
          <a:ext cx="769644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7696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F06-5E91-4693-826D-3EDF2A5C326A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F9001-80DA-4B5B-8449-4899620C8E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어절 유형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676520"/>
            <a:ext cx="787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1. PTN_N 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/PN/NM/XN/CN/UN/AS/HJ/E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2. PTN_NJ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3. PTN_NSM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4. PTN_NSMJ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5. PTN_NSMXM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6. PTN_NJCM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에서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부터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에서부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1. PTN_VM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2. PTN_VMJ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3. PTN_VMCM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4. PTN_VMXM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5. PTN_VMXMJ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A1. PTN_AID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단일어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  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부사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관형사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감탄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A2. PTN_ADVJ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부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빨리도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X1. PTN_NVM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동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밥먹다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530-DD24-47ED-BF06-F62D3F5691A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9872B-48AD-4C55-AFF7-27D176C245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결과 생성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조사의 이형태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이가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을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와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은는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에 탈락 여부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에게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게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한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말어미의 이형태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’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여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ㅏ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ㅓ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ㅕ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ㅐ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러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 탈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ㄹ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ㅁ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ㅂ’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’ 탈락 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ㄹ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ㅁ’ 시작어미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’ 탈락 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선어말어미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었’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(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)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8F1-E6CC-4A96-857D-8F8E27FCC7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BE972-DC65-4587-8599-6509164AD1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‘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아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어’ 이형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87392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b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아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f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어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j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여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거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너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라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b_tal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아’ 탈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f_tal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어’ 탈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b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ㅏ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f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ㅓ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j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ㅕ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c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ㅐ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해서’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, 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하얘서’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ㅎ불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lc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ㅙ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되다’만 적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Ib,If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라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러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러’ 불규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6B5-E3C1-4FA8-A299-2F8C593F6B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2CFD7-2CCD-48D3-A13A-5EB18D9ADF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빈도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어휘형태소 빈도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문법형태소 빈도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어절유형 빈도정보 </a:t>
            </a: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어절유형 쌍의 공기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태론적 중의성 해결에 활용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B91-F675-4488-89C1-AA512AA143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A0710-DD15-4C90-91D5-B1D85A8328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 중의성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  </a:t>
            </a: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가시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선어말어미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갈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선어말어미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접두사</a:t>
            </a: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접미사 분리 중의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동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흥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철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A7E-671D-4EF5-9730-12761698A4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1EE8C-6A58-4148-8BC6-367932583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NLP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에서 불필요한 정보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모든 경우를 포괄하지 못하는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하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되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스럽다’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형태로 결정되는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	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은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는’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이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가’의 구분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적용범위가 매우 좁은 규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푸’ 불규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거의 발견되지 않는 어휘나 규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하고’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법의’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망의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C89-21A5-4D0B-A184-E3B2CCD510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CFA61-2AEF-4015-BBB0-5438B7652C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정보의 양면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부족할 때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분석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생성 정확도가 낮아진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과다할 때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분석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생성 정확도가 낮아질 수 있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.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적절한 수준은 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행착오 과정에서 발견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1BF-1CE0-4C38-A350-CF8DE5A3625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68FB4-31D6-48B1-A300-07BF5DD981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을 구축하는 이유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형태소 분석의 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입력어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석결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분석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품사정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분석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기계번역의 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원시문장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역문장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번역 사전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원시언어 단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목적언어 단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역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29040" y="26812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FE1-84BA-4EFF-9267-7086428A83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1001D-8525-4FCA-8EED-BA45D9130A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구축 접근 방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op-down </a:t>
            </a:r>
            <a:r>
              <a:rPr b="1" lang="ko-KR" sz="3200" spc="-1" strike="noStrike">
                <a:solidFill>
                  <a:srgbClr val="0033cc"/>
                </a:solidFill>
                <a:latin typeface="Times New Roman"/>
              </a:rPr>
              <a:t>방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ottom-up </a:t>
            </a:r>
            <a:r>
              <a:rPr b="1" lang="ko-KR" sz="3200" spc="-1" strike="noStrike">
                <a:solidFill>
                  <a:srgbClr val="0033cc"/>
                </a:solidFill>
                <a:latin typeface="Times New Roman"/>
              </a:rPr>
              <a:t>방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을 위한 의미중의성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 시스템에서 중의성 어휘수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경우에 대한 해결방안 모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여러 경우를 고려하여 의미표지 설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913-4BD1-4BFB-A408-943DA2BD703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B4229-9655-4107-BA0B-A48F3F7EB6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탐색 기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선형탐색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earch)  : non-sorted 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이진탐색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) : sorted 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해싱기법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ing) 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스펠러 사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트라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)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조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동일한 탐색속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오토마타 구조    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소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음절 단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계층적 구조        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6BB-E31E-43BB-A444-209DA56306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542AB-8996-4B5B-A99F-831FA0BB8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구조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평균 탐색속도가 가장 빠른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억공간의 크기도 고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빈도수에 따른 사전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규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초고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ltra-high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고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igh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저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w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초저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ltra-low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50E-4B80-4667-9237-F8C9ED7CB2A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22B55-3290-479A-919F-D1EF42EE85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구조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탐색 편의성에 따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품사별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길이별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품사별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길이별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역순 사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3ED-A679-4C10-BB3B-73922446D17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C04CE-D17A-4CDE-979A-EDA3845EA4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구조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선형적 구조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&lt;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어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프레임 구조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&lt;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어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프레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DDL(Dic. Descrip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규칙과 사전의 중간형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기계번역 변환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의미중의성 해결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FC8-D285-4A44-8AE4-92C2414DAA5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2C565-BC21-496B-828C-6291B3513D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을 구축할 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의 목적을 명확히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범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모든 정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특정 용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이 어떤 역할을 하는지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파싱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미분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의성 해결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ff3300"/>
                </a:solidFill>
                <a:latin typeface="Times New Roman"/>
              </a:rPr>
              <a:t>어떤 정보들을 기술할 것인지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실제로 어떻게 활용될 것인지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6FB-811C-4674-99CD-F294DF56833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D7E9F-F819-4DC2-8DB8-2FB4FB2036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의 구축 방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범용사전 구축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바람직한 방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양한 응용 목적 충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목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능에 따라 재가공 루틴 제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통계</a:t>
            </a: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-</a:t>
            </a: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경험 정보의 중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규칙의 범용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빈도정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예외처리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모든 정보는 개별적으로 추출 가능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53A-9668-4781-BFC8-47DCB873E70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039C6-4A61-46CA-941E-30E0E0DBEE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향후 과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문표지와 의미표지 설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생성규칙의 빈도정보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통계적 파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조 중의성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미 중의성 해결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연어정보의 설정 및 기술 방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646-6B74-4B53-836E-1FDFB4AD909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2A5AE-0A51-4476-AA4C-42215644A5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맺음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사전정보 설정의 중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다양한 활용 목적에 적합하게 설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유형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특성별로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ouping :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부사 유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계층적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대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중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소 분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으로 융통성 있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각 응용분야에 대해 구체적으로 정의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각 유형들에 대한 모든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dat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일반규칙과 예외규칙의 구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742-76CD-49DC-9BC8-241988B15CC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FA381-AA72-4267-BE53-E835735CAA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맺음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시행착오에 의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형태소 태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형태소 분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필요하게 많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싱 고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?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충분한지…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vi/vt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4BB-BF14-4F57-8409-6F830520CAF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7E9B6-4470-46CB-B10D-D5B57BFB1E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과 기존 사전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의 용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일반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학생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컴퓨터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L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정보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뜻풀이 위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백과사전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LP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정보 표현 방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간위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컴퓨터 프로그램 위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351-5A79-4652-850F-844B9FE684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3ED61-A997-41FC-AC10-3C840059BE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과 기존 사전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목적의 사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복합 조사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어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소러스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의 특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사    람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통계적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경험적 </a:t>
            </a:r>
            <a:r>
              <a:rPr b="1" i="1" lang="ko-KR" sz="2800" spc="-1" strike="noStrike">
                <a:solidFill>
                  <a:srgbClr val="ff3300"/>
                </a:solidFill>
                <a:latin typeface="Times New Roman"/>
              </a:rPr>
              <a:t>지식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을 갖추고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컴퓨터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통계적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경험적 </a:t>
            </a:r>
            <a:r>
              <a:rPr b="1" i="1" lang="ko-KR" sz="2800" spc="-1" strike="noStrike">
                <a:solidFill>
                  <a:srgbClr val="ff3300"/>
                </a:solidFill>
                <a:latin typeface="Times New Roman"/>
              </a:rPr>
              <a:t>지식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을 사전에 수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는’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시는’의 형태소 분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외처리 사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외규칙의 필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F11-57F1-4144-87D6-A4D92303C5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4A732-4F72-4AFB-B4F5-CC9777FB9C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vs.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규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의 모든 내용을 규칙으로 표현 가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모든 규칙은 사전으로 구축할 수 있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규칙으로 표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적용범위의 넓고 좁음에 따라 결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처리의 효율성과 편의성을 고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기억공간의 효율성 고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9C6-1AF9-42C8-9223-4ABDDC190D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E8A31-6E17-438E-A095-BC4FAD437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 종류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분석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생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문법형태소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어휘형태소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복합어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?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용자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분석 사전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구문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의미 분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문장패턴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미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중의성 해결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?)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생성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생성사전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phrase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사전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A27-8068-4F8F-BFD0-05BF8C1A22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BEB4E-FA1A-4F74-9699-D3E2276972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응용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S/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정보검색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자동색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시소러스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불용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맞춤법 검사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교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분야별 전문용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인명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지명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속어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은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철자교정 사전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기계번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대역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변환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중의성 해결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자연언어 이해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개념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3EA-B73E-47A2-A6F4-B7C783A20A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04C53-4B9D-4241-9BD1-2D6D33A880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2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:VI RG:V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가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가례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가호호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감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EIV:DOT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격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격표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결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EIV:DOIV:DOT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결의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EIV:DOT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경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ODJ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9B2-7C88-44CE-AE83-B313BC4923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E3D55-A967-41D9-BE28-5CA491288A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09:54:24Z</dcterms:created>
  <dc:creator>강승식</dc:creator>
  <dc:description/>
  <dc:language>en-US</dc:language>
  <cp:lastModifiedBy>강승식</cp:lastModifiedBy>
  <cp:lastPrinted>2000-01-13T21:02:00Z</cp:lastPrinted>
  <dcterms:modified xsi:type="dcterms:W3CDTF">2002-07-23T13:51:39Z</dcterms:modified>
  <cp:revision>180</cp:revision>
  <dc:subject/>
  <dc:title>정보 사회와 컴퓨터</dc:title>
</cp:coreProperties>
</file>