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1DD1-F5EC-43D2-93A8-3EEEC901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6855-6776-4AD7-9A3F-8109E492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9020-5C49-438C-9F59-54C678C4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13C5-5972-456A-AC29-731C3BCA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F72B-97FE-469C-8055-C2A735B7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4CCD-D291-4BCF-A3D1-D84026D3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5F62-87CC-493C-ABCE-6CBE9727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3574-84C6-45EC-B2CF-0C4A6A0D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1563-51AD-4F72-9B98-E3510FFF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9DFC-D43C-4A00-AA9A-EE1B6985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92D4-0CF2-4FE3-84CE-02666AFC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73B7-BBA0-4A8B-AA77-CDC41650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152E-CFCC-4EB9-870D-6C8C11CF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576C-9E1E-44B7-83D1-A53004CE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252B-A447-4B99-A2AA-10259693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45DF-F034-4777-85BC-CA16D247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E983-58AA-480B-BD68-2BD0FD1F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CA86-F959-483D-BAA8-656C6A0A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E5A6-9302-4206-A5E5-808D5CD2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774C-56B9-4D95-BC7F-3012F941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0303-33E1-4474-9B46-55D46A5A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29C4-DC91-47EB-B61A-3D8A1088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3F46-A690-4CD7-9024-AC32A549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2170-FA5F-470C-8ED8-3D9C6292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505050"/>
                </a:solidFill>
                <a:latin typeface="Arial"/>
              </a:rPr>
              <a:t>http://nlp.kookmin.ac.k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D67A-4BCD-4145-A275-FDD6A00555DA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279440" indent="-16668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1560600" indent="-166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06640"/>
            <a:ext cx="8001000" cy="6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" name="kookmin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77640" cy="381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95360" y="6238800"/>
            <a:ext cx="2209680" cy="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B9FA-5E19-41AE-8DE1-813E374FD2A5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pic>
        <p:nvPicPr>
          <p:cNvPr id="48" name="kookmin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7932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440" indent="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01480" indent="0" algn="ctr">
              <a:spcBef>
                <a:spcPts val="90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5960" algn="ctr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27320" algn="ctr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0120" algn="ctr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4000" spc="-1" strike="noStrike">
                <a:solidFill>
                  <a:srgbClr val="cd0355"/>
                </a:solidFill>
                <a:latin typeface="Arial"/>
                <a:ea typeface="굴림"/>
              </a:rPr>
              <a:t>16. </a:t>
            </a:r>
            <a:r>
              <a:rPr b="1" i="1" lang="zh-CN" sz="4000" spc="-1" strike="noStrike">
                <a:solidFill>
                  <a:srgbClr val="cd0355"/>
                </a:solidFill>
                <a:latin typeface="Arial"/>
                <a:ea typeface="굴림"/>
              </a:rPr>
              <a:t>불규칙 용언</a:t>
            </a:r>
            <a:endParaRPr b="1" i="1" lang="en-US" sz="40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7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월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국민대학교 컴퓨터학부 강승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자동적 교체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,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비자동적 교체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 algn="just">
              <a:lnSpc>
                <a:spcPct val="14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비자동적 교체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4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ㄷ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ㅂ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ㅅ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ㅎ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러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르’ 불규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14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자동적 교체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4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으’ 탈락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ㄹ’ 탈락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여’ 불규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14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기타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4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우’ 불규칙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거라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너라’ 불규칙 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F7C1-DC72-4436-8FB0-54AA7E13E1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  <a:ea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100000"/>
              </a:lnSpc>
              <a:spcBef>
                <a:spcPts val="1049"/>
              </a:spcBef>
              <a:spcAft>
                <a:spcPts val="275"/>
              </a:spcAft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[</a:t>
            </a: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정의 </a:t>
            </a: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1] ‘</a:t>
            </a: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아</a:t>
            </a: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어’ 탈락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 ‘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하다’로 끝나는 용언을 제외한 ‘ㅏ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ㅓ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ㅐ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ㅔ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펴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켜’로 끝나는 용언이 ‘아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어’로 시작되는 어미와 결합할 때 어미의 첫 음절 ‘아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어’가 탈락되는 자동적 교체 현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신명조"/>
                <a:ea typeface="신명조"/>
              </a:rPr>
              <a:t>‘</a:t>
            </a:r>
            <a:r>
              <a:rPr b="0" lang="zh-CN" sz="2400" spc="-1" strike="noStrike">
                <a:solidFill>
                  <a:srgbClr val="000000"/>
                </a:solidFill>
                <a:latin typeface="신명조"/>
                <a:ea typeface="신명조"/>
              </a:rPr>
              <a:t>ㅏ</a:t>
            </a:r>
            <a:r>
              <a:rPr b="0" lang="en-US" sz="2400" spc="-1" strike="noStrike">
                <a:solidFill>
                  <a:srgbClr val="000000"/>
                </a:solidFill>
                <a:latin typeface="½Å¸íÁ¶"/>
                <a:ea typeface="신명조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신명조"/>
                <a:ea typeface="신명조"/>
              </a:rPr>
              <a:t>ㅓ</a:t>
            </a:r>
            <a:r>
              <a:rPr b="0" lang="en-US" sz="2400" spc="-1" strike="noStrike">
                <a:solidFill>
                  <a:srgbClr val="000000"/>
                </a:solidFill>
                <a:latin typeface="½Å¸íÁ¶"/>
                <a:ea typeface="신명조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신명조"/>
                <a:ea typeface="신명조"/>
              </a:rPr>
              <a:t>펴</a:t>
            </a:r>
            <a:r>
              <a:rPr b="0" lang="en-US" sz="2400" spc="-1" strike="noStrike">
                <a:solidFill>
                  <a:srgbClr val="000000"/>
                </a:solidFill>
                <a:latin typeface="½Å¸íÁ¶"/>
                <a:ea typeface="신명조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신명조"/>
                <a:ea typeface="신명조"/>
              </a:rPr>
              <a:t>켜’로 끝나는 용언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신명조"/>
                <a:ea typeface="신명조"/>
              </a:rPr>
              <a:t>항상 ‘아</a:t>
            </a:r>
            <a:r>
              <a:rPr b="0" lang="en-US" sz="2200" spc="-1" strike="noStrike">
                <a:solidFill>
                  <a:srgbClr val="000000"/>
                </a:solidFill>
                <a:latin typeface="½Å¸íÁ¶"/>
                <a:ea typeface="신명조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신명조"/>
                <a:ea typeface="신명조"/>
              </a:rPr>
              <a:t>어’ 탈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신명조"/>
                <a:ea typeface="신명조"/>
              </a:rPr>
              <a:t>‘</a:t>
            </a:r>
            <a:r>
              <a:rPr b="0" lang="zh-CN" sz="2400" spc="-1" strike="noStrike">
                <a:solidFill>
                  <a:srgbClr val="000000"/>
                </a:solidFill>
                <a:latin typeface="신명조"/>
                <a:ea typeface="신명조"/>
              </a:rPr>
              <a:t>ㅐ</a:t>
            </a:r>
            <a:r>
              <a:rPr b="0" lang="en-US" sz="2400" spc="-1" strike="noStrike">
                <a:solidFill>
                  <a:srgbClr val="000000"/>
                </a:solidFill>
                <a:latin typeface="½Å¸íÁ¶"/>
                <a:ea typeface="신명조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신명조"/>
                <a:ea typeface="신명조"/>
              </a:rPr>
              <a:t>ㅔ’로 끝나는 용언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신명조"/>
                <a:ea typeface="신명조"/>
              </a:rPr>
              <a:t>‘</a:t>
            </a:r>
            <a:r>
              <a:rPr b="0" lang="zh-CN" sz="2200" spc="-1" strike="noStrike">
                <a:solidFill>
                  <a:srgbClr val="000000"/>
                </a:solidFill>
                <a:latin typeface="신명조"/>
                <a:ea typeface="신명조"/>
              </a:rPr>
              <a:t>아</a:t>
            </a:r>
            <a:r>
              <a:rPr b="0" lang="en-US" sz="2200" spc="-1" strike="noStrike">
                <a:solidFill>
                  <a:srgbClr val="000000"/>
                </a:solidFill>
                <a:latin typeface="½Å¸íÁ¶"/>
                <a:ea typeface="신명조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신명조"/>
                <a:ea typeface="신명조"/>
              </a:rPr>
              <a:t>어’가 탈락된 것과 그렇지 않은 것 모두 허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3160-5904-4D15-8049-1B27F695CE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100000"/>
              </a:lnSpc>
              <a:spcBef>
                <a:spcPts val="901"/>
              </a:spcBef>
              <a:spcAft>
                <a:spcPts val="275"/>
              </a:spcAft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[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정의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2]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와’ 변형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푸다’로 끝나는 용언을 제외한 ‘ㅗ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ㅜ’로 끝나는 용언이 ‘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’로 시작되는 어미와 결합할 때 ‘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ㅝ’로 축약되는 자동적 교체 현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오다’의 경우에는 ‘아’로 시작되는 어미와 결합할 때 항상 ‘아’가 탈락되지만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그 외의 용언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보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았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’ </a:t>
            </a:r>
            <a:r>
              <a:rPr b="0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‘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보았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’ 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또는 ‘봤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와 같이 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가 탈락되는 것과 그렇지 않은 것 모두 허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6459-981E-472C-80DB-E73395B403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100000"/>
              </a:lnSpc>
              <a:spcBef>
                <a:spcPts val="1049"/>
              </a:spcBef>
              <a:spcAft>
                <a:spcPts val="275"/>
              </a:spcAft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[</a:t>
            </a: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정의 </a:t>
            </a: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3] ‘</a:t>
            </a: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이’ 변형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 ‘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ㅣ’로 끝나는 용언이 ‘어’로 시작되는 어미와 결합할 때 ‘ㅣ’ 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어’가 ‘ㅕ’로 축약되는 자동적 교체 현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이기다’ 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‘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이기었다’보다 ‘이겼다’가 더 자연스러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피다’ 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“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꽃이 펴 있다”보다 “꽃이 피어 있다”가 더 자연스러움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ED7-4C05-40CD-8154-8A364475F2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자동적 교체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,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비자동적 교체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13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변형의 유형</a:t>
            </a: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-1(</a:t>
            </a: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비자동적 교체</a:t>
            </a: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0" algn="just">
              <a:lnSpc>
                <a:spcPct val="130000"/>
              </a:lnSpc>
              <a:spcBef>
                <a:spcPts val="82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ㄷ’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ㅂ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ㅅ’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ㅎ’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러’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르’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130000"/>
              </a:lnSpc>
              <a:spcBef>
                <a:spcPts val="82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거라’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너라’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왜’ 변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3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변형의 유형</a:t>
            </a: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-2(</a:t>
            </a: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자동적 교체</a:t>
            </a: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ㄹ’ 탈락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으’ 탈락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여’ 변형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어’ 탈락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와’ 변형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이’ 변형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푸’ 변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9F90-D562-480D-8B36-08C96B8492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불규칙 유형 분류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발생 조건에 따라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724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7000"/>
          </a:bodyPr>
          <a:p>
            <a:pPr marL="321840" indent="-321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아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’로 시작되는 어미 앞에서 일어나는 불규칙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43320" indent="-2106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으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푸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우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)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러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르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하여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여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변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-2106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’ 탈락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워’ 축약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왜’ 축약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여’ 축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1840" indent="-321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아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’나 매개모음 ‘으’로 시작되는 어미 앞에서 일어나는 불규칙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: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ㄷ’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,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ㅅ’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1840" indent="-321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아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’로 시작되는 어미나 매개모음 ‘으’를 요구하는 어미 앞에서 일어나는 불규칙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: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ㅂ’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1840" indent="-321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아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’나 ‘ㄴ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ㄹ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ㅁ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ㅂ’으로 시작되는 어미 앞에서 일어나는 불규칙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: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ㅎ’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1840" indent="-321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ㄴ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ㅂ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ㅅ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오’로 시작되는 어미 앞에서 일어나는 불규칙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: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ㄹ’ 탈락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1840" indent="-321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명령형 어미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라’ 앞에서 일어나는 불규칙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: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거라’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,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너라’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9F31-71EC-4D57-99DB-199AE173A2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불규칙 유형 분류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어미 유형에 따라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9000"/>
          </a:bodyPr>
          <a:p>
            <a:pPr marL="328320" indent="-32832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아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’로 시작되는 어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66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ㄷ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ㅅ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ㅂ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ㅎ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르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러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하여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푸’ 변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6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으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’ 탈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6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여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워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왜’ 축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320" indent="-32832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명령형 어미 ‘어라’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: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거라’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,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너라’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-32832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매개모음 ‘으’로 시작되는 어미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: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ㄷ’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,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ㅅ’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-32832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매개모음 ‘으’를 요구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(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ㄴ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ㄹ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오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시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ㅁ’로 시작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)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하는 어미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: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ㅂ’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-32832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ㄴ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ㄹ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ㅁ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ㅂ’으로 시작되는 어미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: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ㅎ’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-32832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ㄴ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ㅂ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ㅅ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오’로 시작되는 어미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: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ㄹ’ 탈락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FD1D-741A-45BF-A586-013D60CCD7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불규칙 유형 분류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zh-CN" sz="3200" spc="-1" strike="noStrike">
                <a:solidFill>
                  <a:srgbClr val="cd0355"/>
                </a:solidFill>
                <a:latin typeface="Arial"/>
                <a:ea typeface="굴림"/>
              </a:rPr>
              <a:t>어간</a:t>
            </a: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/</a:t>
            </a:r>
            <a:r>
              <a:rPr b="1" i="1" lang="zh-CN" sz="3200" spc="-1" strike="noStrike">
                <a:solidFill>
                  <a:srgbClr val="cd0355"/>
                </a:solidFill>
                <a:latin typeface="Arial"/>
                <a:ea typeface="굴림"/>
              </a:rPr>
              <a:t>어미 변형에 따라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12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어간 불규칙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0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ㄷ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ㅅ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ㄹ’ 탈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ㅂ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으’를 요구하는 어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), 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ㅎ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ㅂ’ 시작 어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2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어미 불규칙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0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러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하여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거라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너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아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어’ 탈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2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어간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어미 불규칙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0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르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으’ 탈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푸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여’ 축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워’ 축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왜’ 축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ㅂ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아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어’ 시작 어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), 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ㅎ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아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어’ 시작 어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FA84-C9A2-4D12-A22B-EB065518E6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0:06:18Z</dcterms:created>
  <dc:creator>강승식</dc:creator>
  <dc:description/>
  <dc:language>en-US</dc:language>
  <cp:lastModifiedBy>강승식</cp:lastModifiedBy>
  <dcterms:modified xsi:type="dcterms:W3CDTF">2002-07-23T13:46:05Z</dcterms:modified>
  <cp:revision>27</cp:revision>
  <dc:subject/>
  <dc:title>한국어 정보처리 개요</dc:title>
</cp:coreProperties>
</file>