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4E2A-DA4A-4DC2-A7E9-C3258753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0B36-1F9C-4C06-ABDA-C699CAAB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E48-4E60-4F94-81B2-AC9AACA1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F06-5DE1-4538-AE4F-1AFA235B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430B-858C-43B4-BE11-A0193977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DC9A-F507-4622-80CA-F6C3DF13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3E77-DD23-417A-8ADE-B7078ACF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E67C-2195-4701-9E89-07F670FB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3930-5A33-4C1B-AE9D-510650D0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9EEF-224A-4A7A-B97E-E29CD962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F632-C20D-4D96-8C7B-F3B7FB2C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ED4F-59AB-4CB7-888F-B9CE431B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19CC-A0FF-476F-96D5-EE6FCD56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575E-0110-406C-AAC8-53EAFB02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8ED0-3483-4592-981C-DAC86FA9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01AB-E14F-4EA2-A344-DCBB2592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70D9-E94D-4735-AEE8-C0798EBE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3952-E915-4D06-BED0-CB351AA4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C9A9-5ED8-468D-8DAC-AB23EA44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9CC-94B9-454C-A0D0-D4585BD0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CB23-A883-49E1-8E52-A3DDBB3C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D9F1-09DC-4925-BB60-CC37FECD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2735-DB49-44E7-98E7-E0E4F859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F83F-8316-4DB7-8060-09D3AADA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b991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b372d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b372d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cc990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b372d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b372d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cc990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b372d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1b372d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b372d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1b372d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b372d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b372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b372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b372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b372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b372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840E-DFB1-4ABA-B008-E62699567379}" type="slidenum">
              <a:rPr b="0" lang="en-US" sz="1400" spc="-1" strike="noStrike">
                <a:solidFill>
                  <a:srgbClr val="1b372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b991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b372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b372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b372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b372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b372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4341-EEE1-4975-A967-E01BE84F5633}" type="slidenum">
              <a:rPr b="0" lang="en-US" sz="1400" spc="-1" strike="noStrike">
                <a:solidFill>
                  <a:srgbClr val="1b372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b372d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b372d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lvl="2" marL="914400" algn="ctr">
              <a:spcBef>
                <a:spcPts val="575"/>
              </a:spcBef>
              <a:buClr>
                <a:srgbClr val="cc9900"/>
              </a:buClr>
              <a:buSzPct val="75000"/>
              <a:buFont typeface="Wingdings 2" charset="2"/>
              <a:buChar char="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b372d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1b372d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372d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1b372d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SzPct val="75000"/>
              <a:buFont typeface="Wingdings 2" charset="2"/>
              <a:buChar char="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372d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1b372d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1b372d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372d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1b372d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1b372d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372d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1b372d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1447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1fb991"/>
                </a:solidFill>
                <a:latin typeface="굴림"/>
                <a:ea typeface="바탕"/>
              </a:rPr>
              <a:t>한국어 어절 빈도 조사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35812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b372d"/>
                </a:solidFill>
                <a:latin typeface="굴림"/>
              </a:rPr>
              <a:t>2002. 7</a:t>
            </a: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b372d"/>
                </a:solidFill>
                <a:latin typeface="굴림"/>
              </a:rPr>
              <a:t>강 승 식</a:t>
            </a: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b372d"/>
                </a:solidFill>
                <a:latin typeface="굴림"/>
              </a:rPr>
              <a:t>국민대학교 컴퓨터학부</a:t>
            </a: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b991"/>
                </a:solidFill>
                <a:latin typeface="굴림"/>
              </a:rPr>
              <a:t>Word Coverage Graph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741" name=""/>
          <p:cNvSpPr/>
          <p:nvPr/>
        </p:nvSpPr>
        <p:spPr>
          <a:xfrm>
            <a:off x="222408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1143000" y="1828800"/>
          <a:ext cx="6781680" cy="4268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828800"/>
                    <a:ext cx="6781680" cy="42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C554-4B60-45F9-9599-45FD573B9E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1fb991"/>
                </a:solidFill>
                <a:latin typeface="굴림"/>
              </a:rPr>
              <a:t>Conclusion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Times New Roman"/>
              </a:rPr>
              <a:t>고빈도 </a:t>
            </a:r>
            <a:r>
              <a:rPr b="0" lang="ko-KR" sz="2600" spc="-1" strike="noStrike">
                <a:solidFill>
                  <a:srgbClr val="1b372d"/>
                </a:solidFill>
                <a:latin typeface="Times New Roman"/>
                <a:ea typeface="Times New Roman"/>
              </a:rPr>
              <a:t>184,128 </a:t>
            </a:r>
            <a:r>
              <a:rPr b="0" lang="ko-KR" sz="2600" spc="-1" strike="noStrike">
                <a:solidFill>
                  <a:srgbClr val="1b372d"/>
                </a:solidFill>
                <a:latin typeface="Times New Roman"/>
              </a:rPr>
              <a:t>어절이 </a:t>
            </a:r>
            <a:r>
              <a:rPr b="0" lang="ko-KR" sz="2600" spc="-1" strike="noStrike">
                <a:solidFill>
                  <a:srgbClr val="1b372d"/>
                </a:solidFill>
                <a:latin typeface="Times New Roman"/>
              </a:rPr>
              <a:t>81.6%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Times New Roman"/>
              </a:rPr>
              <a:t>   </a:t>
            </a:r>
            <a:r>
              <a:rPr b="0" lang="ko-KR" sz="2600" spc="-1" strike="noStrike">
                <a:solidFill>
                  <a:srgbClr val="1b372d"/>
                </a:solidFill>
                <a:latin typeface="Times New Roman"/>
              </a:rPr>
              <a:t>(30</a:t>
            </a:r>
            <a:r>
              <a:rPr b="0" lang="ko-KR" sz="2600" spc="-1" strike="noStrike">
                <a:solidFill>
                  <a:srgbClr val="1b372d"/>
                </a:solidFill>
                <a:latin typeface="Times New Roman"/>
              </a:rPr>
              <a:t>어절</a:t>
            </a:r>
            <a:r>
              <a:rPr b="0" lang="ko-KR" sz="2600" spc="-1" strike="noStrike">
                <a:solidFill>
                  <a:srgbClr val="1b372d"/>
                </a:solidFill>
                <a:latin typeface="Times New Roman"/>
              </a:rPr>
              <a:t>: 7.7%,          563</a:t>
            </a:r>
            <a:r>
              <a:rPr b="0" lang="ko-KR" sz="2600" spc="-1" strike="noStrike">
                <a:solidFill>
                  <a:srgbClr val="1b372d"/>
                </a:solidFill>
                <a:latin typeface="Times New Roman"/>
              </a:rPr>
              <a:t>어절</a:t>
            </a:r>
            <a:r>
              <a:rPr b="0" lang="ko-KR" sz="2600" spc="-1" strike="noStrike">
                <a:solidFill>
                  <a:srgbClr val="1b372d"/>
                </a:solidFill>
                <a:latin typeface="Times New Roman"/>
              </a:rPr>
              <a:t>: 24.5%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Times New Roman"/>
              </a:rPr>
              <a:t>    </a:t>
            </a:r>
            <a:r>
              <a:rPr b="0" lang="ko-KR" sz="2600" spc="-1" strike="noStrike">
                <a:solidFill>
                  <a:srgbClr val="1b372d"/>
                </a:solidFill>
                <a:latin typeface="Times New Roman"/>
              </a:rPr>
              <a:t>9,484</a:t>
            </a:r>
            <a:r>
              <a:rPr b="0" lang="ko-KR" sz="2600" spc="-1" strike="noStrike">
                <a:solidFill>
                  <a:srgbClr val="1b372d"/>
                </a:solidFill>
                <a:latin typeface="Times New Roman"/>
              </a:rPr>
              <a:t>어절</a:t>
            </a:r>
            <a:r>
              <a:rPr b="0" lang="ko-KR" sz="2600" spc="-1" strike="noStrike">
                <a:solidFill>
                  <a:srgbClr val="1b372d"/>
                </a:solidFill>
                <a:latin typeface="Times New Roman"/>
              </a:rPr>
              <a:t>: 51.5%,    99,213</a:t>
            </a:r>
            <a:r>
              <a:rPr b="0" lang="ko-KR" sz="2600" spc="-1" strike="noStrike">
                <a:solidFill>
                  <a:srgbClr val="1b372d"/>
                </a:solidFill>
                <a:latin typeface="Times New Roman"/>
              </a:rPr>
              <a:t>어절</a:t>
            </a:r>
            <a:r>
              <a:rPr b="0" lang="ko-KR" sz="2600" spc="-1" strike="noStrike">
                <a:solidFill>
                  <a:srgbClr val="1b372d"/>
                </a:solidFill>
                <a:latin typeface="Times New Roman"/>
              </a:rPr>
              <a:t>: 76.5%)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Times New Roman"/>
              </a:rPr>
              <a:t>NLP </a:t>
            </a:r>
            <a:r>
              <a:rPr b="0" lang="ko-KR" sz="2600" spc="-1" strike="noStrike">
                <a:solidFill>
                  <a:srgbClr val="1b372d"/>
                </a:solidFill>
                <a:latin typeface="Times New Roman"/>
              </a:rPr>
              <a:t>연구</a:t>
            </a:r>
            <a:r>
              <a:rPr b="0" lang="ko-KR" sz="2600" spc="-1" strike="noStrike">
                <a:solidFill>
                  <a:srgbClr val="1b372d"/>
                </a:solidFill>
                <a:latin typeface="Times New Roman"/>
              </a:rPr>
              <a:t>-</a:t>
            </a:r>
            <a:r>
              <a:rPr b="0" lang="ko-KR" sz="2600" spc="-1" strike="noStrike">
                <a:solidFill>
                  <a:srgbClr val="1b372d"/>
                </a:solidFill>
                <a:latin typeface="Times New Roman"/>
              </a:rPr>
              <a:t>개발에 활용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1b372d"/>
                </a:solidFill>
                <a:latin typeface="Times New Roman"/>
              </a:rPr>
              <a:t>Spell check/correction</a:t>
            </a:r>
            <a:endParaRPr b="0" lang="en-US" sz="2200" spc="-1" strike="noStrike">
              <a:solidFill>
                <a:srgbClr val="1b372d"/>
              </a:solidFill>
              <a:latin typeface="굴림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1b372d"/>
                </a:solidFill>
                <a:latin typeface="Times New Roman"/>
              </a:rPr>
              <a:t>형태소 분석</a:t>
            </a:r>
            <a:r>
              <a:rPr b="0" lang="ko-KR" sz="2200" spc="-1" strike="noStrike">
                <a:solidFill>
                  <a:srgbClr val="1b372d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1b372d"/>
                </a:solidFill>
                <a:latin typeface="Times New Roman"/>
              </a:rPr>
              <a:t>태깅</a:t>
            </a:r>
            <a:r>
              <a:rPr b="0" lang="ko-KR" sz="2200" spc="-1" strike="noStrike">
                <a:solidFill>
                  <a:srgbClr val="1b372d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1b372d"/>
                </a:solidFill>
                <a:latin typeface="Times New Roman"/>
              </a:rPr>
              <a:t>자동 띄어쓰기</a:t>
            </a:r>
            <a:endParaRPr b="0" lang="en-US" sz="2200" spc="-1" strike="noStrike">
              <a:solidFill>
                <a:srgbClr val="1b372d"/>
              </a:solidFill>
              <a:latin typeface="굴림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1b372d"/>
                </a:solidFill>
                <a:latin typeface="Times New Roman"/>
              </a:rPr>
              <a:t>음성인식</a:t>
            </a:r>
            <a:r>
              <a:rPr b="0" lang="ko-KR" sz="2200" spc="-1" strike="noStrike">
                <a:solidFill>
                  <a:srgbClr val="1b372d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1b372d"/>
                </a:solidFill>
                <a:latin typeface="Times New Roman"/>
              </a:rPr>
              <a:t>문자인식 정확도 향상에 적용</a:t>
            </a:r>
            <a:endParaRPr b="0" lang="en-US" sz="2200" spc="-1" strike="noStrike">
              <a:solidFill>
                <a:srgbClr val="1b372d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Times New Roman"/>
              </a:rPr>
              <a:t>어절 </a:t>
            </a:r>
            <a:r>
              <a:rPr b="0" lang="ko-KR" sz="2600" spc="-1" strike="noStrike">
                <a:solidFill>
                  <a:srgbClr val="1b372d"/>
                </a:solidFill>
                <a:latin typeface="Times New Roman"/>
              </a:rPr>
              <a:t>bigram </a:t>
            </a:r>
            <a:r>
              <a:rPr b="0" lang="ko-KR" sz="2600" spc="-1" strike="noStrike">
                <a:solidFill>
                  <a:srgbClr val="1b372d"/>
                </a:solidFill>
                <a:latin typeface="Times New Roman"/>
              </a:rPr>
              <a:t>정보의 추출 및 활용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1b372d"/>
                </a:solidFill>
                <a:latin typeface="Times New Roman"/>
              </a:rPr>
              <a:t>고빈도 어절에 대해서만 어절 </a:t>
            </a:r>
            <a:r>
              <a:rPr b="0" lang="ko-KR" sz="2200" spc="-1" strike="noStrike">
                <a:solidFill>
                  <a:srgbClr val="1b372d"/>
                </a:solidFill>
                <a:latin typeface="Times New Roman"/>
              </a:rPr>
              <a:t>bigram </a:t>
            </a:r>
            <a:r>
              <a:rPr b="0" lang="ko-KR" sz="2200" spc="-1" strike="noStrike">
                <a:solidFill>
                  <a:srgbClr val="1b372d"/>
                </a:solidFill>
                <a:latin typeface="Times New Roman"/>
              </a:rPr>
              <a:t>추출</a:t>
            </a:r>
            <a:endParaRPr b="0" lang="en-US" sz="2200" spc="-1" strike="noStrike">
              <a:solidFill>
                <a:srgbClr val="1b372d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e43c08"/>
                </a:solidFill>
                <a:latin typeface="Times New Roman"/>
              </a:rPr>
              <a:t>Demo Site --- http://nlp.kookmin.ac.kr/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9813-D134-4F30-85F8-6BE00E6EA9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1fb991"/>
                </a:solidFill>
                <a:latin typeface="굴림"/>
              </a:rPr>
              <a:t>연구배경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b372d"/>
                </a:solidFill>
                <a:latin typeface="굴림"/>
              </a:rPr>
              <a:t>음절 출현빈도</a:t>
            </a: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조사대상 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-- 3100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만 음절 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corpus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280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개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(90%), 714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개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(99%), 2026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개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(100%)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문자인식 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S/W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에서 활용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b372d"/>
                </a:solidFill>
                <a:latin typeface="굴림"/>
              </a:rPr>
              <a:t>어절 출현빈도의 활용 분야</a:t>
            </a: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맞춤법 검사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/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교정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띄어쓰기 오류어 교정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형태소 태깅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, tagged corpus 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구축 등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0F8F-2D6D-46A9-8FBF-DC05E88732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1fb991"/>
                </a:solidFill>
                <a:latin typeface="굴림"/>
              </a:rPr>
              <a:t>말뭉치 구성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14400" y="2057400"/>
            <a:ext cx="7619400" cy="3962160"/>
            <a:chOff x="914400" y="2057400"/>
            <a:chExt cx="7619400" cy="3962160"/>
          </a:xfrm>
        </p:grpSpPr>
        <p:grpSp>
          <p:nvGrpSpPr>
            <p:cNvPr id="89" name=""/>
            <p:cNvGrpSpPr/>
            <p:nvPr/>
          </p:nvGrpSpPr>
          <p:grpSpPr>
            <a:xfrm>
              <a:off x="921240" y="2062080"/>
              <a:ext cx="7604280" cy="3951720"/>
              <a:chOff x="921240" y="2062080"/>
              <a:chExt cx="7604280" cy="395172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921240" y="2062080"/>
                <a:ext cx="2055240" cy="1154160"/>
                <a:chOff x="921240" y="2062080"/>
                <a:chExt cx="2055240" cy="11541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995400" y="2062080"/>
                  <a:ext cx="1906920" cy="11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b372d"/>
                      </a:solidFill>
                      <a:latin typeface="Times New Roman"/>
                      <a:ea typeface="Times New Roman"/>
                    </a:rPr>
                    <a:t>corpus</a:t>
                  </a:r>
                  <a:endParaRPr b="0" lang="en-US" sz="2000" spc="-1" strike="noStrike">
                    <a:solidFill>
                      <a:srgbClr val="1b372d"/>
                    </a:solidFill>
                    <a:latin typeface="굴림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b372d"/>
                      </a:solidFill>
                      <a:latin typeface="Times New Roman"/>
                      <a:ea typeface="Times New Roman"/>
                    </a:rPr>
                    <a:t>words</a:t>
                  </a:r>
                  <a:endParaRPr b="0" lang="en-US" sz="2000" spc="-1" strike="noStrike">
                    <a:solidFill>
                      <a:srgbClr val="1b372d"/>
                    </a:solidFill>
                    <a:latin typeface="굴림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921240" y="2062080"/>
                  <a:ext cx="2055240" cy="11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b372d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2977200" y="2062080"/>
                <a:ext cx="1848600" cy="1154160"/>
                <a:chOff x="2977200" y="2062080"/>
                <a:chExt cx="1848600" cy="11541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3051360" y="2062080"/>
                  <a:ext cx="1700280" cy="11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b372d"/>
                      </a:solidFill>
                      <a:latin typeface="Times New Roman"/>
                      <a:ea typeface="Times New Roman"/>
                    </a:rPr>
                    <a:t>Corpus 1</a:t>
                  </a:r>
                  <a:endParaRPr b="0" lang="en-US" sz="2000" spc="-1" strike="noStrike">
                    <a:solidFill>
                      <a:srgbClr val="1b372d"/>
                    </a:solidFill>
                    <a:latin typeface="굴림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b372d"/>
                      </a:solidFill>
                      <a:latin typeface="Times New Roman"/>
                      <a:ea typeface="Times New Roman"/>
                    </a:rPr>
                    <a:t>(Sejong 98, 99)</a:t>
                  </a:r>
                  <a:endParaRPr b="0" lang="en-US" sz="2000" spc="-1" strike="noStrike">
                    <a:solidFill>
                      <a:srgbClr val="1b372d"/>
                    </a:solidFill>
                    <a:latin typeface="굴림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977200" y="2062080"/>
                  <a:ext cx="1848600" cy="11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b372d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826520" y="2062080"/>
                <a:ext cx="1798200" cy="1154160"/>
                <a:chOff x="4826520" y="2062080"/>
                <a:chExt cx="1798200" cy="1154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900680" y="2062080"/>
                  <a:ext cx="1649880" cy="11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b372d"/>
                      </a:solidFill>
                      <a:latin typeface="Times New Roman"/>
                      <a:ea typeface="Times New Roman"/>
                    </a:rPr>
                    <a:t>Corpus 2</a:t>
                  </a:r>
                  <a:endParaRPr b="0" lang="en-US" sz="2000" spc="-1" strike="noStrike">
                    <a:solidFill>
                      <a:srgbClr val="1b372d"/>
                    </a:solidFill>
                    <a:latin typeface="굴림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b372d"/>
                      </a:solidFill>
                      <a:latin typeface="Times New Roman"/>
                      <a:ea typeface="Times New Roman"/>
                    </a:rPr>
                    <a:t>(KTSET </a:t>
                  </a:r>
                  <a:r>
                    <a:rPr b="0" lang="zh-CN" sz="2000" spc="-1" strike="noStrike">
                      <a:solidFill>
                        <a:srgbClr val="1b372d"/>
                      </a:solidFill>
                      <a:latin typeface="Times New Roman"/>
                    </a:rPr>
                    <a:t>외</a:t>
                  </a:r>
                  <a:r>
                    <a:rPr b="0" lang="en-US" sz="2000" spc="-1" strike="noStrike">
                      <a:solidFill>
                        <a:srgbClr val="1b372d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1b372d"/>
                    </a:solidFill>
                    <a:latin typeface="굴림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826520" y="2062080"/>
                  <a:ext cx="1798200" cy="11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b372d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6625800" y="2062080"/>
                <a:ext cx="1899720" cy="1154160"/>
                <a:chOff x="6625800" y="2062080"/>
                <a:chExt cx="1899720" cy="11541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6699960" y="2062080"/>
                  <a:ext cx="1751400" cy="11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b372d"/>
                      </a:solidFill>
                      <a:latin typeface="Times New Roman"/>
                      <a:ea typeface="Times New Roman"/>
                    </a:rPr>
                    <a:t>Corpus 3</a:t>
                  </a:r>
                  <a:endParaRPr b="0" lang="en-US" sz="2000" spc="-1" strike="noStrike">
                    <a:solidFill>
                      <a:srgbClr val="1b372d"/>
                    </a:solidFill>
                    <a:latin typeface="굴림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b372d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1b372d"/>
                      </a:solidFill>
                      <a:latin typeface="Times New Roman"/>
                    </a:rPr>
                    <a:t>ETRI corpus)</a:t>
                  </a:r>
                  <a:endParaRPr b="0" lang="en-US" sz="2000" spc="-1" strike="noStrike">
                    <a:solidFill>
                      <a:srgbClr val="1b372d"/>
                    </a:solidFill>
                    <a:latin typeface="굴림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625800" y="2062080"/>
                  <a:ext cx="1899720" cy="11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b372d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921240" y="3216600"/>
                <a:ext cx="2055240" cy="1643400"/>
                <a:chOff x="921240" y="3216600"/>
                <a:chExt cx="2055240" cy="16434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995400" y="3216600"/>
                  <a:ext cx="1906920" cy="164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b372d"/>
                      </a:solidFill>
                      <a:latin typeface="Times New Roman"/>
                      <a:ea typeface="Times New Roman"/>
                    </a:rPr>
                    <a:t>Hangul words</a:t>
                  </a:r>
                  <a:endParaRPr b="0" lang="en-US" sz="2000" spc="-1" strike="noStrike">
                    <a:solidFill>
                      <a:srgbClr val="1b372d"/>
                    </a:solidFill>
                    <a:latin typeface="굴림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b372d"/>
                      </a:solidFill>
                      <a:latin typeface="Times New Roman"/>
                      <a:ea typeface="Times New Roman"/>
                    </a:rPr>
                    <a:t>(total words)</a:t>
                  </a:r>
                  <a:endParaRPr b="0" lang="en-US" sz="2000" spc="-1" strike="noStrike">
                    <a:solidFill>
                      <a:srgbClr val="1b372d"/>
                    </a:solidFill>
                    <a:latin typeface="굴림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921240" y="3216600"/>
                  <a:ext cx="2055240" cy="164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b372d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2977200" y="3216600"/>
                <a:ext cx="1848600" cy="1643400"/>
                <a:chOff x="2977200" y="3216600"/>
                <a:chExt cx="1848600" cy="16434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51360" y="3216600"/>
                  <a:ext cx="1700280" cy="164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b372d"/>
                      </a:solidFill>
                      <a:latin typeface="Times New Roman"/>
                      <a:ea typeface="Times New Roman"/>
                    </a:rPr>
                    <a:t>14,003,474</a:t>
                  </a:r>
                  <a:endParaRPr b="0" lang="en-US" sz="2000" spc="-1" strike="noStrike">
                    <a:solidFill>
                      <a:srgbClr val="1b372d"/>
                    </a:solidFill>
                    <a:latin typeface="굴림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b372d"/>
                      </a:solidFill>
                      <a:latin typeface="Times New Roman"/>
                      <a:ea typeface="Times New Roman"/>
                    </a:rPr>
                    <a:t>(15,231,638)</a:t>
                  </a:r>
                  <a:endParaRPr b="0" lang="en-US" sz="2000" spc="-1" strike="noStrike">
                    <a:solidFill>
                      <a:srgbClr val="1b372d"/>
                    </a:solidFill>
                    <a:latin typeface="굴림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977200" y="3216600"/>
                  <a:ext cx="1848600" cy="164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b372d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826520" y="3216600"/>
                <a:ext cx="1798200" cy="1643400"/>
                <a:chOff x="4826520" y="3216600"/>
                <a:chExt cx="1798200" cy="164340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4900680" y="3216600"/>
                  <a:ext cx="1649880" cy="164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b372d"/>
                      </a:solidFill>
                      <a:latin typeface="Times New Roman"/>
                      <a:ea typeface="Times New Roman"/>
                    </a:rPr>
                    <a:t>6,778,965</a:t>
                  </a:r>
                  <a:endParaRPr b="0" lang="en-US" sz="2000" spc="-1" strike="noStrike">
                    <a:solidFill>
                      <a:srgbClr val="1b372d"/>
                    </a:solidFill>
                    <a:latin typeface="굴림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b372d"/>
                      </a:solidFill>
                      <a:latin typeface="Times New Roman"/>
                      <a:ea typeface="Times New Roman"/>
                    </a:rPr>
                    <a:t>(7,185,665)</a:t>
                  </a:r>
                  <a:endParaRPr b="0" lang="en-US" sz="2000" spc="-1" strike="noStrike">
                    <a:solidFill>
                      <a:srgbClr val="1b372d"/>
                    </a:solidFill>
                    <a:latin typeface="굴림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826520" y="3216600"/>
                  <a:ext cx="1798200" cy="164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b372d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6625800" y="3216600"/>
                <a:ext cx="1899720" cy="1643400"/>
                <a:chOff x="6625800" y="3216600"/>
                <a:chExt cx="1899720" cy="164340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699960" y="3216600"/>
                  <a:ext cx="1751400" cy="164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b372d"/>
                      </a:solidFill>
                      <a:latin typeface="Times New Roman"/>
                      <a:ea typeface="Times New Roman"/>
                    </a:rPr>
                    <a:t>977,394</a:t>
                  </a:r>
                  <a:endParaRPr b="0" lang="en-US" sz="2000" spc="-1" strike="noStrike">
                    <a:solidFill>
                      <a:srgbClr val="1b372d"/>
                    </a:solidFill>
                    <a:latin typeface="굴림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b372d"/>
                      </a:solidFill>
                      <a:latin typeface="Times New Roman"/>
                      <a:ea typeface="Times New Roman"/>
                    </a:rPr>
                    <a:t>(1,030,639)</a:t>
                  </a:r>
                  <a:endParaRPr b="0" lang="en-US" sz="2000" spc="-1" strike="noStrike">
                    <a:solidFill>
                      <a:srgbClr val="1b372d"/>
                    </a:solidFill>
                    <a:latin typeface="굴림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625800" y="3216600"/>
                  <a:ext cx="1899720" cy="164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b372d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921240" y="4860360"/>
                <a:ext cx="2055240" cy="1153440"/>
                <a:chOff x="921240" y="4860360"/>
                <a:chExt cx="2055240" cy="11534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995400" y="4860360"/>
                  <a:ext cx="1906920" cy="11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b372d"/>
                      </a:solidFill>
                      <a:latin typeface="Times New Roman"/>
                      <a:ea typeface="Times New Roman"/>
                    </a:rPr>
                    <a:t>Unique words</a:t>
                  </a:r>
                  <a:endParaRPr b="0" lang="en-US" sz="2000" spc="-1" strike="noStrike">
                    <a:solidFill>
                      <a:srgbClr val="1b372d"/>
                    </a:solidFill>
                    <a:latin typeface="굴림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921240" y="4860360"/>
                  <a:ext cx="2055240" cy="11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b372d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7200" y="4860360"/>
                <a:ext cx="1848600" cy="1153440"/>
                <a:chOff x="2977200" y="4860360"/>
                <a:chExt cx="1848600" cy="11534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051360" y="4860360"/>
                  <a:ext cx="1700280" cy="11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b372d"/>
                      </a:solidFill>
                      <a:latin typeface="Times New Roman"/>
                      <a:ea typeface="Times New Roman"/>
                    </a:rPr>
                    <a:t>1,494,646</a:t>
                  </a:r>
                  <a:endParaRPr b="0" lang="en-US" sz="2000" spc="-1" strike="noStrike">
                    <a:solidFill>
                      <a:srgbClr val="1b372d"/>
                    </a:solidFill>
                    <a:latin typeface="굴림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977200" y="4860360"/>
                  <a:ext cx="1848600" cy="11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b372d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826520" y="4860360"/>
                <a:ext cx="1798200" cy="1153440"/>
                <a:chOff x="4826520" y="4860360"/>
                <a:chExt cx="1798200" cy="11534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900680" y="4860360"/>
                  <a:ext cx="1649880" cy="11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b372d"/>
                      </a:solidFill>
                      <a:latin typeface="Times New Roman"/>
                      <a:ea typeface="Times New Roman"/>
                    </a:rPr>
                    <a:t>926,495</a:t>
                  </a:r>
                  <a:endParaRPr b="0" lang="en-US" sz="2000" spc="-1" strike="noStrike">
                    <a:solidFill>
                      <a:srgbClr val="1b372d"/>
                    </a:solidFill>
                    <a:latin typeface="굴림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826520" y="4860360"/>
                  <a:ext cx="1798200" cy="11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b372d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6625800" y="4860360"/>
                <a:ext cx="1899720" cy="1153440"/>
                <a:chOff x="6625800" y="4860360"/>
                <a:chExt cx="1899720" cy="11534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6699960" y="4860360"/>
                  <a:ext cx="1751400" cy="11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b372d"/>
                      </a:solidFill>
                      <a:latin typeface="Times New Roman"/>
                      <a:ea typeface="Times New Roman"/>
                    </a:rPr>
                    <a:t>171,455</a:t>
                  </a:r>
                  <a:endParaRPr b="0" lang="en-US" sz="2000" spc="-1" strike="noStrike">
                    <a:solidFill>
                      <a:srgbClr val="1b372d"/>
                    </a:solidFill>
                    <a:latin typeface="굴림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25800" y="4860360"/>
                  <a:ext cx="1899720" cy="11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b372d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126" name=""/>
            <p:cNvSpPr/>
            <p:nvPr/>
          </p:nvSpPr>
          <p:spPr>
            <a:xfrm>
              <a:off x="914400" y="2057400"/>
              <a:ext cx="7619400" cy="396216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b372d"/>
                </a:solidFill>
                <a:latin typeface="굴림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914400" y="2057400"/>
            <a:ext cx="2057400" cy="1143000"/>
          </a:xfrm>
          <a:prstGeom prst="line">
            <a:avLst/>
          </a:prstGeom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A4A2-C7EB-47EB-891F-D05EF01BF3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1fb991"/>
                </a:solidFill>
                <a:latin typeface="굴림"/>
              </a:rPr>
              <a:t>어절빈도 조사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1b372d"/>
              </a:solidFill>
              <a:latin typeface="굴림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14400" y="1752480"/>
            <a:ext cx="7542720" cy="4422960"/>
            <a:chOff x="914400" y="1752480"/>
            <a:chExt cx="7542720" cy="4422960"/>
          </a:xfrm>
        </p:grpSpPr>
        <p:grpSp>
          <p:nvGrpSpPr>
            <p:cNvPr id="131" name=""/>
            <p:cNvGrpSpPr/>
            <p:nvPr/>
          </p:nvGrpSpPr>
          <p:grpSpPr>
            <a:xfrm>
              <a:off x="914400" y="1752480"/>
              <a:ext cx="988200" cy="1082520"/>
              <a:chOff x="914400" y="1752480"/>
              <a:chExt cx="988200" cy="1082520"/>
            </a:xfrm>
          </p:grpSpPr>
          <p:sp>
            <p:nvSpPr>
              <p:cNvPr id="132" name=""/>
              <p:cNvSpPr/>
              <p:nvPr/>
            </p:nvSpPr>
            <p:spPr>
              <a:xfrm>
                <a:off x="963720" y="1752480"/>
                <a:ext cx="889560" cy="10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Corpus</a:t>
                </a:r>
                <a:endParaRPr b="0" lang="en-US" sz="1400" spc="-1" strike="noStrike">
                  <a:solidFill>
                    <a:srgbClr val="1b372d"/>
                  </a:solidFill>
                  <a:latin typeface="굴림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914400" y="1752480"/>
                <a:ext cx="988200" cy="1082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1902960" y="1752480"/>
              <a:ext cx="2229480" cy="477000"/>
              <a:chOff x="1902960" y="1752480"/>
              <a:chExt cx="2229480" cy="477000"/>
            </a:xfrm>
          </p:grpSpPr>
          <p:sp>
            <p:nvSpPr>
              <p:cNvPr id="135" name=""/>
              <p:cNvSpPr/>
              <p:nvPr/>
            </p:nvSpPr>
            <p:spPr>
              <a:xfrm>
                <a:off x="1952280" y="1752480"/>
                <a:ext cx="213048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Corpus 1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02960" y="1752480"/>
                <a:ext cx="222948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4133160" y="1752480"/>
              <a:ext cx="2139480" cy="477000"/>
              <a:chOff x="4133160" y="1752480"/>
              <a:chExt cx="2139480" cy="477000"/>
            </a:xfrm>
          </p:grpSpPr>
          <p:sp>
            <p:nvSpPr>
              <p:cNvPr id="138" name=""/>
              <p:cNvSpPr/>
              <p:nvPr/>
            </p:nvSpPr>
            <p:spPr>
              <a:xfrm>
                <a:off x="4182480" y="1752480"/>
                <a:ext cx="204048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Corpus 2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33160" y="1752480"/>
                <a:ext cx="213948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6273000" y="1752480"/>
              <a:ext cx="2184120" cy="477000"/>
              <a:chOff x="6273000" y="1752480"/>
              <a:chExt cx="2184120" cy="477000"/>
            </a:xfrm>
          </p:grpSpPr>
          <p:sp>
            <p:nvSpPr>
              <p:cNvPr id="141" name=""/>
              <p:cNvSpPr/>
              <p:nvPr/>
            </p:nvSpPr>
            <p:spPr>
              <a:xfrm>
                <a:off x="6322320" y="1752480"/>
                <a:ext cx="208512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Corpus 3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273000" y="1752480"/>
                <a:ext cx="218412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1902960" y="2229480"/>
              <a:ext cx="1069560" cy="605520"/>
              <a:chOff x="1902960" y="2229480"/>
              <a:chExt cx="1069560" cy="605520"/>
            </a:xfrm>
          </p:grpSpPr>
          <p:sp>
            <p:nvSpPr>
              <p:cNvPr id="144" name=""/>
              <p:cNvSpPr/>
              <p:nvPr/>
            </p:nvSpPr>
            <p:spPr>
              <a:xfrm>
                <a:off x="1952280" y="2229480"/>
                <a:ext cx="970560" cy="60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Min. freq.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902960" y="2229480"/>
                <a:ext cx="1069560" cy="605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2973240" y="2229480"/>
              <a:ext cx="1159560" cy="605520"/>
              <a:chOff x="2973240" y="2229480"/>
              <a:chExt cx="1159560" cy="605520"/>
            </a:xfrm>
          </p:grpSpPr>
          <p:sp>
            <p:nvSpPr>
              <p:cNvPr id="147" name=""/>
              <p:cNvSpPr/>
              <p:nvPr/>
            </p:nvSpPr>
            <p:spPr>
              <a:xfrm>
                <a:off x="3022560" y="2229480"/>
                <a:ext cx="1060560" cy="60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# of words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973240" y="2229480"/>
                <a:ext cx="1159560" cy="605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4133160" y="2229480"/>
              <a:ext cx="1069560" cy="605520"/>
              <a:chOff x="4133160" y="2229480"/>
              <a:chExt cx="1069560" cy="605520"/>
            </a:xfrm>
          </p:grpSpPr>
          <p:sp>
            <p:nvSpPr>
              <p:cNvPr id="150" name=""/>
              <p:cNvSpPr/>
              <p:nvPr/>
            </p:nvSpPr>
            <p:spPr>
              <a:xfrm>
                <a:off x="4182480" y="2229480"/>
                <a:ext cx="970560" cy="60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Min. freq.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133160" y="2229480"/>
                <a:ext cx="1069560" cy="605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5203080" y="2229480"/>
              <a:ext cx="1069560" cy="605520"/>
              <a:chOff x="5203080" y="2229480"/>
              <a:chExt cx="1069560" cy="605520"/>
            </a:xfrm>
          </p:grpSpPr>
          <p:sp>
            <p:nvSpPr>
              <p:cNvPr id="153" name=""/>
              <p:cNvSpPr/>
              <p:nvPr/>
            </p:nvSpPr>
            <p:spPr>
              <a:xfrm>
                <a:off x="5252400" y="2229480"/>
                <a:ext cx="970560" cy="60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# of words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203080" y="2229480"/>
                <a:ext cx="1069560" cy="605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6273000" y="2229480"/>
              <a:ext cx="1069560" cy="605520"/>
              <a:chOff x="6273000" y="2229480"/>
              <a:chExt cx="1069560" cy="605520"/>
            </a:xfrm>
          </p:grpSpPr>
          <p:sp>
            <p:nvSpPr>
              <p:cNvPr id="156" name=""/>
              <p:cNvSpPr/>
              <p:nvPr/>
            </p:nvSpPr>
            <p:spPr>
              <a:xfrm>
                <a:off x="6322320" y="2229480"/>
                <a:ext cx="970560" cy="60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Min. freq.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273000" y="2229480"/>
                <a:ext cx="1069560" cy="605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7342920" y="2229480"/>
              <a:ext cx="1114200" cy="605520"/>
              <a:chOff x="7342920" y="2229480"/>
              <a:chExt cx="1114200" cy="605520"/>
            </a:xfrm>
          </p:grpSpPr>
          <p:sp>
            <p:nvSpPr>
              <p:cNvPr id="159" name=""/>
              <p:cNvSpPr/>
              <p:nvPr/>
            </p:nvSpPr>
            <p:spPr>
              <a:xfrm>
                <a:off x="7392240" y="2229480"/>
                <a:ext cx="1015200" cy="60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# of words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342920" y="2229480"/>
                <a:ext cx="1114200" cy="605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914400" y="2835000"/>
              <a:ext cx="988200" cy="477000"/>
              <a:chOff x="914400" y="2835000"/>
              <a:chExt cx="988200" cy="477000"/>
            </a:xfrm>
          </p:grpSpPr>
          <p:sp>
            <p:nvSpPr>
              <p:cNvPr id="162" name=""/>
              <p:cNvSpPr/>
              <p:nvPr/>
            </p:nvSpPr>
            <p:spPr>
              <a:xfrm>
                <a:off x="963720" y="2835000"/>
                <a:ext cx="889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10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914400" y="2835000"/>
                <a:ext cx="98820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1902960" y="2835000"/>
              <a:ext cx="1069560" cy="477000"/>
              <a:chOff x="1902960" y="2835000"/>
              <a:chExt cx="1069560" cy="477000"/>
            </a:xfrm>
          </p:grpSpPr>
          <p:sp>
            <p:nvSpPr>
              <p:cNvPr id="165" name=""/>
              <p:cNvSpPr/>
              <p:nvPr/>
            </p:nvSpPr>
            <p:spPr>
              <a:xfrm>
                <a:off x="1952280" y="283500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14,172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902960" y="283500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2973240" y="2835000"/>
              <a:ext cx="1159560" cy="477000"/>
              <a:chOff x="2973240" y="2835000"/>
              <a:chExt cx="1159560" cy="477000"/>
            </a:xfrm>
          </p:grpSpPr>
          <p:sp>
            <p:nvSpPr>
              <p:cNvPr id="168" name=""/>
              <p:cNvSpPr/>
              <p:nvPr/>
            </p:nvSpPr>
            <p:spPr>
              <a:xfrm>
                <a:off x="3022560" y="2835000"/>
                <a:ext cx="106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44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973240" y="2835000"/>
                <a:ext cx="115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133160" y="2835000"/>
              <a:ext cx="1069560" cy="477000"/>
              <a:chOff x="4133160" y="2835000"/>
              <a:chExt cx="1069560" cy="477000"/>
            </a:xfrm>
          </p:grpSpPr>
          <p:sp>
            <p:nvSpPr>
              <p:cNvPr id="171" name=""/>
              <p:cNvSpPr/>
              <p:nvPr/>
            </p:nvSpPr>
            <p:spPr>
              <a:xfrm>
                <a:off x="4182480" y="283500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7,134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133160" y="283500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5203080" y="2835000"/>
              <a:ext cx="1069560" cy="477000"/>
              <a:chOff x="5203080" y="2835000"/>
              <a:chExt cx="1069560" cy="477000"/>
            </a:xfrm>
          </p:grpSpPr>
          <p:sp>
            <p:nvSpPr>
              <p:cNvPr id="174" name=""/>
              <p:cNvSpPr/>
              <p:nvPr/>
            </p:nvSpPr>
            <p:spPr>
              <a:xfrm>
                <a:off x="5252400" y="283500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40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203080" y="283500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6273000" y="2835000"/>
              <a:ext cx="1069560" cy="477000"/>
              <a:chOff x="6273000" y="2835000"/>
              <a:chExt cx="1069560" cy="477000"/>
            </a:xfrm>
          </p:grpSpPr>
          <p:sp>
            <p:nvSpPr>
              <p:cNvPr id="177" name=""/>
              <p:cNvSpPr/>
              <p:nvPr/>
            </p:nvSpPr>
            <p:spPr>
              <a:xfrm>
                <a:off x="6322320" y="283500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1,411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73000" y="283500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7342920" y="2835000"/>
              <a:ext cx="1114200" cy="477000"/>
              <a:chOff x="7342920" y="2835000"/>
              <a:chExt cx="1114200" cy="477000"/>
            </a:xfrm>
          </p:grpSpPr>
          <p:sp>
            <p:nvSpPr>
              <p:cNvPr id="180" name=""/>
              <p:cNvSpPr/>
              <p:nvPr/>
            </p:nvSpPr>
            <p:spPr>
              <a:xfrm>
                <a:off x="7392240" y="2835000"/>
                <a:ext cx="101520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37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42920" y="2835000"/>
                <a:ext cx="111420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914400" y="3312360"/>
              <a:ext cx="988200" cy="477000"/>
              <a:chOff x="914400" y="3312360"/>
              <a:chExt cx="988200" cy="477000"/>
            </a:xfrm>
          </p:grpSpPr>
          <p:sp>
            <p:nvSpPr>
              <p:cNvPr id="183" name=""/>
              <p:cNvSpPr/>
              <p:nvPr/>
            </p:nvSpPr>
            <p:spPr>
              <a:xfrm>
                <a:off x="963720" y="3312360"/>
                <a:ext cx="889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20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914400" y="3312360"/>
                <a:ext cx="98820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1902960" y="3312360"/>
              <a:ext cx="1069560" cy="477000"/>
              <a:chOff x="1902960" y="3312360"/>
              <a:chExt cx="1069560" cy="477000"/>
            </a:xfrm>
          </p:grpSpPr>
          <p:sp>
            <p:nvSpPr>
              <p:cNvPr id="186" name=""/>
              <p:cNvSpPr/>
              <p:nvPr/>
            </p:nvSpPr>
            <p:spPr>
              <a:xfrm>
                <a:off x="1952280" y="331236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4,423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02960" y="331236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2973240" y="3312360"/>
              <a:ext cx="1159560" cy="477000"/>
              <a:chOff x="2973240" y="3312360"/>
              <a:chExt cx="1159560" cy="477000"/>
            </a:xfrm>
          </p:grpSpPr>
          <p:sp>
            <p:nvSpPr>
              <p:cNvPr id="189" name=""/>
              <p:cNvSpPr/>
              <p:nvPr/>
            </p:nvSpPr>
            <p:spPr>
              <a:xfrm>
                <a:off x="3022560" y="3312360"/>
                <a:ext cx="106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235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973240" y="3312360"/>
                <a:ext cx="115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4133160" y="3312360"/>
              <a:ext cx="1069560" cy="477000"/>
              <a:chOff x="4133160" y="3312360"/>
              <a:chExt cx="1069560" cy="477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182480" y="331236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2,167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133160" y="331236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5203080" y="3312360"/>
              <a:ext cx="1069560" cy="477000"/>
              <a:chOff x="5203080" y="3312360"/>
              <a:chExt cx="1069560" cy="477000"/>
            </a:xfrm>
          </p:grpSpPr>
          <p:sp>
            <p:nvSpPr>
              <p:cNvPr id="195" name=""/>
              <p:cNvSpPr/>
              <p:nvPr/>
            </p:nvSpPr>
            <p:spPr>
              <a:xfrm>
                <a:off x="5252400" y="331236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221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203080" y="331236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6273000" y="3312360"/>
              <a:ext cx="1069560" cy="477000"/>
              <a:chOff x="6273000" y="3312360"/>
              <a:chExt cx="1069560" cy="477000"/>
            </a:xfrm>
          </p:grpSpPr>
          <p:sp>
            <p:nvSpPr>
              <p:cNvPr id="198" name=""/>
              <p:cNvSpPr/>
              <p:nvPr/>
            </p:nvSpPr>
            <p:spPr>
              <a:xfrm>
                <a:off x="6322320" y="331236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498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273000" y="331236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7342920" y="3312360"/>
              <a:ext cx="1114200" cy="477000"/>
              <a:chOff x="7342920" y="3312360"/>
              <a:chExt cx="1114200" cy="477000"/>
            </a:xfrm>
          </p:grpSpPr>
          <p:sp>
            <p:nvSpPr>
              <p:cNvPr id="201" name=""/>
              <p:cNvSpPr/>
              <p:nvPr/>
            </p:nvSpPr>
            <p:spPr>
              <a:xfrm>
                <a:off x="7392240" y="3312360"/>
                <a:ext cx="101520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165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342920" y="3312360"/>
                <a:ext cx="111420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914400" y="3789360"/>
              <a:ext cx="988200" cy="477000"/>
              <a:chOff x="914400" y="3789360"/>
              <a:chExt cx="988200" cy="477000"/>
            </a:xfrm>
          </p:grpSpPr>
          <p:sp>
            <p:nvSpPr>
              <p:cNvPr id="204" name=""/>
              <p:cNvSpPr/>
              <p:nvPr/>
            </p:nvSpPr>
            <p:spPr>
              <a:xfrm>
                <a:off x="963720" y="3789360"/>
                <a:ext cx="889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30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14400" y="3789360"/>
                <a:ext cx="98820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1902960" y="3789360"/>
              <a:ext cx="1069560" cy="477000"/>
              <a:chOff x="1902960" y="3789360"/>
              <a:chExt cx="1069560" cy="477000"/>
            </a:xfrm>
          </p:grpSpPr>
          <p:sp>
            <p:nvSpPr>
              <p:cNvPr id="207" name=""/>
              <p:cNvSpPr/>
              <p:nvPr/>
            </p:nvSpPr>
            <p:spPr>
              <a:xfrm>
                <a:off x="1952280" y="378936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1,555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902960" y="378936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2973240" y="3789360"/>
              <a:ext cx="1159560" cy="477000"/>
              <a:chOff x="2973240" y="3789360"/>
              <a:chExt cx="1159560" cy="477000"/>
            </a:xfrm>
          </p:grpSpPr>
          <p:sp>
            <p:nvSpPr>
              <p:cNvPr id="210" name=""/>
              <p:cNvSpPr/>
              <p:nvPr/>
            </p:nvSpPr>
            <p:spPr>
              <a:xfrm>
                <a:off x="3022560" y="3789360"/>
                <a:ext cx="106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793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973240" y="3789360"/>
                <a:ext cx="115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4133160" y="3789360"/>
              <a:ext cx="1069560" cy="477000"/>
              <a:chOff x="4133160" y="3789360"/>
              <a:chExt cx="1069560" cy="477000"/>
            </a:xfrm>
          </p:grpSpPr>
          <p:sp>
            <p:nvSpPr>
              <p:cNvPr id="213" name=""/>
              <p:cNvSpPr/>
              <p:nvPr/>
            </p:nvSpPr>
            <p:spPr>
              <a:xfrm>
                <a:off x="4182480" y="378936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745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33160" y="378936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5203080" y="3789360"/>
              <a:ext cx="1069560" cy="477000"/>
              <a:chOff x="5203080" y="3789360"/>
              <a:chExt cx="1069560" cy="477000"/>
            </a:xfrm>
          </p:grpSpPr>
          <p:sp>
            <p:nvSpPr>
              <p:cNvPr id="216" name=""/>
              <p:cNvSpPr/>
              <p:nvPr/>
            </p:nvSpPr>
            <p:spPr>
              <a:xfrm>
                <a:off x="5252400" y="378936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790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203080" y="378936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6273000" y="3789360"/>
              <a:ext cx="1069560" cy="477000"/>
              <a:chOff x="6273000" y="3789360"/>
              <a:chExt cx="1069560" cy="477000"/>
            </a:xfrm>
          </p:grpSpPr>
          <p:sp>
            <p:nvSpPr>
              <p:cNvPr id="219" name=""/>
              <p:cNvSpPr/>
              <p:nvPr/>
            </p:nvSpPr>
            <p:spPr>
              <a:xfrm>
                <a:off x="6322320" y="378936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206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273000" y="378936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7342920" y="3789360"/>
              <a:ext cx="1114200" cy="477000"/>
              <a:chOff x="7342920" y="3789360"/>
              <a:chExt cx="1114200" cy="477000"/>
            </a:xfrm>
          </p:grpSpPr>
          <p:sp>
            <p:nvSpPr>
              <p:cNvPr id="222" name=""/>
              <p:cNvSpPr/>
              <p:nvPr/>
            </p:nvSpPr>
            <p:spPr>
              <a:xfrm>
                <a:off x="7392240" y="3789360"/>
                <a:ext cx="101520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480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342920" y="3789360"/>
                <a:ext cx="111420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914400" y="4266720"/>
              <a:ext cx="988200" cy="477000"/>
              <a:chOff x="914400" y="4266720"/>
              <a:chExt cx="988200" cy="477000"/>
            </a:xfrm>
          </p:grpSpPr>
          <p:sp>
            <p:nvSpPr>
              <p:cNvPr id="225" name=""/>
              <p:cNvSpPr/>
              <p:nvPr/>
            </p:nvSpPr>
            <p:spPr>
              <a:xfrm>
                <a:off x="963720" y="4266720"/>
                <a:ext cx="889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40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14400" y="4266720"/>
                <a:ext cx="98820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902960" y="4266720"/>
              <a:ext cx="1069560" cy="477000"/>
              <a:chOff x="1902960" y="4266720"/>
              <a:chExt cx="1069560" cy="477000"/>
            </a:xfrm>
          </p:grpSpPr>
          <p:sp>
            <p:nvSpPr>
              <p:cNvPr id="228" name=""/>
              <p:cNvSpPr/>
              <p:nvPr/>
            </p:nvSpPr>
            <p:spPr>
              <a:xfrm>
                <a:off x="1952280" y="426672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620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02960" y="426672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973240" y="4266720"/>
              <a:ext cx="1159560" cy="477000"/>
              <a:chOff x="2973240" y="4266720"/>
              <a:chExt cx="1159560" cy="477000"/>
            </a:xfrm>
          </p:grpSpPr>
          <p:sp>
            <p:nvSpPr>
              <p:cNvPr id="231" name=""/>
              <p:cNvSpPr/>
              <p:nvPr/>
            </p:nvSpPr>
            <p:spPr>
              <a:xfrm>
                <a:off x="3022560" y="4266720"/>
                <a:ext cx="106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2,297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973240" y="4266720"/>
                <a:ext cx="115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133160" y="4266720"/>
              <a:ext cx="1069560" cy="477000"/>
              <a:chOff x="4133160" y="4266720"/>
              <a:chExt cx="1069560" cy="477000"/>
            </a:xfrm>
          </p:grpSpPr>
          <p:sp>
            <p:nvSpPr>
              <p:cNvPr id="234" name=""/>
              <p:cNvSpPr/>
              <p:nvPr/>
            </p:nvSpPr>
            <p:spPr>
              <a:xfrm>
                <a:off x="4182480" y="426672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309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133160" y="426672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203080" y="4266720"/>
              <a:ext cx="1069560" cy="477000"/>
              <a:chOff x="5203080" y="4266720"/>
              <a:chExt cx="1069560" cy="477000"/>
            </a:xfrm>
          </p:grpSpPr>
          <p:sp>
            <p:nvSpPr>
              <p:cNvPr id="237" name=""/>
              <p:cNvSpPr/>
              <p:nvPr/>
            </p:nvSpPr>
            <p:spPr>
              <a:xfrm>
                <a:off x="5252400" y="426672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2,275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203080" y="426672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6273000" y="4266720"/>
              <a:ext cx="1069560" cy="477000"/>
              <a:chOff x="6273000" y="4266720"/>
              <a:chExt cx="1069560" cy="477000"/>
            </a:xfrm>
          </p:grpSpPr>
          <p:sp>
            <p:nvSpPr>
              <p:cNvPr id="240" name=""/>
              <p:cNvSpPr/>
              <p:nvPr/>
            </p:nvSpPr>
            <p:spPr>
              <a:xfrm>
                <a:off x="6322320" y="426672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95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273000" y="426672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7342920" y="4266720"/>
              <a:ext cx="1114200" cy="477000"/>
              <a:chOff x="7342920" y="4266720"/>
              <a:chExt cx="1114200" cy="477000"/>
            </a:xfrm>
          </p:grpSpPr>
          <p:sp>
            <p:nvSpPr>
              <p:cNvPr id="243" name=""/>
              <p:cNvSpPr/>
              <p:nvPr/>
            </p:nvSpPr>
            <p:spPr>
              <a:xfrm>
                <a:off x="7392240" y="4266720"/>
                <a:ext cx="101520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1,206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342920" y="4266720"/>
                <a:ext cx="111420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914400" y="4743720"/>
              <a:ext cx="988200" cy="477000"/>
              <a:chOff x="914400" y="4743720"/>
              <a:chExt cx="988200" cy="477000"/>
            </a:xfrm>
          </p:grpSpPr>
          <p:sp>
            <p:nvSpPr>
              <p:cNvPr id="246" name=""/>
              <p:cNvSpPr/>
              <p:nvPr/>
            </p:nvSpPr>
            <p:spPr>
              <a:xfrm>
                <a:off x="963720" y="4743720"/>
                <a:ext cx="889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50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14400" y="4743720"/>
                <a:ext cx="98820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1902960" y="4743720"/>
              <a:ext cx="1069560" cy="477000"/>
              <a:chOff x="1902960" y="4743720"/>
              <a:chExt cx="1069560" cy="477000"/>
            </a:xfrm>
          </p:grpSpPr>
          <p:sp>
            <p:nvSpPr>
              <p:cNvPr id="249" name=""/>
              <p:cNvSpPr/>
              <p:nvPr/>
            </p:nvSpPr>
            <p:spPr>
              <a:xfrm>
                <a:off x="1952280" y="474372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270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02960" y="474372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973240" y="4743720"/>
              <a:ext cx="1159560" cy="477000"/>
              <a:chOff x="2973240" y="4743720"/>
              <a:chExt cx="1159560" cy="477000"/>
            </a:xfrm>
          </p:grpSpPr>
          <p:sp>
            <p:nvSpPr>
              <p:cNvPr id="252" name=""/>
              <p:cNvSpPr/>
              <p:nvPr/>
            </p:nvSpPr>
            <p:spPr>
              <a:xfrm>
                <a:off x="3022560" y="4743720"/>
                <a:ext cx="106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5,815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73240" y="4743720"/>
                <a:ext cx="115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4133160" y="4743720"/>
              <a:ext cx="1069560" cy="477000"/>
              <a:chOff x="4133160" y="4743720"/>
              <a:chExt cx="1069560" cy="477000"/>
            </a:xfrm>
          </p:grpSpPr>
          <p:sp>
            <p:nvSpPr>
              <p:cNvPr id="255" name=""/>
              <p:cNvSpPr/>
              <p:nvPr/>
            </p:nvSpPr>
            <p:spPr>
              <a:xfrm>
                <a:off x="4182480" y="474372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139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133160" y="474372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5203080" y="4743720"/>
              <a:ext cx="1069560" cy="477000"/>
              <a:chOff x="5203080" y="4743720"/>
              <a:chExt cx="1069560" cy="477000"/>
            </a:xfrm>
          </p:grpSpPr>
          <p:sp>
            <p:nvSpPr>
              <p:cNvPr id="258" name=""/>
              <p:cNvSpPr/>
              <p:nvPr/>
            </p:nvSpPr>
            <p:spPr>
              <a:xfrm>
                <a:off x="5252400" y="474372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5,652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203080" y="474372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273000" y="4743720"/>
              <a:ext cx="1069560" cy="477000"/>
              <a:chOff x="6273000" y="4743720"/>
              <a:chExt cx="1069560" cy="477000"/>
            </a:xfrm>
          </p:grpSpPr>
          <p:sp>
            <p:nvSpPr>
              <p:cNvPr id="261" name=""/>
              <p:cNvSpPr/>
              <p:nvPr/>
            </p:nvSpPr>
            <p:spPr>
              <a:xfrm>
                <a:off x="6322320" y="474372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44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273000" y="474372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342920" y="4743720"/>
              <a:ext cx="1114200" cy="477000"/>
              <a:chOff x="7342920" y="4743720"/>
              <a:chExt cx="1114200" cy="477000"/>
            </a:xfrm>
          </p:grpSpPr>
          <p:sp>
            <p:nvSpPr>
              <p:cNvPr id="264" name=""/>
              <p:cNvSpPr/>
              <p:nvPr/>
            </p:nvSpPr>
            <p:spPr>
              <a:xfrm>
                <a:off x="7392240" y="4743720"/>
                <a:ext cx="101520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2,781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342920" y="4743720"/>
                <a:ext cx="111420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914400" y="5221080"/>
              <a:ext cx="988200" cy="477000"/>
              <a:chOff x="914400" y="5221080"/>
              <a:chExt cx="988200" cy="477000"/>
            </a:xfrm>
          </p:grpSpPr>
          <p:sp>
            <p:nvSpPr>
              <p:cNvPr id="267" name=""/>
              <p:cNvSpPr/>
              <p:nvPr/>
            </p:nvSpPr>
            <p:spPr>
              <a:xfrm>
                <a:off x="963720" y="5221080"/>
                <a:ext cx="889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60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914400" y="5221080"/>
                <a:ext cx="98820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1902960" y="5221080"/>
              <a:ext cx="1069560" cy="477000"/>
              <a:chOff x="1902960" y="5221080"/>
              <a:chExt cx="1069560" cy="477000"/>
            </a:xfrm>
          </p:grpSpPr>
          <p:sp>
            <p:nvSpPr>
              <p:cNvPr id="270" name=""/>
              <p:cNvSpPr/>
              <p:nvPr/>
            </p:nvSpPr>
            <p:spPr>
              <a:xfrm>
                <a:off x="1952280" y="522108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113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02960" y="522108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973240" y="5221080"/>
              <a:ext cx="1159560" cy="477000"/>
              <a:chOff x="2973240" y="5221080"/>
              <a:chExt cx="1159560" cy="477000"/>
            </a:xfrm>
          </p:grpSpPr>
          <p:sp>
            <p:nvSpPr>
              <p:cNvPr id="273" name=""/>
              <p:cNvSpPr/>
              <p:nvPr/>
            </p:nvSpPr>
            <p:spPr>
              <a:xfrm>
                <a:off x="3022560" y="5221080"/>
                <a:ext cx="106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14,108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973240" y="5221080"/>
                <a:ext cx="115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133160" y="5221080"/>
              <a:ext cx="1069560" cy="477000"/>
              <a:chOff x="4133160" y="5221080"/>
              <a:chExt cx="1069560" cy="477000"/>
            </a:xfrm>
          </p:grpSpPr>
          <p:sp>
            <p:nvSpPr>
              <p:cNvPr id="276" name=""/>
              <p:cNvSpPr/>
              <p:nvPr/>
            </p:nvSpPr>
            <p:spPr>
              <a:xfrm>
                <a:off x="4182480" y="522108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60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133160" y="522108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5203080" y="5221080"/>
              <a:ext cx="1069560" cy="477000"/>
              <a:chOff x="5203080" y="5221080"/>
              <a:chExt cx="1069560" cy="477000"/>
            </a:xfrm>
          </p:grpSpPr>
          <p:sp>
            <p:nvSpPr>
              <p:cNvPr id="279" name=""/>
              <p:cNvSpPr/>
              <p:nvPr/>
            </p:nvSpPr>
            <p:spPr>
              <a:xfrm>
                <a:off x="5252400" y="522108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13,295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03080" y="522108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273000" y="5221080"/>
              <a:ext cx="1069560" cy="477000"/>
              <a:chOff x="6273000" y="5221080"/>
              <a:chExt cx="1069560" cy="477000"/>
            </a:xfrm>
          </p:grpSpPr>
          <p:sp>
            <p:nvSpPr>
              <p:cNvPr id="282" name=""/>
              <p:cNvSpPr/>
              <p:nvPr/>
            </p:nvSpPr>
            <p:spPr>
              <a:xfrm>
                <a:off x="6322320" y="522108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21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273000" y="522108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7342920" y="5221080"/>
              <a:ext cx="1114200" cy="477000"/>
              <a:chOff x="7342920" y="5221080"/>
              <a:chExt cx="1114200" cy="477000"/>
            </a:xfrm>
          </p:grpSpPr>
          <p:sp>
            <p:nvSpPr>
              <p:cNvPr id="285" name=""/>
              <p:cNvSpPr/>
              <p:nvPr/>
            </p:nvSpPr>
            <p:spPr>
              <a:xfrm>
                <a:off x="7392240" y="5221080"/>
                <a:ext cx="101520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6,118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342920" y="5221080"/>
                <a:ext cx="111420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914400" y="5698440"/>
              <a:ext cx="988200" cy="477000"/>
              <a:chOff x="914400" y="5698440"/>
              <a:chExt cx="988200" cy="477000"/>
            </a:xfrm>
          </p:grpSpPr>
          <p:sp>
            <p:nvSpPr>
              <p:cNvPr id="288" name=""/>
              <p:cNvSpPr/>
              <p:nvPr/>
            </p:nvSpPr>
            <p:spPr>
              <a:xfrm>
                <a:off x="963720" y="5698440"/>
                <a:ext cx="889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70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14400" y="5698440"/>
                <a:ext cx="98820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1902960" y="5698440"/>
              <a:ext cx="1069560" cy="477000"/>
              <a:chOff x="1902960" y="5698440"/>
              <a:chExt cx="1069560" cy="477000"/>
            </a:xfrm>
          </p:grpSpPr>
          <p:sp>
            <p:nvSpPr>
              <p:cNvPr id="291" name=""/>
              <p:cNvSpPr/>
              <p:nvPr/>
            </p:nvSpPr>
            <p:spPr>
              <a:xfrm>
                <a:off x="1952280" y="569844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43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02960" y="569844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2973240" y="5698440"/>
              <a:ext cx="1159560" cy="477000"/>
              <a:chOff x="2973240" y="5698440"/>
              <a:chExt cx="1159560" cy="477000"/>
            </a:xfrm>
          </p:grpSpPr>
          <p:sp>
            <p:nvSpPr>
              <p:cNvPr id="294" name=""/>
              <p:cNvSpPr/>
              <p:nvPr/>
            </p:nvSpPr>
            <p:spPr>
              <a:xfrm>
                <a:off x="3022560" y="5698440"/>
                <a:ext cx="106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34,870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973240" y="5698440"/>
                <a:ext cx="115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133160" y="5698440"/>
              <a:ext cx="1069560" cy="477000"/>
              <a:chOff x="4133160" y="5698440"/>
              <a:chExt cx="1069560" cy="477000"/>
            </a:xfrm>
          </p:grpSpPr>
          <p:sp>
            <p:nvSpPr>
              <p:cNvPr id="297" name=""/>
              <p:cNvSpPr/>
              <p:nvPr/>
            </p:nvSpPr>
            <p:spPr>
              <a:xfrm>
                <a:off x="4182480" y="569844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23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133160" y="569844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5203080" y="5698440"/>
              <a:ext cx="1069560" cy="477000"/>
              <a:chOff x="5203080" y="5698440"/>
              <a:chExt cx="1069560" cy="477000"/>
            </a:xfrm>
          </p:grpSpPr>
          <p:sp>
            <p:nvSpPr>
              <p:cNvPr id="300" name=""/>
              <p:cNvSpPr/>
              <p:nvPr/>
            </p:nvSpPr>
            <p:spPr>
              <a:xfrm>
                <a:off x="5252400" y="569844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32,295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203080" y="569844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6273000" y="5698440"/>
              <a:ext cx="1069560" cy="477000"/>
              <a:chOff x="6273000" y="5698440"/>
              <a:chExt cx="1069560" cy="477000"/>
            </a:xfrm>
          </p:grpSpPr>
          <p:sp>
            <p:nvSpPr>
              <p:cNvPr id="303" name=""/>
              <p:cNvSpPr/>
              <p:nvPr/>
            </p:nvSpPr>
            <p:spPr>
              <a:xfrm>
                <a:off x="6322320" y="5698440"/>
                <a:ext cx="9705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9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273000" y="5698440"/>
                <a:ext cx="106956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7342920" y="5698440"/>
              <a:ext cx="1114200" cy="477000"/>
              <a:chOff x="7342920" y="5698440"/>
              <a:chExt cx="1114200" cy="477000"/>
            </a:xfrm>
          </p:grpSpPr>
          <p:sp>
            <p:nvSpPr>
              <p:cNvPr id="306" name=""/>
              <p:cNvSpPr/>
              <p:nvPr/>
            </p:nvSpPr>
            <p:spPr>
              <a:xfrm>
                <a:off x="7392240" y="5698440"/>
                <a:ext cx="101520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14,393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342920" y="5698440"/>
                <a:ext cx="1114200" cy="47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</p:grpSp>
      <p:sp>
        <p:nvSpPr>
          <p:cNvPr id="308" name=""/>
          <p:cNvSpPr/>
          <p:nvPr/>
        </p:nvSpPr>
        <p:spPr>
          <a:xfrm>
            <a:off x="990720" y="1752480"/>
            <a:ext cx="914400" cy="1067040"/>
          </a:xfrm>
          <a:prstGeom prst="line">
            <a:avLst/>
          </a:prstGeom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B838-F058-4310-93E1-1CEF9345AD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1fb991"/>
                </a:solidFill>
                <a:latin typeface="굴림"/>
              </a:rPr>
              <a:t>어절빈도 조사</a:t>
            </a:r>
            <a:r>
              <a:rPr b="0" lang="en-US" sz="4200" spc="-1" strike="noStrike">
                <a:solidFill>
                  <a:srgbClr val="1fb991"/>
                </a:solidFill>
                <a:latin typeface="굴림"/>
              </a:rPr>
              <a:t>(</a:t>
            </a:r>
            <a:r>
              <a:rPr b="0" lang="zh-CN" sz="4200" spc="-1" strike="noStrike">
                <a:solidFill>
                  <a:srgbClr val="1fb991"/>
                </a:solidFill>
                <a:latin typeface="굴림"/>
              </a:rPr>
              <a:t>계속</a:t>
            </a:r>
            <a:r>
              <a:rPr b="0" lang="en-US" sz="4200" spc="-1" strike="noStrike">
                <a:solidFill>
                  <a:srgbClr val="1fb991"/>
                </a:solidFill>
                <a:latin typeface="굴림"/>
              </a:rPr>
              <a:t>)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85800" y="2819520"/>
            <a:ext cx="7695360" cy="3276000"/>
            <a:chOff x="685800" y="2819520"/>
            <a:chExt cx="7695360" cy="3276000"/>
          </a:xfrm>
        </p:grpSpPr>
        <p:grpSp>
          <p:nvGrpSpPr>
            <p:cNvPr id="312" name=""/>
            <p:cNvGrpSpPr/>
            <p:nvPr/>
          </p:nvGrpSpPr>
          <p:grpSpPr>
            <a:xfrm>
              <a:off x="685800" y="2819520"/>
              <a:ext cx="1008360" cy="563760"/>
              <a:chOff x="685800" y="2819520"/>
              <a:chExt cx="1008360" cy="563760"/>
            </a:xfrm>
          </p:grpSpPr>
          <p:sp>
            <p:nvSpPr>
              <p:cNvPr id="313" name=""/>
              <p:cNvSpPr/>
              <p:nvPr/>
            </p:nvSpPr>
            <p:spPr>
              <a:xfrm>
                <a:off x="736200" y="2819520"/>
                <a:ext cx="907560" cy="56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80%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85800" y="2819520"/>
                <a:ext cx="1008360" cy="563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1694520" y="2819520"/>
              <a:ext cx="1091160" cy="563760"/>
              <a:chOff x="1694520" y="2819520"/>
              <a:chExt cx="1091160" cy="563760"/>
            </a:xfrm>
          </p:grpSpPr>
          <p:sp>
            <p:nvSpPr>
              <p:cNvPr id="316" name=""/>
              <p:cNvSpPr/>
              <p:nvPr/>
            </p:nvSpPr>
            <p:spPr>
              <a:xfrm>
                <a:off x="1744920" y="2819520"/>
                <a:ext cx="990360" cy="56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13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94520" y="2819520"/>
                <a:ext cx="1091160" cy="563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2786040" y="2819520"/>
              <a:ext cx="1182960" cy="563760"/>
              <a:chOff x="2786040" y="2819520"/>
              <a:chExt cx="1182960" cy="563760"/>
            </a:xfrm>
          </p:grpSpPr>
          <p:sp>
            <p:nvSpPr>
              <p:cNvPr id="319" name=""/>
              <p:cNvSpPr/>
              <p:nvPr/>
            </p:nvSpPr>
            <p:spPr>
              <a:xfrm>
                <a:off x="2836440" y="2819520"/>
                <a:ext cx="1082160" cy="56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99,047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786040" y="2819520"/>
                <a:ext cx="1182960" cy="563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3969720" y="2819520"/>
              <a:ext cx="1091160" cy="563760"/>
              <a:chOff x="3969720" y="2819520"/>
              <a:chExt cx="1091160" cy="563760"/>
            </a:xfrm>
          </p:grpSpPr>
          <p:sp>
            <p:nvSpPr>
              <p:cNvPr id="322" name=""/>
              <p:cNvSpPr/>
              <p:nvPr/>
            </p:nvSpPr>
            <p:spPr>
              <a:xfrm>
                <a:off x="4020120" y="2819520"/>
                <a:ext cx="990360" cy="56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7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969720" y="2819520"/>
                <a:ext cx="1091160" cy="563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5061240" y="2819520"/>
              <a:ext cx="1091160" cy="563760"/>
              <a:chOff x="5061240" y="2819520"/>
              <a:chExt cx="1091160" cy="563760"/>
            </a:xfrm>
          </p:grpSpPr>
          <p:sp>
            <p:nvSpPr>
              <p:cNvPr id="325" name=""/>
              <p:cNvSpPr/>
              <p:nvPr/>
            </p:nvSpPr>
            <p:spPr>
              <a:xfrm>
                <a:off x="5111640" y="2819520"/>
                <a:ext cx="990360" cy="56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93,871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061240" y="2819520"/>
                <a:ext cx="1091160" cy="563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152760" y="2819520"/>
              <a:ext cx="1091160" cy="563760"/>
              <a:chOff x="6152760" y="2819520"/>
              <a:chExt cx="1091160" cy="563760"/>
            </a:xfrm>
          </p:grpSpPr>
          <p:sp>
            <p:nvSpPr>
              <p:cNvPr id="328" name=""/>
              <p:cNvSpPr/>
              <p:nvPr/>
            </p:nvSpPr>
            <p:spPr>
              <a:xfrm>
                <a:off x="6203160" y="2819520"/>
                <a:ext cx="990360" cy="56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4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52760" y="2819520"/>
                <a:ext cx="1091160" cy="563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7244280" y="2819520"/>
              <a:ext cx="1136880" cy="563760"/>
              <a:chOff x="7244280" y="2819520"/>
              <a:chExt cx="1136880" cy="563760"/>
            </a:xfrm>
          </p:grpSpPr>
          <p:sp>
            <p:nvSpPr>
              <p:cNvPr id="331" name=""/>
              <p:cNvSpPr/>
              <p:nvPr/>
            </p:nvSpPr>
            <p:spPr>
              <a:xfrm>
                <a:off x="7294680" y="2819520"/>
                <a:ext cx="1036080" cy="56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32,078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244280" y="2819520"/>
                <a:ext cx="1136880" cy="563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685800" y="3383280"/>
              <a:ext cx="1008360" cy="716040"/>
              <a:chOff x="685800" y="3383280"/>
              <a:chExt cx="1008360" cy="716040"/>
            </a:xfrm>
          </p:grpSpPr>
          <p:sp>
            <p:nvSpPr>
              <p:cNvPr id="334" name=""/>
              <p:cNvSpPr/>
              <p:nvPr/>
            </p:nvSpPr>
            <p:spPr>
              <a:xfrm>
                <a:off x="736200" y="3383280"/>
                <a:ext cx="90756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85%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85800" y="3383280"/>
                <a:ext cx="1008360" cy="71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1694520" y="3383280"/>
              <a:ext cx="1091160" cy="716040"/>
              <a:chOff x="1694520" y="3383280"/>
              <a:chExt cx="1091160" cy="716040"/>
            </a:xfrm>
          </p:grpSpPr>
          <p:sp>
            <p:nvSpPr>
              <p:cNvPr id="337" name=""/>
              <p:cNvSpPr/>
              <p:nvPr/>
            </p:nvSpPr>
            <p:spPr>
              <a:xfrm>
                <a:off x="1744920" y="3383280"/>
                <a:ext cx="99036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694520" y="3383280"/>
                <a:ext cx="1091160" cy="71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2786040" y="3383280"/>
              <a:ext cx="1182960" cy="716040"/>
              <a:chOff x="2786040" y="3383280"/>
              <a:chExt cx="1182960" cy="716040"/>
            </a:xfrm>
          </p:grpSpPr>
          <p:sp>
            <p:nvSpPr>
              <p:cNvPr id="340" name=""/>
              <p:cNvSpPr/>
              <p:nvPr/>
            </p:nvSpPr>
            <p:spPr>
              <a:xfrm>
                <a:off x="2836440" y="3383280"/>
                <a:ext cx="108216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169,196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786040" y="3383280"/>
                <a:ext cx="1182960" cy="71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3969720" y="3383280"/>
              <a:ext cx="1091160" cy="716040"/>
              <a:chOff x="3969720" y="3383280"/>
              <a:chExt cx="1091160" cy="716040"/>
            </a:xfrm>
          </p:grpSpPr>
          <p:sp>
            <p:nvSpPr>
              <p:cNvPr id="343" name=""/>
              <p:cNvSpPr/>
              <p:nvPr/>
            </p:nvSpPr>
            <p:spPr>
              <a:xfrm>
                <a:off x="4020120" y="3383280"/>
                <a:ext cx="99036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4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(85.2%)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969720" y="3383280"/>
                <a:ext cx="1091160" cy="71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5061240" y="3383280"/>
              <a:ext cx="1091160" cy="716040"/>
              <a:chOff x="5061240" y="3383280"/>
              <a:chExt cx="1091160" cy="716040"/>
            </a:xfrm>
          </p:grpSpPr>
          <p:sp>
            <p:nvSpPr>
              <p:cNvPr id="346" name=""/>
              <p:cNvSpPr/>
              <p:nvPr/>
            </p:nvSpPr>
            <p:spPr>
              <a:xfrm>
                <a:off x="5111640" y="3383280"/>
                <a:ext cx="99036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159,680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061240" y="3383280"/>
                <a:ext cx="1091160" cy="71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6152760" y="3383280"/>
              <a:ext cx="1091160" cy="716040"/>
              <a:chOff x="6152760" y="3383280"/>
              <a:chExt cx="1091160" cy="716040"/>
            </a:xfrm>
          </p:grpSpPr>
          <p:sp>
            <p:nvSpPr>
              <p:cNvPr id="349" name=""/>
              <p:cNvSpPr/>
              <p:nvPr/>
            </p:nvSpPr>
            <p:spPr>
              <a:xfrm>
                <a:off x="6203160" y="3383280"/>
                <a:ext cx="99036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3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(84.1%)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152760" y="3383280"/>
                <a:ext cx="1091160" cy="71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7244280" y="3383280"/>
              <a:ext cx="1136880" cy="716040"/>
              <a:chOff x="7244280" y="3383280"/>
              <a:chExt cx="1136880" cy="716040"/>
            </a:xfrm>
          </p:grpSpPr>
          <p:sp>
            <p:nvSpPr>
              <p:cNvPr id="352" name=""/>
              <p:cNvSpPr/>
              <p:nvPr/>
            </p:nvSpPr>
            <p:spPr>
              <a:xfrm>
                <a:off x="7294680" y="3383280"/>
                <a:ext cx="103608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43,355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244280" y="3383280"/>
                <a:ext cx="1136880" cy="71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85800" y="4099680"/>
              <a:ext cx="1008360" cy="716040"/>
              <a:chOff x="685800" y="4099680"/>
              <a:chExt cx="1008360" cy="716040"/>
            </a:xfrm>
          </p:grpSpPr>
          <p:sp>
            <p:nvSpPr>
              <p:cNvPr id="355" name=""/>
              <p:cNvSpPr/>
              <p:nvPr/>
            </p:nvSpPr>
            <p:spPr>
              <a:xfrm>
                <a:off x="736200" y="4099680"/>
                <a:ext cx="90756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90%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85800" y="4099680"/>
                <a:ext cx="1008360" cy="71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694520" y="4099680"/>
              <a:ext cx="1091160" cy="716040"/>
              <a:chOff x="1694520" y="4099680"/>
              <a:chExt cx="1091160" cy="716040"/>
            </a:xfrm>
          </p:grpSpPr>
          <p:sp>
            <p:nvSpPr>
              <p:cNvPr id="358" name=""/>
              <p:cNvSpPr/>
              <p:nvPr/>
            </p:nvSpPr>
            <p:spPr>
              <a:xfrm>
                <a:off x="1744920" y="4099680"/>
                <a:ext cx="99036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(90.5%)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694520" y="4099680"/>
                <a:ext cx="1091160" cy="71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2786040" y="4099680"/>
              <a:ext cx="1182960" cy="716040"/>
              <a:chOff x="2786040" y="4099680"/>
              <a:chExt cx="1182960" cy="716040"/>
            </a:xfrm>
          </p:grpSpPr>
          <p:sp>
            <p:nvSpPr>
              <p:cNvPr id="361" name=""/>
              <p:cNvSpPr/>
              <p:nvPr/>
            </p:nvSpPr>
            <p:spPr>
              <a:xfrm>
                <a:off x="2836440" y="4099680"/>
                <a:ext cx="108216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369,394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786040" y="4099680"/>
                <a:ext cx="1182960" cy="71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3969720" y="4099680"/>
              <a:ext cx="1091160" cy="716040"/>
              <a:chOff x="3969720" y="4099680"/>
              <a:chExt cx="1091160" cy="716040"/>
            </a:xfrm>
          </p:grpSpPr>
          <p:sp>
            <p:nvSpPr>
              <p:cNvPr id="364" name=""/>
              <p:cNvSpPr/>
              <p:nvPr/>
            </p:nvSpPr>
            <p:spPr>
              <a:xfrm>
                <a:off x="4020120" y="4099680"/>
                <a:ext cx="99036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3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(87.7%)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969720" y="4099680"/>
                <a:ext cx="1091160" cy="71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5061240" y="4099680"/>
              <a:ext cx="1091160" cy="716040"/>
              <a:chOff x="5061240" y="4099680"/>
              <a:chExt cx="1091160" cy="716040"/>
            </a:xfrm>
          </p:grpSpPr>
          <p:sp>
            <p:nvSpPr>
              <p:cNvPr id="367" name=""/>
              <p:cNvSpPr/>
              <p:nvPr/>
            </p:nvSpPr>
            <p:spPr>
              <a:xfrm>
                <a:off x="5111640" y="4099680"/>
                <a:ext cx="99036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215,708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061240" y="4099680"/>
                <a:ext cx="1091160" cy="71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6152760" y="4099680"/>
              <a:ext cx="1091160" cy="716040"/>
              <a:chOff x="6152760" y="4099680"/>
              <a:chExt cx="1091160" cy="716040"/>
            </a:xfrm>
          </p:grpSpPr>
          <p:sp>
            <p:nvSpPr>
              <p:cNvPr id="370" name=""/>
              <p:cNvSpPr/>
              <p:nvPr/>
            </p:nvSpPr>
            <p:spPr>
              <a:xfrm>
                <a:off x="6203160" y="4099680"/>
                <a:ext cx="99036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2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(89.7%)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152760" y="4099680"/>
                <a:ext cx="1091160" cy="71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7244280" y="4099680"/>
              <a:ext cx="1136880" cy="716040"/>
              <a:chOff x="7244280" y="4099680"/>
              <a:chExt cx="1136880" cy="716040"/>
            </a:xfrm>
          </p:grpSpPr>
          <p:sp>
            <p:nvSpPr>
              <p:cNvPr id="373" name=""/>
              <p:cNvSpPr/>
              <p:nvPr/>
            </p:nvSpPr>
            <p:spPr>
              <a:xfrm>
                <a:off x="7294680" y="4099680"/>
                <a:ext cx="103608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70,354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244280" y="4099680"/>
                <a:ext cx="1136880" cy="71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685800" y="4815720"/>
              <a:ext cx="1008360" cy="716040"/>
              <a:chOff x="685800" y="4815720"/>
              <a:chExt cx="1008360" cy="716040"/>
            </a:xfrm>
          </p:grpSpPr>
          <p:sp>
            <p:nvSpPr>
              <p:cNvPr id="376" name=""/>
              <p:cNvSpPr/>
              <p:nvPr/>
            </p:nvSpPr>
            <p:spPr>
              <a:xfrm>
                <a:off x="736200" y="4815720"/>
                <a:ext cx="90756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95%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85800" y="4815720"/>
                <a:ext cx="1008360" cy="71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1694520" y="4815720"/>
              <a:ext cx="1091160" cy="716040"/>
              <a:chOff x="1694520" y="4815720"/>
              <a:chExt cx="1091160" cy="716040"/>
            </a:xfrm>
          </p:grpSpPr>
          <p:sp>
            <p:nvSpPr>
              <p:cNvPr id="379" name=""/>
              <p:cNvSpPr/>
              <p:nvPr/>
            </p:nvSpPr>
            <p:spPr>
              <a:xfrm>
                <a:off x="1744920" y="4815720"/>
                <a:ext cx="99036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(93.5%)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694520" y="4815720"/>
                <a:ext cx="1091160" cy="71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2786040" y="4815720"/>
              <a:ext cx="1182960" cy="716040"/>
              <a:chOff x="2786040" y="4815720"/>
              <a:chExt cx="1182960" cy="716040"/>
            </a:xfrm>
          </p:grpSpPr>
          <p:sp>
            <p:nvSpPr>
              <p:cNvPr id="382" name=""/>
              <p:cNvSpPr/>
              <p:nvPr/>
            </p:nvSpPr>
            <p:spPr>
              <a:xfrm>
                <a:off x="2836440" y="4815720"/>
                <a:ext cx="108216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578,645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786040" y="4815720"/>
                <a:ext cx="1182960" cy="71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3969720" y="4815720"/>
              <a:ext cx="1091160" cy="716040"/>
              <a:chOff x="3969720" y="4815720"/>
              <a:chExt cx="1091160" cy="716040"/>
            </a:xfrm>
          </p:grpSpPr>
          <p:sp>
            <p:nvSpPr>
              <p:cNvPr id="385" name=""/>
              <p:cNvSpPr/>
              <p:nvPr/>
            </p:nvSpPr>
            <p:spPr>
              <a:xfrm>
                <a:off x="4020120" y="4815720"/>
                <a:ext cx="99036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2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(91.3%)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69720" y="4815720"/>
                <a:ext cx="1091160" cy="71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5061240" y="4815720"/>
              <a:ext cx="1091160" cy="716040"/>
              <a:chOff x="5061240" y="4815720"/>
              <a:chExt cx="1091160" cy="716040"/>
            </a:xfrm>
          </p:grpSpPr>
          <p:sp>
            <p:nvSpPr>
              <p:cNvPr id="388" name=""/>
              <p:cNvSpPr/>
              <p:nvPr/>
            </p:nvSpPr>
            <p:spPr>
              <a:xfrm>
                <a:off x="5111640" y="4815720"/>
                <a:ext cx="99036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338,827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061240" y="4815720"/>
                <a:ext cx="1091160" cy="71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6152760" y="4815720"/>
              <a:ext cx="1091160" cy="716040"/>
              <a:chOff x="6152760" y="4815720"/>
              <a:chExt cx="1091160" cy="716040"/>
            </a:xfrm>
          </p:grpSpPr>
          <p:sp>
            <p:nvSpPr>
              <p:cNvPr id="391" name=""/>
              <p:cNvSpPr/>
              <p:nvPr/>
            </p:nvSpPr>
            <p:spPr>
              <a:xfrm>
                <a:off x="6203160" y="4815720"/>
                <a:ext cx="99036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-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52760" y="4815720"/>
                <a:ext cx="1091160" cy="71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7244280" y="4815720"/>
              <a:ext cx="1136880" cy="716040"/>
              <a:chOff x="7244280" y="4815720"/>
              <a:chExt cx="1136880" cy="716040"/>
            </a:xfrm>
          </p:grpSpPr>
          <p:sp>
            <p:nvSpPr>
              <p:cNvPr id="394" name=""/>
              <p:cNvSpPr/>
              <p:nvPr/>
            </p:nvSpPr>
            <p:spPr>
              <a:xfrm>
                <a:off x="7294680" y="4815720"/>
                <a:ext cx="103608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-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244280" y="4815720"/>
                <a:ext cx="1136880" cy="71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85800" y="5531760"/>
              <a:ext cx="1008360" cy="563760"/>
              <a:chOff x="685800" y="5531760"/>
              <a:chExt cx="1008360" cy="563760"/>
            </a:xfrm>
          </p:grpSpPr>
          <p:sp>
            <p:nvSpPr>
              <p:cNvPr id="397" name=""/>
              <p:cNvSpPr/>
              <p:nvPr/>
            </p:nvSpPr>
            <p:spPr>
              <a:xfrm>
                <a:off x="736200" y="5531760"/>
                <a:ext cx="907560" cy="56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100%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85800" y="5531760"/>
                <a:ext cx="1008360" cy="563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1694520" y="5531760"/>
              <a:ext cx="1091160" cy="563760"/>
              <a:chOff x="1694520" y="5531760"/>
              <a:chExt cx="1091160" cy="563760"/>
            </a:xfrm>
          </p:grpSpPr>
          <p:sp>
            <p:nvSpPr>
              <p:cNvPr id="400" name=""/>
              <p:cNvSpPr/>
              <p:nvPr/>
            </p:nvSpPr>
            <p:spPr>
              <a:xfrm>
                <a:off x="1744920" y="5531760"/>
                <a:ext cx="990360" cy="56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1 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694520" y="5531760"/>
                <a:ext cx="1091160" cy="563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2786040" y="5531760"/>
              <a:ext cx="1182960" cy="563760"/>
              <a:chOff x="2786040" y="5531760"/>
              <a:chExt cx="1182960" cy="563760"/>
            </a:xfrm>
          </p:grpSpPr>
          <p:sp>
            <p:nvSpPr>
              <p:cNvPr id="403" name=""/>
              <p:cNvSpPr/>
              <p:nvPr/>
            </p:nvSpPr>
            <p:spPr>
              <a:xfrm>
                <a:off x="2836440" y="5531760"/>
                <a:ext cx="1082160" cy="56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1,494,646</a:t>
                </a:r>
                <a:endParaRPr b="0" lang="en-US" sz="16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786040" y="5531760"/>
                <a:ext cx="1182960" cy="563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3969720" y="5531760"/>
              <a:ext cx="1091160" cy="563760"/>
              <a:chOff x="3969720" y="5531760"/>
              <a:chExt cx="1091160" cy="563760"/>
            </a:xfrm>
          </p:grpSpPr>
          <p:sp>
            <p:nvSpPr>
              <p:cNvPr id="406" name=""/>
              <p:cNvSpPr/>
              <p:nvPr/>
            </p:nvSpPr>
            <p:spPr>
              <a:xfrm>
                <a:off x="4020120" y="5531760"/>
                <a:ext cx="990360" cy="56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1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969720" y="5531760"/>
                <a:ext cx="1091160" cy="563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5061240" y="5531760"/>
              <a:ext cx="1091160" cy="563760"/>
              <a:chOff x="5061240" y="5531760"/>
              <a:chExt cx="1091160" cy="563760"/>
            </a:xfrm>
          </p:grpSpPr>
          <p:sp>
            <p:nvSpPr>
              <p:cNvPr id="409" name=""/>
              <p:cNvSpPr/>
              <p:nvPr/>
            </p:nvSpPr>
            <p:spPr>
              <a:xfrm>
                <a:off x="5111640" y="5531760"/>
                <a:ext cx="990360" cy="56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926,495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061240" y="5531760"/>
                <a:ext cx="1091160" cy="563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152760" y="5531760"/>
              <a:ext cx="1091160" cy="563760"/>
              <a:chOff x="6152760" y="5531760"/>
              <a:chExt cx="1091160" cy="563760"/>
            </a:xfrm>
          </p:grpSpPr>
          <p:sp>
            <p:nvSpPr>
              <p:cNvPr id="412" name=""/>
              <p:cNvSpPr/>
              <p:nvPr/>
            </p:nvSpPr>
            <p:spPr>
              <a:xfrm>
                <a:off x="6203160" y="5531760"/>
                <a:ext cx="990360" cy="56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1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152760" y="5531760"/>
                <a:ext cx="1091160" cy="563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7244280" y="5531760"/>
              <a:ext cx="1136880" cy="563760"/>
              <a:chOff x="7244280" y="5531760"/>
              <a:chExt cx="1136880" cy="563760"/>
            </a:xfrm>
          </p:grpSpPr>
          <p:sp>
            <p:nvSpPr>
              <p:cNvPr id="415" name=""/>
              <p:cNvSpPr/>
              <p:nvPr/>
            </p:nvSpPr>
            <p:spPr>
              <a:xfrm>
                <a:off x="7294680" y="5531760"/>
                <a:ext cx="1036080" cy="56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½Å¸íÁ¶"/>
                    <a:ea typeface="½Å¸íÁ¶"/>
                  </a:rPr>
                  <a:t>171,455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244280" y="5531760"/>
                <a:ext cx="1136880" cy="563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</p:grpSp>
      <p:grpSp>
        <p:nvGrpSpPr>
          <p:cNvPr id="417" name=""/>
          <p:cNvGrpSpPr/>
          <p:nvPr/>
        </p:nvGrpSpPr>
        <p:grpSpPr>
          <a:xfrm>
            <a:off x="685800" y="1828800"/>
            <a:ext cx="7695360" cy="990720"/>
            <a:chOff x="685800" y="1828800"/>
            <a:chExt cx="7695360" cy="990720"/>
          </a:xfrm>
        </p:grpSpPr>
        <p:grpSp>
          <p:nvGrpSpPr>
            <p:cNvPr id="418" name=""/>
            <p:cNvGrpSpPr/>
            <p:nvPr/>
          </p:nvGrpSpPr>
          <p:grpSpPr>
            <a:xfrm>
              <a:off x="685800" y="1828800"/>
              <a:ext cx="1008360" cy="990720"/>
              <a:chOff x="685800" y="1828800"/>
              <a:chExt cx="1008360" cy="990720"/>
            </a:xfrm>
          </p:grpSpPr>
          <p:sp>
            <p:nvSpPr>
              <p:cNvPr id="419" name=""/>
              <p:cNvSpPr/>
              <p:nvPr/>
            </p:nvSpPr>
            <p:spPr>
              <a:xfrm>
                <a:off x="736200" y="1828800"/>
                <a:ext cx="907560" cy="9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corpus</a:t>
                </a:r>
                <a:endParaRPr b="0" lang="en-US" sz="1600" spc="-1" strike="noStrike">
                  <a:solidFill>
                    <a:srgbClr val="1b372d"/>
                  </a:solidFill>
                  <a:latin typeface="굴림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85800" y="1828800"/>
                <a:ext cx="1008360" cy="990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1694520" y="1828800"/>
              <a:ext cx="2274480" cy="436320"/>
              <a:chOff x="1694520" y="1828800"/>
              <a:chExt cx="2274480" cy="436320"/>
            </a:xfrm>
          </p:grpSpPr>
          <p:sp>
            <p:nvSpPr>
              <p:cNvPr id="422" name=""/>
              <p:cNvSpPr/>
              <p:nvPr/>
            </p:nvSpPr>
            <p:spPr>
              <a:xfrm>
                <a:off x="1744920" y="1828800"/>
                <a:ext cx="217368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Corpus 1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694520" y="1828800"/>
                <a:ext cx="2274480" cy="436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3969720" y="1828800"/>
              <a:ext cx="2182680" cy="436320"/>
              <a:chOff x="3969720" y="1828800"/>
              <a:chExt cx="2182680" cy="436320"/>
            </a:xfrm>
          </p:grpSpPr>
          <p:sp>
            <p:nvSpPr>
              <p:cNvPr id="425" name=""/>
              <p:cNvSpPr/>
              <p:nvPr/>
            </p:nvSpPr>
            <p:spPr>
              <a:xfrm>
                <a:off x="4020120" y="1828800"/>
                <a:ext cx="208188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Corpus 2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969720" y="1828800"/>
                <a:ext cx="2182680" cy="436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6152760" y="1828800"/>
              <a:ext cx="2228400" cy="436320"/>
              <a:chOff x="6152760" y="1828800"/>
              <a:chExt cx="2228400" cy="436320"/>
            </a:xfrm>
          </p:grpSpPr>
          <p:sp>
            <p:nvSpPr>
              <p:cNvPr id="428" name=""/>
              <p:cNvSpPr/>
              <p:nvPr/>
            </p:nvSpPr>
            <p:spPr>
              <a:xfrm>
                <a:off x="6203160" y="1828800"/>
                <a:ext cx="212760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Corpus 3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152760" y="1828800"/>
                <a:ext cx="2228400" cy="436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1694520" y="2265120"/>
              <a:ext cx="1091160" cy="554040"/>
              <a:chOff x="1694520" y="2265120"/>
              <a:chExt cx="1091160" cy="554040"/>
            </a:xfrm>
          </p:grpSpPr>
          <p:sp>
            <p:nvSpPr>
              <p:cNvPr id="431" name=""/>
              <p:cNvSpPr/>
              <p:nvPr/>
            </p:nvSpPr>
            <p:spPr>
              <a:xfrm>
                <a:off x="1744920" y="2265120"/>
                <a:ext cx="990360" cy="55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Min. freq.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694520" y="2265120"/>
                <a:ext cx="1091160" cy="55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786040" y="2265120"/>
              <a:ext cx="1182960" cy="554040"/>
              <a:chOff x="2786040" y="2265120"/>
              <a:chExt cx="1182960" cy="554040"/>
            </a:xfrm>
          </p:grpSpPr>
          <p:sp>
            <p:nvSpPr>
              <p:cNvPr id="434" name=""/>
              <p:cNvSpPr/>
              <p:nvPr/>
            </p:nvSpPr>
            <p:spPr>
              <a:xfrm>
                <a:off x="2836440" y="2265120"/>
                <a:ext cx="1082160" cy="55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# of words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786040" y="2265120"/>
                <a:ext cx="1182960" cy="55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969720" y="2265120"/>
              <a:ext cx="1091160" cy="554040"/>
              <a:chOff x="3969720" y="2265120"/>
              <a:chExt cx="1091160" cy="554040"/>
            </a:xfrm>
          </p:grpSpPr>
          <p:sp>
            <p:nvSpPr>
              <p:cNvPr id="437" name=""/>
              <p:cNvSpPr/>
              <p:nvPr/>
            </p:nvSpPr>
            <p:spPr>
              <a:xfrm>
                <a:off x="4020120" y="2265120"/>
                <a:ext cx="990360" cy="55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Min. freq.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969720" y="2265120"/>
                <a:ext cx="1091160" cy="55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5061240" y="2265120"/>
              <a:ext cx="1091160" cy="554040"/>
              <a:chOff x="5061240" y="2265120"/>
              <a:chExt cx="1091160" cy="554040"/>
            </a:xfrm>
          </p:grpSpPr>
          <p:sp>
            <p:nvSpPr>
              <p:cNvPr id="440" name=""/>
              <p:cNvSpPr/>
              <p:nvPr/>
            </p:nvSpPr>
            <p:spPr>
              <a:xfrm>
                <a:off x="5111640" y="2265120"/>
                <a:ext cx="990360" cy="55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# of words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061240" y="2265120"/>
                <a:ext cx="1091160" cy="55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6152760" y="2265120"/>
              <a:ext cx="1091160" cy="554040"/>
              <a:chOff x="6152760" y="2265120"/>
              <a:chExt cx="1091160" cy="554040"/>
            </a:xfrm>
          </p:grpSpPr>
          <p:sp>
            <p:nvSpPr>
              <p:cNvPr id="443" name=""/>
              <p:cNvSpPr/>
              <p:nvPr/>
            </p:nvSpPr>
            <p:spPr>
              <a:xfrm>
                <a:off x="6203160" y="2265120"/>
                <a:ext cx="990360" cy="55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Min. freq.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52760" y="2265120"/>
                <a:ext cx="1091160" cy="55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7244280" y="2265120"/>
              <a:ext cx="1136880" cy="554040"/>
              <a:chOff x="7244280" y="2265120"/>
              <a:chExt cx="1136880" cy="554040"/>
            </a:xfrm>
          </p:grpSpPr>
          <p:sp>
            <p:nvSpPr>
              <p:cNvPr id="446" name=""/>
              <p:cNvSpPr/>
              <p:nvPr/>
            </p:nvSpPr>
            <p:spPr>
              <a:xfrm>
                <a:off x="7294680" y="2265120"/>
                <a:ext cx="1036080" cy="55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# of words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244280" y="2265120"/>
                <a:ext cx="1136880" cy="55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</p:grpSp>
      <p:sp>
        <p:nvSpPr>
          <p:cNvPr id="448" name=""/>
          <p:cNvSpPr/>
          <p:nvPr/>
        </p:nvSpPr>
        <p:spPr>
          <a:xfrm flipH="1" flipV="1">
            <a:off x="685800" y="1828800"/>
            <a:ext cx="990720" cy="990720"/>
          </a:xfrm>
          <a:prstGeom prst="line">
            <a:avLst/>
          </a:prstGeom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B993-6F99-4163-8DD5-B7FD89AECC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b991"/>
                </a:solidFill>
                <a:latin typeface="굴림"/>
              </a:rPr>
              <a:t>Frequency Graph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5334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b372d"/>
                </a:solidFill>
                <a:latin typeface="굴림"/>
              </a:rPr>
              <a:t>Fig 1. Corpus 1</a:t>
            </a:r>
            <a:r>
              <a:rPr b="0" lang="en-US" sz="3000" spc="-1" strike="noStrike">
                <a:solidFill>
                  <a:srgbClr val="1b372d"/>
                </a:solidFill>
                <a:latin typeface="굴림"/>
              </a:rPr>
              <a:t>	</a:t>
            </a:r>
            <a:r>
              <a:rPr b="0" lang="en-US" sz="3000" spc="-1" strike="noStrike">
                <a:solidFill>
                  <a:srgbClr val="1b372d"/>
                </a:solidFill>
                <a:latin typeface="굴림"/>
              </a:rPr>
              <a:t>      Fig 2. Corpus 2</a:t>
            </a: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223344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228600" y="2057400"/>
          <a:ext cx="4448160" cy="3200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057400"/>
                    <a:ext cx="44481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19810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4648320" y="2057400"/>
          <a:ext cx="4286160" cy="32004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2057400"/>
                    <a:ext cx="42861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8A37-9B93-41E0-B59E-77566DF3A5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b991"/>
                </a:solidFill>
                <a:latin typeface="굴림"/>
                <a:ea typeface="바탕"/>
              </a:rPr>
              <a:t>Hit Ratio of 90% Word Set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1b372d"/>
              </a:solidFill>
              <a:latin typeface="굴림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762120" y="1676520"/>
            <a:ext cx="7771320" cy="4800600"/>
            <a:chOff x="762120" y="1676520"/>
            <a:chExt cx="7771320" cy="4800600"/>
          </a:xfrm>
        </p:grpSpPr>
        <p:grpSp>
          <p:nvGrpSpPr>
            <p:cNvPr id="460" name=""/>
            <p:cNvGrpSpPr/>
            <p:nvPr/>
          </p:nvGrpSpPr>
          <p:grpSpPr>
            <a:xfrm>
              <a:off x="762120" y="1676520"/>
              <a:ext cx="1922760" cy="764640"/>
              <a:chOff x="762120" y="1676520"/>
              <a:chExt cx="1922760" cy="764640"/>
            </a:xfrm>
          </p:grpSpPr>
          <p:sp>
            <p:nvSpPr>
              <p:cNvPr id="461" name=""/>
              <p:cNvSpPr/>
              <p:nvPr/>
            </p:nvSpPr>
            <p:spPr>
              <a:xfrm>
                <a:off x="828720" y="1676520"/>
                <a:ext cx="178884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Hit ratio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Doc. Type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62120" y="1676520"/>
                <a:ext cx="1922760" cy="764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2685240" y="1676520"/>
              <a:ext cx="1788840" cy="764640"/>
              <a:chOff x="2685240" y="1676520"/>
              <a:chExt cx="1788840" cy="764640"/>
            </a:xfrm>
          </p:grpSpPr>
          <p:sp>
            <p:nvSpPr>
              <p:cNvPr id="464" name=""/>
              <p:cNvSpPr/>
              <p:nvPr/>
            </p:nvSpPr>
            <p:spPr>
              <a:xfrm>
                <a:off x="2751840" y="1676520"/>
                <a:ext cx="165492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# of words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(test data)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685240" y="1676520"/>
                <a:ext cx="1788840" cy="764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4474800" y="1676520"/>
              <a:ext cx="1983600" cy="764640"/>
              <a:chOff x="4474800" y="1676520"/>
              <a:chExt cx="1983600" cy="764640"/>
            </a:xfrm>
          </p:grpSpPr>
          <p:sp>
            <p:nvSpPr>
              <p:cNvPr id="467" name=""/>
              <p:cNvSpPr/>
              <p:nvPr/>
            </p:nvSpPr>
            <p:spPr>
              <a:xfrm>
                <a:off x="4541400" y="1676520"/>
                <a:ext cx="184968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Hit ratio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(Corpus 1: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369,394 words</a:t>
                </a:r>
                <a:r>
                  <a:rPr b="0" lang="en-US" sz="18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474800" y="1676520"/>
                <a:ext cx="1983600" cy="764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6458760" y="1676520"/>
              <a:ext cx="2074680" cy="764640"/>
              <a:chOff x="6458760" y="1676520"/>
              <a:chExt cx="2074680" cy="764640"/>
            </a:xfrm>
          </p:grpSpPr>
          <p:sp>
            <p:nvSpPr>
              <p:cNvPr id="470" name=""/>
              <p:cNvSpPr/>
              <p:nvPr/>
            </p:nvSpPr>
            <p:spPr>
              <a:xfrm>
                <a:off x="6525360" y="1676520"/>
                <a:ext cx="19407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Hit ratio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(common: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184,128 words</a:t>
                </a:r>
                <a:r>
                  <a:rPr b="0" lang="en-US" sz="18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18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458760" y="1676520"/>
                <a:ext cx="2074680" cy="764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762120" y="2441160"/>
              <a:ext cx="1922760" cy="536760"/>
              <a:chOff x="762120" y="2441160"/>
              <a:chExt cx="1922760" cy="536760"/>
            </a:xfrm>
          </p:grpSpPr>
          <p:sp>
            <p:nvSpPr>
              <p:cNvPr id="473" name=""/>
              <p:cNvSpPr/>
              <p:nvPr/>
            </p:nvSpPr>
            <p:spPr>
              <a:xfrm>
                <a:off x="828720" y="2441160"/>
                <a:ext cx="1788840" cy="53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Encyclopedia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62120" y="2441160"/>
                <a:ext cx="1922760" cy="536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2685240" y="2441160"/>
              <a:ext cx="1788840" cy="536760"/>
              <a:chOff x="2685240" y="2441160"/>
              <a:chExt cx="1788840" cy="536760"/>
            </a:xfrm>
          </p:grpSpPr>
          <p:sp>
            <p:nvSpPr>
              <p:cNvPr id="476" name=""/>
              <p:cNvSpPr/>
              <p:nvPr/>
            </p:nvSpPr>
            <p:spPr>
              <a:xfrm>
                <a:off x="2751840" y="2441160"/>
                <a:ext cx="1654920" cy="53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1,118,094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685240" y="2441160"/>
                <a:ext cx="1788840" cy="536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4474800" y="2441160"/>
              <a:ext cx="1983600" cy="536760"/>
              <a:chOff x="4474800" y="2441160"/>
              <a:chExt cx="1983600" cy="536760"/>
            </a:xfrm>
          </p:grpSpPr>
          <p:sp>
            <p:nvSpPr>
              <p:cNvPr id="479" name=""/>
              <p:cNvSpPr/>
              <p:nvPr/>
            </p:nvSpPr>
            <p:spPr>
              <a:xfrm>
                <a:off x="4541400" y="2441160"/>
                <a:ext cx="1849680" cy="53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88.4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474800" y="2441160"/>
                <a:ext cx="1983600" cy="536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6458760" y="2441160"/>
              <a:ext cx="2074680" cy="536760"/>
              <a:chOff x="6458760" y="2441160"/>
              <a:chExt cx="2074680" cy="536760"/>
            </a:xfrm>
          </p:grpSpPr>
          <p:sp>
            <p:nvSpPr>
              <p:cNvPr id="482" name=""/>
              <p:cNvSpPr/>
              <p:nvPr/>
            </p:nvSpPr>
            <p:spPr>
              <a:xfrm>
                <a:off x="6525360" y="2441160"/>
                <a:ext cx="1940760" cy="53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87.7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458760" y="2441160"/>
                <a:ext cx="2074680" cy="536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762120" y="2978280"/>
              <a:ext cx="1922760" cy="423000"/>
              <a:chOff x="762120" y="2978280"/>
              <a:chExt cx="1922760" cy="423000"/>
            </a:xfrm>
          </p:grpSpPr>
          <p:sp>
            <p:nvSpPr>
              <p:cNvPr id="485" name=""/>
              <p:cNvSpPr/>
              <p:nvPr/>
            </p:nvSpPr>
            <p:spPr>
              <a:xfrm>
                <a:off x="828720" y="2978280"/>
                <a:ext cx="1788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Essay 1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62120" y="2978280"/>
                <a:ext cx="192276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2685240" y="2978280"/>
              <a:ext cx="1788840" cy="423000"/>
              <a:chOff x="2685240" y="2978280"/>
              <a:chExt cx="1788840" cy="423000"/>
            </a:xfrm>
          </p:grpSpPr>
          <p:sp>
            <p:nvSpPr>
              <p:cNvPr id="488" name=""/>
              <p:cNvSpPr/>
              <p:nvPr/>
            </p:nvSpPr>
            <p:spPr>
              <a:xfrm>
                <a:off x="2751840" y="2978280"/>
                <a:ext cx="1654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1,763,619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685240" y="2978280"/>
                <a:ext cx="178884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4474800" y="2978280"/>
              <a:ext cx="1983600" cy="423000"/>
              <a:chOff x="4474800" y="2978280"/>
              <a:chExt cx="1983600" cy="423000"/>
            </a:xfrm>
          </p:grpSpPr>
          <p:sp>
            <p:nvSpPr>
              <p:cNvPr id="491" name=""/>
              <p:cNvSpPr/>
              <p:nvPr/>
            </p:nvSpPr>
            <p:spPr>
              <a:xfrm>
                <a:off x="4541400" y="2978280"/>
                <a:ext cx="18496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88.9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474800" y="2978280"/>
                <a:ext cx="198360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6458760" y="2978280"/>
              <a:ext cx="2074680" cy="423000"/>
              <a:chOff x="6458760" y="2978280"/>
              <a:chExt cx="2074680" cy="423000"/>
            </a:xfrm>
          </p:grpSpPr>
          <p:sp>
            <p:nvSpPr>
              <p:cNvPr id="494" name=""/>
              <p:cNvSpPr/>
              <p:nvPr/>
            </p:nvSpPr>
            <p:spPr>
              <a:xfrm>
                <a:off x="6525360" y="2978280"/>
                <a:ext cx="19407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87.7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458760" y="2978280"/>
                <a:ext cx="207468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762120" y="3401280"/>
              <a:ext cx="1922760" cy="423000"/>
              <a:chOff x="762120" y="3401280"/>
              <a:chExt cx="1922760" cy="423000"/>
            </a:xfrm>
          </p:grpSpPr>
          <p:sp>
            <p:nvSpPr>
              <p:cNvPr id="497" name=""/>
              <p:cNvSpPr/>
              <p:nvPr/>
            </p:nvSpPr>
            <p:spPr>
              <a:xfrm>
                <a:off x="828720" y="3401280"/>
                <a:ext cx="1788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Essay 2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62120" y="3401280"/>
                <a:ext cx="192276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2685240" y="3401280"/>
              <a:ext cx="1788840" cy="423000"/>
              <a:chOff x="2685240" y="3401280"/>
              <a:chExt cx="1788840" cy="423000"/>
            </a:xfrm>
          </p:grpSpPr>
          <p:sp>
            <p:nvSpPr>
              <p:cNvPr id="500" name=""/>
              <p:cNvSpPr/>
              <p:nvPr/>
            </p:nvSpPr>
            <p:spPr>
              <a:xfrm>
                <a:off x="2751840" y="3401280"/>
                <a:ext cx="1654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891,045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685240" y="3401280"/>
                <a:ext cx="178884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4474800" y="3401280"/>
              <a:ext cx="1983600" cy="423000"/>
              <a:chOff x="4474800" y="3401280"/>
              <a:chExt cx="1983600" cy="423000"/>
            </a:xfrm>
          </p:grpSpPr>
          <p:sp>
            <p:nvSpPr>
              <p:cNvPr id="503" name=""/>
              <p:cNvSpPr/>
              <p:nvPr/>
            </p:nvSpPr>
            <p:spPr>
              <a:xfrm>
                <a:off x="4541400" y="3401280"/>
                <a:ext cx="18496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86.0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474800" y="3401280"/>
                <a:ext cx="198360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6458760" y="3401280"/>
              <a:ext cx="2074680" cy="423000"/>
              <a:chOff x="6458760" y="3401280"/>
              <a:chExt cx="2074680" cy="423000"/>
            </a:xfrm>
          </p:grpSpPr>
          <p:sp>
            <p:nvSpPr>
              <p:cNvPr id="506" name=""/>
              <p:cNvSpPr/>
              <p:nvPr/>
            </p:nvSpPr>
            <p:spPr>
              <a:xfrm>
                <a:off x="6525360" y="3401280"/>
                <a:ext cx="19407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84.6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458760" y="3401280"/>
                <a:ext cx="207468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762120" y="3824280"/>
              <a:ext cx="1922760" cy="423000"/>
              <a:chOff x="762120" y="3824280"/>
              <a:chExt cx="1922760" cy="423000"/>
            </a:xfrm>
          </p:grpSpPr>
          <p:sp>
            <p:nvSpPr>
              <p:cNvPr id="509" name=""/>
              <p:cNvSpPr/>
              <p:nvPr/>
            </p:nvSpPr>
            <p:spPr>
              <a:xfrm>
                <a:off x="828720" y="3824280"/>
                <a:ext cx="1788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Literature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62120" y="3824280"/>
                <a:ext cx="192276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2685240" y="3824280"/>
              <a:ext cx="1788840" cy="423000"/>
              <a:chOff x="2685240" y="3824280"/>
              <a:chExt cx="1788840" cy="423000"/>
            </a:xfrm>
          </p:grpSpPr>
          <p:sp>
            <p:nvSpPr>
              <p:cNvPr id="512" name=""/>
              <p:cNvSpPr/>
              <p:nvPr/>
            </p:nvSpPr>
            <p:spPr>
              <a:xfrm>
                <a:off x="2751840" y="3824280"/>
                <a:ext cx="1654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301,212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685240" y="3824280"/>
                <a:ext cx="178884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4474800" y="3824280"/>
              <a:ext cx="1983600" cy="423000"/>
              <a:chOff x="4474800" y="3824280"/>
              <a:chExt cx="1983600" cy="423000"/>
            </a:xfrm>
          </p:grpSpPr>
          <p:sp>
            <p:nvSpPr>
              <p:cNvPr id="515" name=""/>
              <p:cNvSpPr/>
              <p:nvPr/>
            </p:nvSpPr>
            <p:spPr>
              <a:xfrm>
                <a:off x="4541400" y="3824280"/>
                <a:ext cx="18496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78.3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474800" y="3824280"/>
                <a:ext cx="198360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6458760" y="3824280"/>
              <a:ext cx="2074680" cy="423000"/>
              <a:chOff x="6458760" y="3824280"/>
              <a:chExt cx="2074680" cy="423000"/>
            </a:xfrm>
          </p:grpSpPr>
          <p:sp>
            <p:nvSpPr>
              <p:cNvPr id="518" name=""/>
              <p:cNvSpPr/>
              <p:nvPr/>
            </p:nvSpPr>
            <p:spPr>
              <a:xfrm>
                <a:off x="6525360" y="3824280"/>
                <a:ext cx="19407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77.0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458760" y="3824280"/>
                <a:ext cx="207468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762120" y="4247640"/>
              <a:ext cx="1922760" cy="423000"/>
              <a:chOff x="762120" y="4247640"/>
              <a:chExt cx="1922760" cy="423000"/>
            </a:xfrm>
          </p:grpSpPr>
          <p:sp>
            <p:nvSpPr>
              <p:cNvPr id="521" name=""/>
              <p:cNvSpPr/>
              <p:nvPr/>
            </p:nvSpPr>
            <p:spPr>
              <a:xfrm>
                <a:off x="828720" y="4247640"/>
                <a:ext cx="1788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News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62120" y="4247640"/>
                <a:ext cx="192276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2685240" y="4247640"/>
              <a:ext cx="1788840" cy="423000"/>
              <a:chOff x="2685240" y="4247640"/>
              <a:chExt cx="1788840" cy="423000"/>
            </a:xfrm>
          </p:grpSpPr>
          <p:sp>
            <p:nvSpPr>
              <p:cNvPr id="524" name=""/>
              <p:cNvSpPr/>
              <p:nvPr/>
            </p:nvSpPr>
            <p:spPr>
              <a:xfrm>
                <a:off x="2751840" y="4247640"/>
                <a:ext cx="1654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469,077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685240" y="4247640"/>
                <a:ext cx="178884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4474800" y="4247640"/>
              <a:ext cx="1983600" cy="423000"/>
              <a:chOff x="4474800" y="4247640"/>
              <a:chExt cx="1983600" cy="423000"/>
            </a:xfrm>
          </p:grpSpPr>
          <p:sp>
            <p:nvSpPr>
              <p:cNvPr id="527" name=""/>
              <p:cNvSpPr/>
              <p:nvPr/>
            </p:nvSpPr>
            <p:spPr>
              <a:xfrm>
                <a:off x="4541400" y="4247640"/>
                <a:ext cx="18496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75.7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474800" y="4247640"/>
                <a:ext cx="198360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6458760" y="4247640"/>
              <a:ext cx="2074680" cy="423000"/>
              <a:chOff x="6458760" y="4247640"/>
              <a:chExt cx="2074680" cy="423000"/>
            </a:xfrm>
          </p:grpSpPr>
          <p:sp>
            <p:nvSpPr>
              <p:cNvPr id="530" name=""/>
              <p:cNvSpPr/>
              <p:nvPr/>
            </p:nvSpPr>
            <p:spPr>
              <a:xfrm>
                <a:off x="6525360" y="4247640"/>
                <a:ext cx="19407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74.8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458760" y="4247640"/>
                <a:ext cx="207468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762120" y="4670640"/>
              <a:ext cx="1922760" cy="423000"/>
              <a:chOff x="762120" y="4670640"/>
              <a:chExt cx="1922760" cy="423000"/>
            </a:xfrm>
          </p:grpSpPr>
          <p:sp>
            <p:nvSpPr>
              <p:cNvPr id="533" name=""/>
              <p:cNvSpPr/>
              <p:nvPr/>
            </p:nvSpPr>
            <p:spPr>
              <a:xfrm>
                <a:off x="828720" y="4670640"/>
                <a:ext cx="1788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KTSET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62120" y="4670640"/>
                <a:ext cx="192276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2685240" y="4670640"/>
              <a:ext cx="1788840" cy="423000"/>
              <a:chOff x="2685240" y="4670640"/>
              <a:chExt cx="1788840" cy="423000"/>
            </a:xfrm>
          </p:grpSpPr>
          <p:sp>
            <p:nvSpPr>
              <p:cNvPr id="536" name=""/>
              <p:cNvSpPr/>
              <p:nvPr/>
            </p:nvSpPr>
            <p:spPr>
              <a:xfrm>
                <a:off x="2751840" y="4670640"/>
                <a:ext cx="1654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131,479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685240" y="4670640"/>
                <a:ext cx="178884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4474800" y="4670640"/>
              <a:ext cx="1983600" cy="423000"/>
              <a:chOff x="4474800" y="4670640"/>
              <a:chExt cx="1983600" cy="423000"/>
            </a:xfrm>
          </p:grpSpPr>
          <p:sp>
            <p:nvSpPr>
              <p:cNvPr id="539" name=""/>
              <p:cNvSpPr/>
              <p:nvPr/>
            </p:nvSpPr>
            <p:spPr>
              <a:xfrm>
                <a:off x="4541400" y="4670640"/>
                <a:ext cx="18496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83.5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474800" y="4670640"/>
                <a:ext cx="198360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6458760" y="4670640"/>
              <a:ext cx="2074680" cy="423000"/>
              <a:chOff x="6458760" y="4670640"/>
              <a:chExt cx="2074680" cy="423000"/>
            </a:xfrm>
          </p:grpSpPr>
          <p:sp>
            <p:nvSpPr>
              <p:cNvPr id="542" name=""/>
              <p:cNvSpPr/>
              <p:nvPr/>
            </p:nvSpPr>
            <p:spPr>
              <a:xfrm>
                <a:off x="6525360" y="4670640"/>
                <a:ext cx="19407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83.5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58760" y="4670640"/>
                <a:ext cx="207468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762120" y="5094000"/>
              <a:ext cx="1922760" cy="423000"/>
              <a:chOff x="762120" y="5094000"/>
              <a:chExt cx="1922760" cy="423000"/>
            </a:xfrm>
          </p:grpSpPr>
          <p:sp>
            <p:nvSpPr>
              <p:cNvPr id="545" name=""/>
              <p:cNvSpPr/>
              <p:nvPr/>
            </p:nvSpPr>
            <p:spPr>
              <a:xfrm>
                <a:off x="828720" y="5094000"/>
                <a:ext cx="1788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KTSET2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62120" y="5094000"/>
                <a:ext cx="192276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2685240" y="5094000"/>
              <a:ext cx="1788840" cy="423000"/>
              <a:chOff x="2685240" y="5094000"/>
              <a:chExt cx="1788840" cy="423000"/>
            </a:xfrm>
          </p:grpSpPr>
          <p:sp>
            <p:nvSpPr>
              <p:cNvPr id="548" name=""/>
              <p:cNvSpPr/>
              <p:nvPr/>
            </p:nvSpPr>
            <p:spPr>
              <a:xfrm>
                <a:off x="2751840" y="5094000"/>
                <a:ext cx="1654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585,996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685240" y="5094000"/>
                <a:ext cx="178884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4474800" y="5094000"/>
              <a:ext cx="1983600" cy="423000"/>
              <a:chOff x="4474800" y="5094000"/>
              <a:chExt cx="1983600" cy="423000"/>
            </a:xfrm>
          </p:grpSpPr>
          <p:sp>
            <p:nvSpPr>
              <p:cNvPr id="551" name=""/>
              <p:cNvSpPr/>
              <p:nvPr/>
            </p:nvSpPr>
            <p:spPr>
              <a:xfrm>
                <a:off x="4541400" y="5094000"/>
                <a:ext cx="18496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85.1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74800" y="5094000"/>
                <a:ext cx="198360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6458760" y="5094000"/>
              <a:ext cx="2074680" cy="423000"/>
              <a:chOff x="6458760" y="5094000"/>
              <a:chExt cx="2074680" cy="423000"/>
            </a:xfrm>
          </p:grpSpPr>
          <p:sp>
            <p:nvSpPr>
              <p:cNvPr id="554" name=""/>
              <p:cNvSpPr/>
              <p:nvPr/>
            </p:nvSpPr>
            <p:spPr>
              <a:xfrm>
                <a:off x="6525360" y="5094000"/>
                <a:ext cx="19407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84.8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458760" y="5094000"/>
                <a:ext cx="207468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762120" y="5517000"/>
              <a:ext cx="1922760" cy="423000"/>
              <a:chOff x="762120" y="5517000"/>
              <a:chExt cx="1922760" cy="423000"/>
            </a:xfrm>
          </p:grpSpPr>
          <p:sp>
            <p:nvSpPr>
              <p:cNvPr id="557" name=""/>
              <p:cNvSpPr/>
              <p:nvPr/>
            </p:nvSpPr>
            <p:spPr>
              <a:xfrm>
                <a:off x="828720" y="5517000"/>
                <a:ext cx="1788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KRIST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62120" y="5517000"/>
                <a:ext cx="192276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2685240" y="5517000"/>
              <a:ext cx="1788840" cy="423000"/>
              <a:chOff x="2685240" y="5517000"/>
              <a:chExt cx="1788840" cy="423000"/>
            </a:xfrm>
          </p:grpSpPr>
          <p:sp>
            <p:nvSpPr>
              <p:cNvPr id="560" name=""/>
              <p:cNvSpPr/>
              <p:nvPr/>
            </p:nvSpPr>
            <p:spPr>
              <a:xfrm>
                <a:off x="2751840" y="5517000"/>
                <a:ext cx="1654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1,277,900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685240" y="5517000"/>
                <a:ext cx="178884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4474800" y="5517000"/>
              <a:ext cx="1983600" cy="423000"/>
              <a:chOff x="4474800" y="5517000"/>
              <a:chExt cx="1983600" cy="423000"/>
            </a:xfrm>
          </p:grpSpPr>
          <p:sp>
            <p:nvSpPr>
              <p:cNvPr id="563" name=""/>
              <p:cNvSpPr/>
              <p:nvPr/>
            </p:nvSpPr>
            <p:spPr>
              <a:xfrm>
                <a:off x="4541400" y="5517000"/>
                <a:ext cx="18496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72.4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474800" y="5517000"/>
                <a:ext cx="198360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6458760" y="5517000"/>
              <a:ext cx="2074680" cy="423000"/>
              <a:chOff x="6458760" y="5517000"/>
              <a:chExt cx="2074680" cy="423000"/>
            </a:xfrm>
          </p:grpSpPr>
          <p:sp>
            <p:nvSpPr>
              <p:cNvPr id="566" name=""/>
              <p:cNvSpPr/>
              <p:nvPr/>
            </p:nvSpPr>
            <p:spPr>
              <a:xfrm>
                <a:off x="6525360" y="5517000"/>
                <a:ext cx="19407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72.2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458760" y="5517000"/>
                <a:ext cx="2074680" cy="42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762120" y="5940360"/>
              <a:ext cx="1922760" cy="536760"/>
              <a:chOff x="762120" y="5940360"/>
              <a:chExt cx="1922760" cy="536760"/>
            </a:xfrm>
          </p:grpSpPr>
          <p:sp>
            <p:nvSpPr>
              <p:cNvPr id="569" name=""/>
              <p:cNvSpPr/>
              <p:nvPr/>
            </p:nvSpPr>
            <p:spPr>
              <a:xfrm>
                <a:off x="828720" y="5940360"/>
                <a:ext cx="1788840" cy="53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Total / Average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62120" y="5940360"/>
                <a:ext cx="1922760" cy="536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2685240" y="5940360"/>
              <a:ext cx="1788840" cy="536760"/>
              <a:chOff x="2685240" y="5940360"/>
              <a:chExt cx="1788840" cy="536760"/>
            </a:xfrm>
          </p:grpSpPr>
          <p:sp>
            <p:nvSpPr>
              <p:cNvPr id="572" name=""/>
              <p:cNvSpPr/>
              <p:nvPr/>
            </p:nvSpPr>
            <p:spPr>
              <a:xfrm>
                <a:off x="2751840" y="5940360"/>
                <a:ext cx="1654920" cy="53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6,538,422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685240" y="5940360"/>
                <a:ext cx="1788840" cy="536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4474800" y="5940360"/>
              <a:ext cx="1983600" cy="536760"/>
              <a:chOff x="4474800" y="5940360"/>
              <a:chExt cx="1983600" cy="536760"/>
            </a:xfrm>
          </p:grpSpPr>
          <p:sp>
            <p:nvSpPr>
              <p:cNvPr id="575" name=""/>
              <p:cNvSpPr/>
              <p:nvPr/>
            </p:nvSpPr>
            <p:spPr>
              <a:xfrm>
                <a:off x="4541400" y="5940360"/>
                <a:ext cx="1849680" cy="53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82.3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474800" y="5940360"/>
                <a:ext cx="1983600" cy="536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6458760" y="5940360"/>
              <a:ext cx="2074680" cy="536760"/>
              <a:chOff x="6458760" y="5940360"/>
              <a:chExt cx="2074680" cy="536760"/>
            </a:xfrm>
          </p:grpSpPr>
          <p:sp>
            <p:nvSpPr>
              <p:cNvPr id="578" name=""/>
              <p:cNvSpPr/>
              <p:nvPr/>
            </p:nvSpPr>
            <p:spPr>
              <a:xfrm>
                <a:off x="6525360" y="5940360"/>
                <a:ext cx="1940760" cy="53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81.6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458760" y="5940360"/>
                <a:ext cx="2074680" cy="536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</p:grpSp>
      <p:sp>
        <p:nvSpPr>
          <p:cNvPr id="580" name=""/>
          <p:cNvSpPr/>
          <p:nvPr/>
        </p:nvSpPr>
        <p:spPr>
          <a:xfrm>
            <a:off x="762120" y="1752480"/>
            <a:ext cx="1904760" cy="762120"/>
          </a:xfrm>
          <a:prstGeom prst="line">
            <a:avLst/>
          </a:prstGeom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7A97-618F-4E69-BAE9-51830B37A9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1fb991"/>
                </a:solidFill>
                <a:latin typeface="굴림"/>
              </a:rPr>
              <a:t>Corpus 1 ∩ Corpus 2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5181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762120" y="2057400"/>
            <a:ext cx="7618680" cy="4033440"/>
            <a:chOff x="762120" y="2057400"/>
            <a:chExt cx="7618680" cy="4033440"/>
          </a:xfrm>
        </p:grpSpPr>
        <p:grpSp>
          <p:nvGrpSpPr>
            <p:cNvPr id="584" name=""/>
            <p:cNvGrpSpPr/>
            <p:nvPr/>
          </p:nvGrpSpPr>
          <p:grpSpPr>
            <a:xfrm>
              <a:off x="762120" y="2057400"/>
              <a:ext cx="1371600" cy="936720"/>
              <a:chOff x="762120" y="2057400"/>
              <a:chExt cx="1371600" cy="936720"/>
            </a:xfrm>
          </p:grpSpPr>
          <p:sp>
            <p:nvSpPr>
              <p:cNvPr id="585" name=""/>
              <p:cNvSpPr/>
              <p:nvPr/>
            </p:nvSpPr>
            <p:spPr>
              <a:xfrm>
                <a:off x="830520" y="2057400"/>
                <a:ext cx="1234080" cy="93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words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coverage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62120" y="2057400"/>
                <a:ext cx="1371600" cy="936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134080" y="2057400"/>
              <a:ext cx="1658520" cy="936720"/>
              <a:chOff x="2134080" y="2057400"/>
              <a:chExt cx="1658520" cy="936720"/>
            </a:xfrm>
          </p:grpSpPr>
          <p:sp>
            <p:nvSpPr>
              <p:cNvPr id="588" name=""/>
              <p:cNvSpPr/>
              <p:nvPr/>
            </p:nvSpPr>
            <p:spPr>
              <a:xfrm>
                <a:off x="2202480" y="2057400"/>
                <a:ext cx="1521000" cy="93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# of words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(Corpus 2)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34080" y="2057400"/>
                <a:ext cx="1658520" cy="936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3792960" y="2057400"/>
              <a:ext cx="2306160" cy="936720"/>
              <a:chOff x="3792960" y="2057400"/>
              <a:chExt cx="2306160" cy="936720"/>
            </a:xfrm>
          </p:grpSpPr>
          <p:sp>
            <p:nvSpPr>
              <p:cNvPr id="591" name=""/>
              <p:cNvSpPr/>
              <p:nvPr/>
            </p:nvSpPr>
            <p:spPr>
              <a:xfrm>
                <a:off x="3861360" y="2057400"/>
                <a:ext cx="2168640" cy="93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# of words for same number(%)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792960" y="2057400"/>
                <a:ext cx="2306160" cy="936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6099840" y="2057400"/>
              <a:ext cx="2280960" cy="936720"/>
              <a:chOff x="6099840" y="2057400"/>
              <a:chExt cx="2280960" cy="936720"/>
            </a:xfrm>
          </p:grpSpPr>
          <p:sp>
            <p:nvSpPr>
              <p:cNvPr id="594" name=""/>
              <p:cNvSpPr/>
              <p:nvPr/>
            </p:nvSpPr>
            <p:spPr>
              <a:xfrm>
                <a:off x="6168240" y="2057400"/>
                <a:ext cx="2143440" cy="93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# of words for same percent(%)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099840" y="2057400"/>
                <a:ext cx="2280960" cy="936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762120" y="2994120"/>
              <a:ext cx="1371600" cy="518040"/>
              <a:chOff x="762120" y="2994120"/>
              <a:chExt cx="1371600" cy="518040"/>
            </a:xfrm>
          </p:grpSpPr>
          <p:sp>
            <p:nvSpPr>
              <p:cNvPr id="597" name=""/>
              <p:cNvSpPr/>
              <p:nvPr/>
            </p:nvSpPr>
            <p:spPr>
              <a:xfrm>
                <a:off x="830520" y="2994120"/>
                <a:ext cx="123408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10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62120" y="2994120"/>
                <a:ext cx="1371600" cy="51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2134080" y="2994120"/>
              <a:ext cx="1658520" cy="518040"/>
              <a:chOff x="2134080" y="2994120"/>
              <a:chExt cx="1658520" cy="518040"/>
            </a:xfrm>
          </p:grpSpPr>
          <p:sp>
            <p:nvSpPr>
              <p:cNvPr id="600" name=""/>
              <p:cNvSpPr/>
              <p:nvPr/>
            </p:nvSpPr>
            <p:spPr>
              <a:xfrm>
                <a:off x="2202480" y="2994120"/>
                <a:ext cx="152100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134080" y="2994120"/>
                <a:ext cx="1658520" cy="51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3792960" y="2994120"/>
              <a:ext cx="2306160" cy="518040"/>
              <a:chOff x="3792960" y="2994120"/>
              <a:chExt cx="2306160" cy="518040"/>
            </a:xfrm>
          </p:grpSpPr>
          <p:sp>
            <p:nvSpPr>
              <p:cNvPr id="603" name=""/>
              <p:cNvSpPr/>
              <p:nvPr/>
            </p:nvSpPr>
            <p:spPr>
              <a:xfrm>
                <a:off x="3861360" y="2994120"/>
                <a:ext cx="216864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29 (72.5%)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792960" y="2994120"/>
                <a:ext cx="2306160" cy="51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6099840" y="2994120"/>
              <a:ext cx="2280960" cy="518040"/>
              <a:chOff x="6099840" y="2994120"/>
              <a:chExt cx="2280960" cy="518040"/>
            </a:xfrm>
          </p:grpSpPr>
          <p:sp>
            <p:nvSpPr>
              <p:cNvPr id="606" name=""/>
              <p:cNvSpPr/>
              <p:nvPr/>
            </p:nvSpPr>
            <p:spPr>
              <a:xfrm>
                <a:off x="6168240" y="2994120"/>
                <a:ext cx="214344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30 (75.0%)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099840" y="2994120"/>
                <a:ext cx="2280960" cy="51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762120" y="3512160"/>
              <a:ext cx="1371600" cy="518400"/>
              <a:chOff x="762120" y="3512160"/>
              <a:chExt cx="1371600" cy="518400"/>
            </a:xfrm>
          </p:grpSpPr>
          <p:sp>
            <p:nvSpPr>
              <p:cNvPr id="609" name=""/>
              <p:cNvSpPr/>
              <p:nvPr/>
            </p:nvSpPr>
            <p:spPr>
              <a:xfrm>
                <a:off x="830520" y="3512160"/>
                <a:ext cx="123408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20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62120" y="3512160"/>
                <a:ext cx="1371600" cy="518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2134080" y="3512160"/>
              <a:ext cx="1658520" cy="518400"/>
              <a:chOff x="2134080" y="3512160"/>
              <a:chExt cx="1658520" cy="518400"/>
            </a:xfrm>
          </p:grpSpPr>
          <p:sp>
            <p:nvSpPr>
              <p:cNvPr id="612" name=""/>
              <p:cNvSpPr/>
              <p:nvPr/>
            </p:nvSpPr>
            <p:spPr>
              <a:xfrm>
                <a:off x="2202480" y="3512160"/>
                <a:ext cx="152100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221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134080" y="3512160"/>
                <a:ext cx="1658520" cy="518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3792960" y="3512160"/>
              <a:ext cx="2306160" cy="518400"/>
              <a:chOff x="3792960" y="3512160"/>
              <a:chExt cx="2306160" cy="518400"/>
            </a:xfrm>
          </p:grpSpPr>
          <p:sp>
            <p:nvSpPr>
              <p:cNvPr id="615" name=""/>
              <p:cNvSpPr/>
              <p:nvPr/>
            </p:nvSpPr>
            <p:spPr>
              <a:xfrm>
                <a:off x="3861360" y="3512160"/>
                <a:ext cx="216864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162 (73.3%)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792960" y="3512160"/>
                <a:ext cx="2306160" cy="518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6099840" y="3512160"/>
              <a:ext cx="2280960" cy="518400"/>
              <a:chOff x="6099840" y="3512160"/>
              <a:chExt cx="2280960" cy="518400"/>
            </a:xfrm>
          </p:grpSpPr>
          <p:sp>
            <p:nvSpPr>
              <p:cNvPr id="618" name=""/>
              <p:cNvSpPr/>
              <p:nvPr/>
            </p:nvSpPr>
            <p:spPr>
              <a:xfrm>
                <a:off x="6168240" y="3512160"/>
                <a:ext cx="214344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165 (74.7%)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099840" y="3512160"/>
                <a:ext cx="2280960" cy="518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762120" y="4030920"/>
              <a:ext cx="1371600" cy="518040"/>
              <a:chOff x="762120" y="4030920"/>
              <a:chExt cx="1371600" cy="518040"/>
            </a:xfrm>
          </p:grpSpPr>
          <p:sp>
            <p:nvSpPr>
              <p:cNvPr id="621" name=""/>
              <p:cNvSpPr/>
              <p:nvPr/>
            </p:nvSpPr>
            <p:spPr>
              <a:xfrm>
                <a:off x="830520" y="4030920"/>
                <a:ext cx="123408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30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62120" y="4030920"/>
                <a:ext cx="1371600" cy="51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2134080" y="4030920"/>
              <a:ext cx="1658520" cy="518040"/>
              <a:chOff x="2134080" y="4030920"/>
              <a:chExt cx="1658520" cy="518040"/>
            </a:xfrm>
          </p:grpSpPr>
          <p:sp>
            <p:nvSpPr>
              <p:cNvPr id="624" name=""/>
              <p:cNvSpPr/>
              <p:nvPr/>
            </p:nvSpPr>
            <p:spPr>
              <a:xfrm>
                <a:off x="2202480" y="4030920"/>
                <a:ext cx="152100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790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134080" y="4030920"/>
                <a:ext cx="1658520" cy="51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3792960" y="4030920"/>
              <a:ext cx="2306160" cy="518040"/>
              <a:chOff x="3792960" y="4030920"/>
              <a:chExt cx="2306160" cy="518040"/>
            </a:xfrm>
          </p:grpSpPr>
          <p:sp>
            <p:nvSpPr>
              <p:cNvPr id="627" name=""/>
              <p:cNvSpPr/>
              <p:nvPr/>
            </p:nvSpPr>
            <p:spPr>
              <a:xfrm>
                <a:off x="3861360" y="4030920"/>
                <a:ext cx="216864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562 (71.1%)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792960" y="4030920"/>
                <a:ext cx="2306160" cy="51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6099840" y="4030920"/>
              <a:ext cx="2280960" cy="518040"/>
              <a:chOff x="6099840" y="4030920"/>
              <a:chExt cx="2280960" cy="518040"/>
            </a:xfrm>
          </p:grpSpPr>
          <p:sp>
            <p:nvSpPr>
              <p:cNvPr id="630" name=""/>
              <p:cNvSpPr/>
              <p:nvPr/>
            </p:nvSpPr>
            <p:spPr>
              <a:xfrm>
                <a:off x="6168240" y="4030920"/>
                <a:ext cx="214344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563 (71.3%)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099840" y="4030920"/>
                <a:ext cx="2280960" cy="51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762120" y="4549320"/>
              <a:ext cx="1371600" cy="505080"/>
              <a:chOff x="762120" y="4549320"/>
              <a:chExt cx="1371600" cy="505080"/>
            </a:xfrm>
          </p:grpSpPr>
          <p:sp>
            <p:nvSpPr>
              <p:cNvPr id="633" name=""/>
              <p:cNvSpPr/>
              <p:nvPr/>
            </p:nvSpPr>
            <p:spPr>
              <a:xfrm>
                <a:off x="830520" y="4549320"/>
                <a:ext cx="12340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바탕"/>
                    <a:ea typeface="바탕"/>
                  </a:rPr>
                  <a:t>… 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62120" y="4549320"/>
                <a:ext cx="1371600" cy="505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2134080" y="4549320"/>
              <a:ext cx="1658520" cy="505080"/>
              <a:chOff x="2134080" y="4549320"/>
              <a:chExt cx="1658520" cy="505080"/>
            </a:xfrm>
          </p:grpSpPr>
          <p:sp>
            <p:nvSpPr>
              <p:cNvPr id="636" name=""/>
              <p:cNvSpPr/>
              <p:nvPr/>
            </p:nvSpPr>
            <p:spPr>
              <a:xfrm>
                <a:off x="2202480" y="4549320"/>
                <a:ext cx="15210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바탕"/>
                    <a:ea typeface="바탕"/>
                  </a:rPr>
                  <a:t>  …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134080" y="4549320"/>
                <a:ext cx="1658520" cy="505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3792960" y="4549320"/>
              <a:ext cx="2306160" cy="505080"/>
              <a:chOff x="3792960" y="4549320"/>
              <a:chExt cx="2306160" cy="505080"/>
            </a:xfrm>
          </p:grpSpPr>
          <p:sp>
            <p:nvSpPr>
              <p:cNvPr id="639" name=""/>
              <p:cNvSpPr/>
              <p:nvPr/>
            </p:nvSpPr>
            <p:spPr>
              <a:xfrm>
                <a:off x="3861360" y="4549320"/>
                <a:ext cx="216864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바탕"/>
                    <a:ea typeface="바탕"/>
                  </a:rPr>
                  <a:t>…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792960" y="4549320"/>
                <a:ext cx="2306160" cy="505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6099840" y="4549320"/>
              <a:ext cx="2280960" cy="505080"/>
              <a:chOff x="6099840" y="4549320"/>
              <a:chExt cx="2280960" cy="505080"/>
            </a:xfrm>
          </p:grpSpPr>
          <p:sp>
            <p:nvSpPr>
              <p:cNvPr id="642" name=""/>
              <p:cNvSpPr/>
              <p:nvPr/>
            </p:nvSpPr>
            <p:spPr>
              <a:xfrm>
                <a:off x="6168240" y="4549320"/>
                <a:ext cx="214344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바탕"/>
                    <a:ea typeface="바탕"/>
                  </a:rPr>
                  <a:t>  …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099840" y="4549320"/>
                <a:ext cx="2280960" cy="505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762120" y="5054400"/>
              <a:ext cx="1371600" cy="518400"/>
              <a:chOff x="762120" y="5054400"/>
              <a:chExt cx="1371600" cy="518400"/>
            </a:xfrm>
          </p:grpSpPr>
          <p:sp>
            <p:nvSpPr>
              <p:cNvPr id="645" name=""/>
              <p:cNvSpPr/>
              <p:nvPr/>
            </p:nvSpPr>
            <p:spPr>
              <a:xfrm>
                <a:off x="830520" y="5054400"/>
                <a:ext cx="123408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85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62120" y="5054400"/>
                <a:ext cx="1371600" cy="518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2134080" y="5054400"/>
              <a:ext cx="1658520" cy="518400"/>
              <a:chOff x="2134080" y="5054400"/>
              <a:chExt cx="1658520" cy="518400"/>
            </a:xfrm>
          </p:grpSpPr>
          <p:sp>
            <p:nvSpPr>
              <p:cNvPr id="648" name=""/>
              <p:cNvSpPr/>
              <p:nvPr/>
            </p:nvSpPr>
            <p:spPr>
              <a:xfrm>
                <a:off x="2202480" y="5054400"/>
                <a:ext cx="152100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159,680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134080" y="5054400"/>
                <a:ext cx="1658520" cy="518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3792960" y="5054400"/>
              <a:ext cx="2306160" cy="518400"/>
              <a:chOff x="3792960" y="5054400"/>
              <a:chExt cx="2306160" cy="518400"/>
            </a:xfrm>
          </p:grpSpPr>
          <p:sp>
            <p:nvSpPr>
              <p:cNvPr id="651" name=""/>
              <p:cNvSpPr/>
              <p:nvPr/>
            </p:nvSpPr>
            <p:spPr>
              <a:xfrm>
                <a:off x="3861360" y="5054400"/>
                <a:ext cx="216864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96,771 (60.6%)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792960" y="5054400"/>
                <a:ext cx="2306160" cy="518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6099840" y="5054400"/>
              <a:ext cx="2280960" cy="518400"/>
              <a:chOff x="6099840" y="5054400"/>
              <a:chExt cx="2280960" cy="518400"/>
            </a:xfrm>
          </p:grpSpPr>
          <p:sp>
            <p:nvSpPr>
              <p:cNvPr id="654" name=""/>
              <p:cNvSpPr/>
              <p:nvPr/>
            </p:nvSpPr>
            <p:spPr>
              <a:xfrm>
                <a:off x="6168240" y="5054400"/>
                <a:ext cx="214344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99,213 (62.1%)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099840" y="5054400"/>
                <a:ext cx="2280960" cy="518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762120" y="5572800"/>
              <a:ext cx="1371600" cy="518040"/>
              <a:chOff x="762120" y="5572800"/>
              <a:chExt cx="1371600" cy="518040"/>
            </a:xfrm>
          </p:grpSpPr>
          <p:sp>
            <p:nvSpPr>
              <p:cNvPr id="657" name=""/>
              <p:cNvSpPr/>
              <p:nvPr/>
            </p:nvSpPr>
            <p:spPr>
              <a:xfrm>
                <a:off x="830520" y="5572800"/>
                <a:ext cx="123408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90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62120" y="5572800"/>
                <a:ext cx="1371600" cy="51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2134080" y="5572800"/>
              <a:ext cx="1658520" cy="518040"/>
              <a:chOff x="2134080" y="5572800"/>
              <a:chExt cx="1658520" cy="518040"/>
            </a:xfrm>
          </p:grpSpPr>
          <p:sp>
            <p:nvSpPr>
              <p:cNvPr id="660" name=""/>
              <p:cNvSpPr/>
              <p:nvPr/>
            </p:nvSpPr>
            <p:spPr>
              <a:xfrm>
                <a:off x="2202480" y="5572800"/>
                <a:ext cx="152100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338,827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134080" y="5572800"/>
                <a:ext cx="1658520" cy="51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3792960" y="5572800"/>
              <a:ext cx="2306160" cy="518040"/>
              <a:chOff x="3792960" y="5572800"/>
              <a:chExt cx="2306160" cy="518040"/>
            </a:xfrm>
          </p:grpSpPr>
          <p:sp>
            <p:nvSpPr>
              <p:cNvPr id="663" name=""/>
              <p:cNvSpPr/>
              <p:nvPr/>
            </p:nvSpPr>
            <p:spPr>
              <a:xfrm>
                <a:off x="3861360" y="5572800"/>
                <a:ext cx="216864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177,503 (52.4%)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792960" y="5572800"/>
                <a:ext cx="2306160" cy="51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6099840" y="5572800"/>
              <a:ext cx="2280960" cy="518040"/>
              <a:chOff x="6099840" y="5572800"/>
              <a:chExt cx="2280960" cy="518040"/>
            </a:xfrm>
          </p:grpSpPr>
          <p:sp>
            <p:nvSpPr>
              <p:cNvPr id="666" name=""/>
              <p:cNvSpPr/>
              <p:nvPr/>
            </p:nvSpPr>
            <p:spPr>
              <a:xfrm>
                <a:off x="6168240" y="5572800"/>
                <a:ext cx="214344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184,128</a:t>
                </a: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 (54.3%)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099840" y="5572800"/>
                <a:ext cx="2280960" cy="51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</p:grpSp>
      <p:sp>
        <p:nvSpPr>
          <p:cNvPr id="668" name=""/>
          <p:cNvSpPr/>
          <p:nvPr/>
        </p:nvSpPr>
        <p:spPr>
          <a:xfrm>
            <a:off x="762120" y="2057400"/>
            <a:ext cx="1371600" cy="914400"/>
          </a:xfrm>
          <a:prstGeom prst="line">
            <a:avLst/>
          </a:prstGeom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2358-5F9E-4F44-83A5-7A24F6409A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1fb991"/>
                </a:solidFill>
                <a:latin typeface="굴림"/>
              </a:rPr>
              <a:t>Hit Ratio of Proper Wordset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5181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2057400" y="1752480"/>
            <a:ext cx="4965840" cy="4724280"/>
            <a:chOff x="2057400" y="1752480"/>
            <a:chExt cx="4965840" cy="4724280"/>
          </a:xfrm>
        </p:grpSpPr>
        <p:grpSp>
          <p:nvGrpSpPr>
            <p:cNvPr id="672" name=""/>
            <p:cNvGrpSpPr/>
            <p:nvPr/>
          </p:nvGrpSpPr>
          <p:grpSpPr>
            <a:xfrm>
              <a:off x="2057400" y="1752480"/>
              <a:ext cx="2482920" cy="532080"/>
              <a:chOff x="2057400" y="1752480"/>
              <a:chExt cx="2482920" cy="532080"/>
            </a:xfrm>
          </p:grpSpPr>
          <p:sp>
            <p:nvSpPr>
              <p:cNvPr id="673" name=""/>
              <p:cNvSpPr/>
              <p:nvPr/>
            </p:nvSpPr>
            <p:spPr>
              <a:xfrm>
                <a:off x="2132280" y="1752480"/>
                <a:ext cx="2333160" cy="53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Hit ratio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# of words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057400" y="1752480"/>
                <a:ext cx="2482920" cy="532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4541040" y="1752480"/>
              <a:ext cx="2482200" cy="532080"/>
              <a:chOff x="4541040" y="1752480"/>
              <a:chExt cx="2482200" cy="532080"/>
            </a:xfrm>
          </p:grpSpPr>
          <p:sp>
            <p:nvSpPr>
              <p:cNvPr id="676" name=""/>
              <p:cNvSpPr/>
              <p:nvPr/>
            </p:nvSpPr>
            <p:spPr>
              <a:xfrm>
                <a:off x="4615920" y="1752480"/>
                <a:ext cx="2332440" cy="53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Hit ratio(%)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541040" y="1752480"/>
                <a:ext cx="2482200" cy="532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2057400" y="2284560"/>
              <a:ext cx="2482920" cy="419040"/>
              <a:chOff x="2057400" y="2284560"/>
              <a:chExt cx="2482920" cy="419040"/>
            </a:xfrm>
          </p:grpSpPr>
          <p:sp>
            <p:nvSpPr>
              <p:cNvPr id="679" name=""/>
              <p:cNvSpPr/>
              <p:nvPr/>
            </p:nvSpPr>
            <p:spPr>
              <a:xfrm>
                <a:off x="2132280" y="2284560"/>
                <a:ext cx="233316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30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057400" y="2284560"/>
                <a:ext cx="2482920" cy="41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4541040" y="2284560"/>
              <a:ext cx="2482200" cy="419040"/>
              <a:chOff x="4541040" y="2284560"/>
              <a:chExt cx="2482200" cy="419040"/>
            </a:xfrm>
          </p:grpSpPr>
          <p:sp>
            <p:nvSpPr>
              <p:cNvPr id="682" name=""/>
              <p:cNvSpPr/>
              <p:nvPr/>
            </p:nvSpPr>
            <p:spPr>
              <a:xfrm>
                <a:off x="4615920" y="2284560"/>
                <a:ext cx="233244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7.7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541040" y="2284560"/>
                <a:ext cx="2482200" cy="41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2057400" y="2703600"/>
              <a:ext cx="2482920" cy="419400"/>
              <a:chOff x="2057400" y="2703600"/>
              <a:chExt cx="2482920" cy="419400"/>
            </a:xfrm>
          </p:grpSpPr>
          <p:sp>
            <p:nvSpPr>
              <p:cNvPr id="685" name=""/>
              <p:cNvSpPr/>
              <p:nvPr/>
            </p:nvSpPr>
            <p:spPr>
              <a:xfrm>
                <a:off x="2132280" y="2703600"/>
                <a:ext cx="2333160" cy="41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165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057400" y="2703600"/>
                <a:ext cx="2482920" cy="41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4541040" y="2703600"/>
              <a:ext cx="2482200" cy="419400"/>
              <a:chOff x="4541040" y="2703600"/>
              <a:chExt cx="2482200" cy="419400"/>
            </a:xfrm>
          </p:grpSpPr>
          <p:sp>
            <p:nvSpPr>
              <p:cNvPr id="688" name=""/>
              <p:cNvSpPr/>
              <p:nvPr/>
            </p:nvSpPr>
            <p:spPr>
              <a:xfrm>
                <a:off x="4615920" y="2703600"/>
                <a:ext cx="2332440" cy="41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16.0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541040" y="2703600"/>
                <a:ext cx="2482200" cy="41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2057400" y="3123000"/>
              <a:ext cx="2482920" cy="419040"/>
              <a:chOff x="2057400" y="3123000"/>
              <a:chExt cx="2482920" cy="419040"/>
            </a:xfrm>
          </p:grpSpPr>
          <p:sp>
            <p:nvSpPr>
              <p:cNvPr id="691" name=""/>
              <p:cNvSpPr/>
              <p:nvPr/>
            </p:nvSpPr>
            <p:spPr>
              <a:xfrm>
                <a:off x="2132280" y="3123000"/>
                <a:ext cx="233316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563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057400" y="3123000"/>
                <a:ext cx="2482920" cy="41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4541040" y="3123000"/>
              <a:ext cx="2482200" cy="419040"/>
              <a:chOff x="4541040" y="3123000"/>
              <a:chExt cx="2482200" cy="419040"/>
            </a:xfrm>
          </p:grpSpPr>
          <p:sp>
            <p:nvSpPr>
              <p:cNvPr id="694" name=""/>
              <p:cNvSpPr/>
              <p:nvPr/>
            </p:nvSpPr>
            <p:spPr>
              <a:xfrm>
                <a:off x="4615920" y="3123000"/>
                <a:ext cx="233244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24.5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541040" y="3123000"/>
                <a:ext cx="2482200" cy="41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2057400" y="3542040"/>
              <a:ext cx="2482920" cy="419400"/>
              <a:chOff x="2057400" y="3542040"/>
              <a:chExt cx="2482920" cy="419400"/>
            </a:xfrm>
          </p:grpSpPr>
          <p:sp>
            <p:nvSpPr>
              <p:cNvPr id="697" name=""/>
              <p:cNvSpPr/>
              <p:nvPr/>
            </p:nvSpPr>
            <p:spPr>
              <a:xfrm>
                <a:off x="2132280" y="3542040"/>
                <a:ext cx="2333160" cy="41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1,562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057400" y="3542040"/>
                <a:ext cx="2482920" cy="41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4541040" y="3542040"/>
              <a:ext cx="2482200" cy="419400"/>
              <a:chOff x="4541040" y="3542040"/>
              <a:chExt cx="2482200" cy="419400"/>
            </a:xfrm>
          </p:grpSpPr>
          <p:sp>
            <p:nvSpPr>
              <p:cNvPr id="700" name=""/>
              <p:cNvSpPr/>
              <p:nvPr/>
            </p:nvSpPr>
            <p:spPr>
              <a:xfrm>
                <a:off x="4615920" y="3542040"/>
                <a:ext cx="2332440" cy="41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32.7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541040" y="3542040"/>
                <a:ext cx="2482200" cy="41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2057400" y="3961440"/>
              <a:ext cx="2482920" cy="419040"/>
              <a:chOff x="2057400" y="3961440"/>
              <a:chExt cx="2482920" cy="419040"/>
            </a:xfrm>
          </p:grpSpPr>
          <p:sp>
            <p:nvSpPr>
              <p:cNvPr id="703" name=""/>
              <p:cNvSpPr/>
              <p:nvPr/>
            </p:nvSpPr>
            <p:spPr>
              <a:xfrm>
                <a:off x="2132280" y="3961440"/>
                <a:ext cx="233316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3,953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057400" y="3961440"/>
                <a:ext cx="2482920" cy="41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4541040" y="3961440"/>
              <a:ext cx="2482200" cy="419040"/>
              <a:chOff x="4541040" y="3961440"/>
              <a:chExt cx="2482200" cy="419040"/>
            </a:xfrm>
          </p:grpSpPr>
          <p:sp>
            <p:nvSpPr>
              <p:cNvPr id="706" name=""/>
              <p:cNvSpPr/>
              <p:nvPr/>
            </p:nvSpPr>
            <p:spPr>
              <a:xfrm>
                <a:off x="4615920" y="3961440"/>
                <a:ext cx="233244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41.8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541040" y="3961440"/>
                <a:ext cx="2482200" cy="41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2057400" y="4380840"/>
              <a:ext cx="2482920" cy="419040"/>
              <a:chOff x="2057400" y="4380840"/>
              <a:chExt cx="2482920" cy="419040"/>
            </a:xfrm>
          </p:grpSpPr>
          <p:sp>
            <p:nvSpPr>
              <p:cNvPr id="709" name=""/>
              <p:cNvSpPr/>
              <p:nvPr/>
            </p:nvSpPr>
            <p:spPr>
              <a:xfrm>
                <a:off x="2132280" y="4380840"/>
                <a:ext cx="233316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9,484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057400" y="4380840"/>
                <a:ext cx="2482920" cy="41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4541040" y="4380840"/>
              <a:ext cx="2482200" cy="419040"/>
              <a:chOff x="4541040" y="4380840"/>
              <a:chExt cx="2482200" cy="419040"/>
            </a:xfrm>
          </p:grpSpPr>
          <p:sp>
            <p:nvSpPr>
              <p:cNvPr id="712" name=""/>
              <p:cNvSpPr/>
              <p:nvPr/>
            </p:nvSpPr>
            <p:spPr>
              <a:xfrm>
                <a:off x="4615920" y="4380840"/>
                <a:ext cx="233244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51.5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541040" y="4380840"/>
                <a:ext cx="2482200" cy="41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2057400" y="4799880"/>
              <a:ext cx="2482920" cy="419400"/>
              <a:chOff x="2057400" y="4799880"/>
              <a:chExt cx="2482920" cy="419400"/>
            </a:xfrm>
          </p:grpSpPr>
          <p:sp>
            <p:nvSpPr>
              <p:cNvPr id="715" name=""/>
              <p:cNvSpPr/>
              <p:nvPr/>
            </p:nvSpPr>
            <p:spPr>
              <a:xfrm>
                <a:off x="2132280" y="4799880"/>
                <a:ext cx="2333160" cy="41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22,906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057400" y="4799880"/>
                <a:ext cx="2482920" cy="41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4541040" y="4799880"/>
              <a:ext cx="2482200" cy="419400"/>
              <a:chOff x="4541040" y="4799880"/>
              <a:chExt cx="2482200" cy="419400"/>
            </a:xfrm>
          </p:grpSpPr>
          <p:sp>
            <p:nvSpPr>
              <p:cNvPr id="718" name=""/>
              <p:cNvSpPr/>
              <p:nvPr/>
            </p:nvSpPr>
            <p:spPr>
              <a:xfrm>
                <a:off x="4615920" y="4799880"/>
                <a:ext cx="2332440" cy="41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61.5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541040" y="4799880"/>
                <a:ext cx="2482200" cy="41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2057400" y="5219280"/>
              <a:ext cx="2482920" cy="419040"/>
              <a:chOff x="2057400" y="5219280"/>
              <a:chExt cx="2482920" cy="419040"/>
            </a:xfrm>
          </p:grpSpPr>
          <p:sp>
            <p:nvSpPr>
              <p:cNvPr id="721" name=""/>
              <p:cNvSpPr/>
              <p:nvPr/>
            </p:nvSpPr>
            <p:spPr>
              <a:xfrm>
                <a:off x="2132280" y="5219280"/>
                <a:ext cx="233316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62,044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057400" y="5219280"/>
                <a:ext cx="2482920" cy="41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4541040" y="5219280"/>
              <a:ext cx="2482200" cy="419040"/>
              <a:chOff x="4541040" y="5219280"/>
              <a:chExt cx="2482200" cy="419040"/>
            </a:xfrm>
          </p:grpSpPr>
          <p:sp>
            <p:nvSpPr>
              <p:cNvPr id="724" name=""/>
              <p:cNvSpPr/>
              <p:nvPr/>
            </p:nvSpPr>
            <p:spPr>
              <a:xfrm>
                <a:off x="4615920" y="5219280"/>
                <a:ext cx="233244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72.1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541040" y="5219280"/>
                <a:ext cx="2482200" cy="41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2057400" y="5638320"/>
              <a:ext cx="2482920" cy="419400"/>
              <a:chOff x="2057400" y="5638320"/>
              <a:chExt cx="2482920" cy="419400"/>
            </a:xfrm>
          </p:grpSpPr>
          <p:sp>
            <p:nvSpPr>
              <p:cNvPr id="727" name=""/>
              <p:cNvSpPr/>
              <p:nvPr/>
            </p:nvSpPr>
            <p:spPr>
              <a:xfrm>
                <a:off x="2132280" y="5638320"/>
                <a:ext cx="2333160" cy="41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99,213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057400" y="5638320"/>
                <a:ext cx="2482920" cy="41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4541040" y="5638320"/>
              <a:ext cx="2482200" cy="419400"/>
              <a:chOff x="4541040" y="5638320"/>
              <a:chExt cx="2482200" cy="419400"/>
            </a:xfrm>
          </p:grpSpPr>
          <p:sp>
            <p:nvSpPr>
              <p:cNvPr id="730" name=""/>
              <p:cNvSpPr/>
              <p:nvPr/>
            </p:nvSpPr>
            <p:spPr>
              <a:xfrm>
                <a:off x="4615920" y="5638320"/>
                <a:ext cx="2332440" cy="41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76.5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541040" y="5638320"/>
                <a:ext cx="2482200" cy="41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2057400" y="6057720"/>
              <a:ext cx="2482920" cy="419040"/>
              <a:chOff x="2057400" y="6057720"/>
              <a:chExt cx="2482920" cy="419040"/>
            </a:xfrm>
          </p:grpSpPr>
          <p:sp>
            <p:nvSpPr>
              <p:cNvPr id="733" name=""/>
              <p:cNvSpPr/>
              <p:nvPr/>
            </p:nvSpPr>
            <p:spPr>
              <a:xfrm>
                <a:off x="2132280" y="6057720"/>
                <a:ext cx="233316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184,128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057400" y="6057720"/>
                <a:ext cx="2482920" cy="41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4541040" y="6057720"/>
              <a:ext cx="2482200" cy="419040"/>
              <a:chOff x="4541040" y="6057720"/>
              <a:chExt cx="2482200" cy="419040"/>
            </a:xfrm>
          </p:grpSpPr>
          <p:sp>
            <p:nvSpPr>
              <p:cNvPr id="736" name=""/>
              <p:cNvSpPr/>
              <p:nvPr/>
            </p:nvSpPr>
            <p:spPr>
              <a:xfrm>
                <a:off x="4615920" y="6057720"/>
                <a:ext cx="233244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b372d"/>
                    </a:solidFill>
                    <a:latin typeface="Times New Roman"/>
                    <a:ea typeface="Times New Roman"/>
                  </a:rPr>
                  <a:t>81.6 %</a:t>
                </a:r>
                <a:endParaRPr b="0" lang="en-US" sz="20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541040" y="6057720"/>
                <a:ext cx="2482200" cy="41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372d"/>
                  </a:solidFill>
                  <a:latin typeface="굴림"/>
                </a:endParaRPr>
              </a:p>
            </p:txBody>
          </p:sp>
        </p:grpSp>
      </p:grpSp>
      <p:sp>
        <p:nvSpPr>
          <p:cNvPr id="738" name=""/>
          <p:cNvSpPr/>
          <p:nvPr/>
        </p:nvSpPr>
        <p:spPr>
          <a:xfrm>
            <a:off x="2057400" y="1752480"/>
            <a:ext cx="2514600" cy="533520"/>
          </a:xfrm>
          <a:prstGeom prst="line">
            <a:avLst/>
          </a:prstGeom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67BA-DA27-4A98-8727-F53EBF46FC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8T02:19:04Z</dcterms:created>
  <dc:creator>Kang</dc:creator>
  <dc:description/>
  <dc:language>en-US</dc:language>
  <cp:lastModifiedBy>강승식</cp:lastModifiedBy>
  <dcterms:modified xsi:type="dcterms:W3CDTF">2002-07-05T07:40:19Z</dcterms:modified>
  <cp:revision>23</cp:revision>
  <dc:subject/>
  <dc:title>Extracting High-Frequency Korean Words from Corpus</dc:title>
</cp:coreProperties>
</file>