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53F-233A-4740-92D5-39C0C4D9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E5D-D2D5-4F8C-9AC3-1165B0BE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C77-B1F7-426F-9DD6-A50B922A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D0E-29ED-4EF1-98BA-0A2EB51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0D4B-7436-4FF2-AF6F-AEA602D6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2384-03F2-4B71-8DEB-957F403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DBA6-AFF9-4D70-B860-973D975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EEA-E975-4E2D-9E4C-1538D9F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986-976A-43B7-B5E1-FEB209D6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03DB-EE90-4E58-865D-1676695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3566-C3D9-4253-8626-AD8AD77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811-1F0C-44EC-9EEB-95DE5EC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E2B-F82A-4B88-9AAC-2C01A1D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E2BD-22C5-48A4-8C71-BC8BFEF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3AE-DB3B-49D1-8AE5-9EADE34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7311-1F22-4F04-B6B5-A4B53E65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81D-855D-4C8F-8432-3EC92211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7AA-9A7B-4E0F-BD18-C9CE8E1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B6B-66F0-4195-A6DE-55013CD9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4AE-8DA3-4C8B-9E1B-65301D5C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049-0063-4457-BC57-A57FF43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985-5D38-4E11-895C-CF6B50F0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EEE-59ED-438B-BDB0-76A22895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29A-3D52-426A-A7E6-0841CDB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6A1-4B79-4E97-8D35-168F5C48E4BA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3AFE-775B-4430-855C-E3C64D4D8206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4000" spc="-1" strike="noStrike">
                <a:solidFill>
                  <a:srgbClr val="cd0355"/>
                </a:solidFill>
                <a:latin typeface="Arial"/>
                <a:ea typeface="굴림"/>
              </a:rPr>
              <a:t>4. </a:t>
            </a:r>
            <a:r>
              <a:rPr b="1" i="1" lang="ko-KR" sz="4000" spc="-1" strike="noStrike">
                <a:solidFill>
                  <a:srgbClr val="cd0355"/>
                </a:solidFill>
                <a:latin typeface="Arial"/>
                <a:ea typeface="굴림"/>
              </a:rPr>
              <a:t>코드 변환과 인코딩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합형 음절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11,172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 출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88920" rIns="88920" tIns="44280" bIns="44280" anchor="t">
            <a:normAutofit fontScale="94000"/>
          </a:bodyPr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unsigned i, j, k, hbyte, lbyte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for (i = 2; i &lt; 21; i++) {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/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초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for (j = 3; j &lt; 30; j++) {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/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f (j == 8 || j == 9 || j == 16 ||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j == 17 || j == 24 || j == 25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continue;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중성이 정의되지 않은 것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for (k = 1; k &lt; 30; k++) {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/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종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f (k == 1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continue;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종성이 정의되지 않은 것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hbyte = 0x80 | (i &lt;&lt; 2) &amp; 0x7C | (j &gt;&gt; 3) &amp; 0x03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lbyte = (j &lt;&lt; 5) &amp; 0xE0 | (k &amp; 0x1F)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printf("%c%c", hbyte, lbyte)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   putchar(‘\n’)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   putchar(‘\n’)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17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0DD-02D3-4EB5-AAC9-C0B03C1C67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영문자 빈도 조사 프로그램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0960" cy="48769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88920" rIns="88920" tIns="44280" bIns="44280" anchor="t">
            <a:normAutofit fontScale="97000"/>
          </a:bodyPr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nt abc[26] = { 0 }, ABC[26] = { 0 }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nt ch, i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while ((ch=getchar()) != ‘\n’ {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f (ch &gt;= ‘A’ &amp;&amp; ch &lt;= ‘Z’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ABC[ch-’A’]++;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대문자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else if (ch &gt;= ‘a’ &amp;&amp; ch &lt;= ‘z’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abc[ch-’a’]++;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소문자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el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;  /*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대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소문자 이외의 문자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고딕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for (i =0; i &lt; 26; i++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printf(“%c : %d, %c : %d\n”, ‘A’+i, ABC[i], ‘a’+i, abc[i])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7EF-9629-4B14-B67A-57DF075E07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빈도 조사 프로그램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769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88920" rIns="88920" tIns="44280" bIns="44280" anchor="t">
            <a:normAutofit fontScale="98000"/>
          </a:bodyPr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nt han[25][94] = { 0 }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nt i, j, c1, c2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while ((c1=getchar()) != ‘\n’) {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f (c1 &gt;= 0xB0 &amp;&amp; c1 &lt;= 0xC8) {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한글 검사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c2 = getchar()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f (c2 &gt;= 0xA1 &amp;&amp; c2 &lt;= 0xF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han[c1-0xB0][c2-0xA1]++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for (i =0; i &lt; 25; i++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for (j =0; j &lt; 94; i++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if (han[i][j]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printf(“%c%c : %d\n”, 0xB0+i, 0xA1+j, han[i][j]); 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AB9-5F18-4A5C-ACFF-280F04B391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완성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-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합형 코드 변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완성형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조합형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&gt;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코드표에 의한 변환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truct hancod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한양신명조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한양신명조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한양신명조"/>
              </a:rPr>
              <a:t>unsigned short w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한양신명조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한양신명조"/>
              </a:rPr>
              <a:t>unsigned short j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한양신명조"/>
              </a:rPr>
              <a:t>} hcode[2350] =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0xB0A1, 0x8861,  /*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0xB0A2, 0x8862,  /*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각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0xB0A3, 0x8865,  /*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간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0xC8FD, 0xD3B5,  /*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힛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0xC8FE, 0xD3B7   /*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힝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고딕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536-4150-42CD-8F4B-F7664D856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완성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-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합형 코드 변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18968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/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완성형 </a:t>
            </a:r>
            <a:r>
              <a:rPr b="0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조합형 코드 변환표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unsigned short toKSSM[25][94] = {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886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가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8862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각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8865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간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D3B5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힛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D3B7 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힝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}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447920"/>
            <a:ext cx="38084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//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조합형 </a:t>
            </a:r>
            <a:r>
              <a:rPr b="0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완성형 코드 변환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unsigned short toKSC5601[] = 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B0A1,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가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B0A2,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각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B0A3,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간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C8FD,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힛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C8FE,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힝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0C6-5476-47E2-B85C-DEFEB57884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S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완성형 한자 </a:t>
            </a:r>
            <a:r>
              <a:rPr b="1" i="1" lang="en-US" sz="3600" spc="-1" strike="noStrike">
                <a:solidFill>
                  <a:srgbClr val="cd0355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 한글 변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6880" y="1447560"/>
            <a:ext cx="38084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struct hanjacode {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unsigned short hanja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unsigned short kswan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} hjcode[4888] = {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CAA1, 0xB0A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伽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CAA2, 0xB0A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佳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CAA3, 0xB0A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假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FDFC, 0xC8F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稀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FDFD, 0xC8F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羲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0xFDFE, 0xC8FA 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詰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체"/>
              </a:rPr>
              <a:t>}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447920"/>
            <a:ext cx="41911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//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효율적인 코드 변환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unsigned short toHangul[52][94] = {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B0A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伽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B0A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佳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B0A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假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C8F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稀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C8F1,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羲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고딕"/>
              </a:rPr>
              <a:t>0xC8FA   /*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詰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1920" indent="-3319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신명조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CC2-A02B-4535-B0A0-5650A0210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인코딩 방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uencode, uudecod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비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문자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비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문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비트 문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32(0x20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를 더해 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프린트 가능한 문자로 변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se6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체"/>
              </a:rPr>
              <a:t>비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체"/>
              </a:rPr>
              <a:t>문자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체"/>
              </a:rPr>
              <a:t>비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체"/>
              </a:rPr>
              <a:t>문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0x00∼0x19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‘A’~‘Z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0x1A∼0x3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‘a’~‘z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0x34∼0x3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‘0’~‘9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0x3E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‘+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138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0x3F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‘/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-21060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체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: 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체"/>
              </a:rPr>
              <a:t>안녕하세요’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vsiz58fPvLy/5A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03F-FD44-42E0-941C-373D5A4F5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인코딩 방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QP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변환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한글 코드값은 그대로 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가’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=B0=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한양신명조"/>
                <a:ea typeface="한양신명조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한양신명조"/>
                <a:ea typeface="한양신명조"/>
              </a:rPr>
              <a:t>안녕하세요’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한양신명조"/>
                <a:ea typeface="한양신명조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체"/>
              </a:rPr>
              <a:t>=BE=C8=B3=E7=C7=CF=BC=BC=BF=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ISO 2022-K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한양신명조"/>
              </a:rPr>
              <a:t>&lt;SO&gt;, &lt;SI&gt;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한양신명조"/>
              </a:rPr>
              <a:t>사이에 한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MSB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를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으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641-BB7F-445D-9F98-04C0E9902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UTF-8 : unicode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인코딩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영문자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1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바이트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ASCII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코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바이트 문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3~4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바이트로 변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인코딩 방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0000 ~ 007F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0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0080 ~ 07FF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110xxxxx 10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0800 ~ FFFF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1110xxxx 10xxxxxx 10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참고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. UTF-7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인코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nu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문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0x0000)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를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byt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로 인코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C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언어의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null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문자와의 충돌 문제 해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AD2-144E-45F5-9D4B-D6259B595B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프로그램 연습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영어 대문자 출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#include &lt;stdio.h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void main(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{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char ch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printf(“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문자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: 10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진수 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: 16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진수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\n”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for (ch = ‘A’; ch &lt;= ‘Z’; ch++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printf(“%c : %d : %x\n”, ch, ch, ch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118-46BD-448D-8E31-C32D74F669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S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완성형 한글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2,350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 출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88920" rIns="88920" tIns="44280" bIns="44280" anchor="t">
            <a:normAutofit fontScale="99000"/>
          </a:bodyPr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#include &lt;stdio.h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void main(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{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unsigned char c1, c2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for (c1 = 0xB0; c1 &lt;= 0xC8; c1++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for (c2 = 0xA1; c2 &lt;= 0xFE; c2++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printf(“%c%c : %x\n”, c1, c2, (c1&lt;&lt;8 | c2)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고딕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A92-7737-4ABF-91BC-1F5D3DF2F3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0:40:08Z</dcterms:modified>
  <cp:revision>18</cp:revision>
  <dc:subject/>
  <dc:title>한국어 정보처리 개요</dc:title>
</cp:coreProperties>
</file>