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5847-1672-4612-A8C9-F0E1A5527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724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232A-05A8-403C-866E-B4A1A7DE1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99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85F0-0612-4C76-8AC4-CC9F6F5CA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52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288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72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52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288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8777-DBEF-4505-88AC-26B5C5D0C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2ACC1-99E7-4801-A4FE-E0509BF54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E3A4F-54D9-48AB-B018-BBA6DA9B2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CA92B-D021-4141-B499-2545C00FE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B20C6-B138-4FA4-AE03-5517847A9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B9F7F-5404-4FA0-9686-E34A4F7FF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91600"/>
            <a:ext cx="784872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algn="ctr">
              <a:spcBef>
                <a:spcPts val="1049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E67AA-63DF-48C7-9541-0C9E954DA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65661-005D-48E1-919D-A5AEE29A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7DD7-02AC-4413-A635-3DCE602AE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99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784C5-0E88-48AE-B6DC-74C82D44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33F5E-5D8F-4715-9B30-02073840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724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62290-F9D5-40AE-BC31-30761D865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99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12862-5FDD-431B-AF3A-654305C30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52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288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72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52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288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1A101-308F-462B-871A-DE753E771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4FE9-1F76-429B-A0ED-7277421D1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FAE6-116F-41FD-A1F1-F34759537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EDE8-F0EA-499E-BC27-EB37AEA32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91600"/>
            <a:ext cx="784872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algn="ctr">
              <a:spcBef>
                <a:spcPts val="1049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64ED-5ABE-4720-B229-0BDF9B269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B13A-F485-4148-99C1-162C5C6C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99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2CF4-FB8F-4A58-95E4-556680F1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D0C6-82E7-4632-A367-5705E4A8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05050"/>
                </a:solidFill>
                <a:latin typeface="Arial"/>
              </a:rPr>
              <a:t>&lt;date/time&gt;</a:t>
            </a:r>
            <a:r>
              <a:rPr b="0" lang="ko-KR" sz="1000" spc="-1" strike="noStrike">
                <a:solidFill>
                  <a:srgbClr val="50505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505050"/>
                </a:solidFill>
                <a:latin typeface="Arial"/>
              </a:rPr>
              <a:t>http://nlp.kookmin.ac.kr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0505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71A1F-B736-4C0D-B170-36F7F8161C98}" type="slidenum">
              <a:rPr b="0" lang="en-US" sz="1000" spc="-1" strike="noStrike">
                <a:solidFill>
                  <a:srgbClr val="50505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600" spc="-1" strike="noStrike">
                <a:solidFill>
                  <a:srgbClr val="cd0355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spcBef>
                <a:spcPts val="1049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998640" indent="-220680"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3" marL="1279440" indent="-166680">
              <a:spcBef>
                <a:spcPts val="1049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4" marL="1560600" indent="-166680"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5" marL="1560600" indent="-166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6" marL="1560600" indent="-166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1106640"/>
            <a:ext cx="8001000" cy="648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20520" bIns="20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" name="kookmin" descr=""/>
          <p:cNvPicPr/>
          <p:nvPr/>
        </p:nvPicPr>
        <p:blipFill>
          <a:blip r:embed="rId2"/>
          <a:stretch/>
        </p:blipFill>
        <p:spPr>
          <a:xfrm>
            <a:off x="304920" y="6324480"/>
            <a:ext cx="377640" cy="3812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495360" y="6238800"/>
            <a:ext cx="2209680" cy="28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-15480" bIns="-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0505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0505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04EEB-8E40-4337-96CD-4F8F4983BFC3}" type="slidenum">
              <a:rPr b="0" lang="en-US" sz="1000" spc="-1" strike="noStrike">
                <a:solidFill>
                  <a:srgbClr val="50505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600" spc="-1" strike="noStrike">
                <a:solidFill>
                  <a:srgbClr val="cd0355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pic>
        <p:nvPicPr>
          <p:cNvPr id="48" name="kookmin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679320" cy="685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5440" indent="0" algn="ctr">
              <a:spcBef>
                <a:spcPts val="1049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501480" indent="0" algn="ctr">
              <a:spcBef>
                <a:spcPts val="901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5960" algn="ctr"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27320" algn="ctr"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70120" algn="ctr"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0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0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4000" spc="-1" strike="noStrike">
                <a:solidFill>
                  <a:srgbClr val="cd0355"/>
                </a:solidFill>
                <a:latin typeface="Arial"/>
                <a:ea typeface="굴림"/>
              </a:rPr>
              <a:t>2. </a:t>
            </a:r>
            <a:r>
              <a:rPr b="1" i="1" lang="zh-CN" sz="4000" spc="-1" strike="noStrike">
                <a:solidFill>
                  <a:srgbClr val="cd0355"/>
                </a:solidFill>
                <a:latin typeface="Arial"/>
                <a:ea typeface="굴림"/>
              </a:rPr>
              <a:t>한국어의 특성</a:t>
            </a:r>
            <a:endParaRPr b="1" i="1" lang="en-US" sz="40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7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월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국민대학교 컴퓨터학부 강승식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한글 코드 체계 및 표기 특성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표기 단위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자모 단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음절 단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코드 체계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-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바이트 코드 체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SB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-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바이트 코드 체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DB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맞춤법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띄어쓰기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합명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보조용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구어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소리나는 대로 표기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채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문자 메시지 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CBBD-E79D-4FD4-8950-D532B6E54B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한국어의 형태론적 특성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lnSpc>
                <a:spcPct val="9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교착어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어절 유형의 다양성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어휘형태소와 문법형태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어절 형성 원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어절 전이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형태소 분리 문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형태론적 중의성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형태소 분리와 품사 중의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>
              <a:lnSpc>
                <a:spcPct val="90000"/>
              </a:lnSpc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rial"/>
                <a:ea typeface="굴림"/>
              </a:rPr>
              <a:t>한국어 </a:t>
            </a:r>
            <a:r>
              <a:rPr b="0" lang="ko-KR" sz="2200" spc="-1" strike="noStrike">
                <a:solidFill>
                  <a:srgbClr val="000000"/>
                </a:solidFill>
                <a:latin typeface="Arial"/>
                <a:ea typeface="굴림"/>
              </a:rPr>
              <a:t>: ‘</a:t>
            </a:r>
            <a:r>
              <a:rPr b="0" lang="ko-KR" sz="2200" spc="-1" strike="noStrike">
                <a:solidFill>
                  <a:srgbClr val="000000"/>
                </a:solidFill>
                <a:latin typeface="Arial"/>
                <a:ea typeface="굴림"/>
              </a:rPr>
              <a:t>감기는’</a:t>
            </a:r>
            <a:r>
              <a:rPr b="0" lang="ko-KR" sz="2200" spc="-1" strike="noStrike">
                <a:solidFill>
                  <a:srgbClr val="000000"/>
                </a:solidFill>
                <a:latin typeface="Arial"/>
                <a:ea typeface="굴림"/>
              </a:rPr>
              <a:t>, ‘</a:t>
            </a:r>
            <a:r>
              <a:rPr b="0" lang="ko-KR" sz="2200" spc="-1" strike="noStrike">
                <a:solidFill>
                  <a:srgbClr val="000000"/>
                </a:solidFill>
                <a:latin typeface="Arial"/>
                <a:ea typeface="굴림"/>
              </a:rPr>
              <a:t>가시는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>
              <a:lnSpc>
                <a:spcPct val="90000"/>
              </a:lnSpc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rial"/>
                <a:ea typeface="굴림"/>
              </a:rPr>
              <a:t>영어 </a:t>
            </a:r>
            <a:r>
              <a:rPr b="0" lang="ko-KR" sz="2200" spc="-1" strike="noStrike">
                <a:solidFill>
                  <a:srgbClr val="000000"/>
                </a:solidFill>
                <a:latin typeface="Arial"/>
                <a:ea typeface="굴림"/>
              </a:rPr>
              <a:t>: like(adj, vt, conj, prep, 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C18F-2BAB-4F5E-8892-3DF147F49F9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굴림체"/>
                <a:ea typeface="굴림체"/>
              </a:rPr>
              <a:t>한국어의 형태론적 변형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 algn="just">
              <a:lnSpc>
                <a:spcPct val="10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용언의 불규칙 활용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 algn="just">
              <a:lnSpc>
                <a:spcPct val="10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탈락과 축약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 algn="just">
              <a:lnSpc>
                <a:spcPct val="10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모음조화 </a:t>
            </a: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: </a:t>
            </a: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아</a:t>
            </a: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어로 시작되는 어말어미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 algn="just">
              <a:lnSpc>
                <a:spcPct val="10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음운론적 이형태 </a:t>
            </a: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: ‘</a:t>
            </a: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이</a:t>
            </a: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가’</a:t>
            </a: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, ‘</a:t>
            </a: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은</a:t>
            </a: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는’ 등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 algn="just">
              <a:lnSpc>
                <a:spcPct val="10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준말</a:t>
            </a: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, </a:t>
            </a: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존칭 등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 algn="just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 ‘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지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치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키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케’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‘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에게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한테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께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게’ 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7D7C-A20C-4CB2-9641-1B5B9F33865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한국어의 구문론적 특성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98000"/>
          </a:bodyPr>
          <a:p>
            <a:pPr marL="325080" indent="-325080">
              <a:lnSpc>
                <a:spcPct val="8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비구조적</a:t>
            </a: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(non-configurational) </a:t>
            </a: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언어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50160" indent="-21276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부분 자유 어순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partially free ord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0160" indent="-21276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PSG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기술할 때 문제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080" indent="-325080">
              <a:lnSpc>
                <a:spcPct val="8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이중 주어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50160" indent="-21276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책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Arial"/>
                <a:ea typeface="굴림"/>
              </a:rPr>
              <a:t>은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구내서점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Arial"/>
                <a:ea typeface="굴림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원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Arial"/>
                <a:ea typeface="굴림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싸다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080" indent="-325080">
              <a:lnSpc>
                <a:spcPct val="8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주어 생략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50160" indent="-21276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내가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밥을 먹고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내가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학교에 가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내가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강의를 들었다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080" indent="-325080">
              <a:lnSpc>
                <a:spcPct val="8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격조사 생략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50160" indent="-21276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를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는 날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왔다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0160" indent="-21276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먹고 시청 앞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분수대에서 응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했다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080" indent="-325080">
              <a:lnSpc>
                <a:spcPct val="8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준말과 축약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50160" indent="-21276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그러기에 </a:t>
            </a:r>
            <a:r>
              <a:rPr b="0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그러하기 때문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0160" indent="-21276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그렇지만 </a:t>
            </a:r>
            <a:r>
              <a:rPr b="0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그렇지마는 </a:t>
            </a:r>
            <a:r>
              <a:rPr b="0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그러하지마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8205-34A5-47D4-B362-01BE96ACF8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한글 음절 빈도 특성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99000"/>
          </a:bodyPr>
          <a:p>
            <a:pPr marL="328320" indent="-32832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음절 수 </a:t>
            </a: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: 11,172</a:t>
            </a: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개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56640" indent="-21492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빈도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상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,30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21%) </a:t>
            </a:r>
            <a:r>
              <a:rPr b="0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3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천만 어절 말뭉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6640" indent="-21492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8,86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음절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79%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은 출현하지 않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6640" indent="-21492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음절이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0%, 30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음절이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90%, 80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음절이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9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6640" indent="-21492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빈도 음절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다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320" indent="-32832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조사</a:t>
            </a: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/</a:t>
            </a: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어미 음절 특성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56640" indent="-21492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조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첫음절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두번째 이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6640" indent="-21492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어말어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첫음절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7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두번째 이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3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6640" indent="-21492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문법형태소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igram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음절 특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8560" indent="-21816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어휘형태소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bigram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으로 거의 사용되지 않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66480" indent="-16488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–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 ‘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에서’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, ‘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부터’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, ‘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습니’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, ‘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니다’ 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8560" indent="-21816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외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라면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17AC-225F-402B-875A-14C64489FB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한글 자모 빈도 특성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724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93000"/>
          </a:bodyPr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자모 빈도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16680" indent="-2019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초성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ㅇㄱㄷㅅㅈㅎㄹㄴㅁㅂㅊ’ 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019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중성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ㅏㅣㅡㅓㅗㅜㅕㅐ’ 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019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종성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ㄴㄹㅇㄱㅁㅆㅂㅅ’ 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자모 </a:t>
            </a: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bigram </a:t>
            </a: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16680" indent="-2019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초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중성 조합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9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지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9*2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8440" indent="-2052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1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50%, 82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9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019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종성 조합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8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지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21*2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8440" indent="-2052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51%, 4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9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019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초성 조합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9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지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21*1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8440" indent="-2052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50%, 10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9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019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종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종성 조합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13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지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27*1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8440" indent="-2052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50%, 8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90%, 1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9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D83F-78D5-4816-84ED-D34A50A45B1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5T00:06:18Z</dcterms:created>
  <dc:creator>강승식</dc:creator>
  <dc:description/>
  <dc:language>en-US</dc:language>
  <cp:lastModifiedBy>강승식</cp:lastModifiedBy>
  <dcterms:modified xsi:type="dcterms:W3CDTF">2002-07-22T11:39:57Z</dcterms:modified>
  <cp:revision>17</cp:revision>
  <dc:subject/>
  <dc:title>한국어 정보처리 개요</dc:title>
</cp:coreProperties>
</file>