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108-9827-43E2-AD67-95C986DD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639-20BE-4B86-AD14-DA15F81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AA6-97AF-470F-ACAF-FFFF9560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CF6-8002-4A81-8172-D317B9D7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1F10-26EB-4795-B20E-E92C8719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F57B-F06B-4C9E-BB67-6E9F365E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5916-5A46-4A51-B791-1606E050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58AF-D9D0-4D00-BB74-B9912CC3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207F-AAEF-46AF-883A-0D4C6175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97E0-B012-4CDB-9A54-36EC8949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CE2-4C53-4DF9-B948-6BFBF57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914-4666-4575-9714-79027B9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E19D-5F52-415D-B9E6-54B468E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6BF2-7446-4BA7-8808-B02D662D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2C4-AE7E-4BDD-A019-0C599DD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860-99B1-4354-9A59-D283CDA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ED29-4B73-4DCD-89C0-C6F7A8D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088-1BC0-471A-A3A6-BE38F39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B47-C0BA-432E-B1FC-5CCB23F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F5A-387A-41B6-9A12-4C1C0A1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7DF-F4E5-4974-9063-765F020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D8F-B832-4F25-9D7C-92D7772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AA8-D22E-4814-9640-C5A88F6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F22-B941-480E-AEE1-F82E4F6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662E-D701-40B1-BAC3-08DBC2BCF69D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937-4F6D-404A-B687-40F671B43605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2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 기법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유형의 확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의 기본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의 확장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5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6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화접미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7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용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?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8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조사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... 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9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 +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+ ... +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+ (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7A8-1DAA-4111-A738-9C83E8DB7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품사의 확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품사의 기본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품사의 확장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사추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형용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추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5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부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6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보통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고유명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7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인칭대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지시대명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8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동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자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타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피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동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9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주격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소유격 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목적격 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특수 조사 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10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종결어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연결어미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9E4-52F5-438E-A6C6-5921427EFE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형 중심 형태소 분석 알고리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Algorithm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형인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char word[MA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int sylinfo[MA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WORDTYPE word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. scan_syl_info(word, sylinf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. wordtype = guess_wordtype(sylinf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3. check_wordtype(word, word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4. case wordtyp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JOSA_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noun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EOMI_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verb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SINGLE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singleword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AMBIGUO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multiple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006-C2CA-464F-9968-9C84FE687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우선 순위 결정하는 경험 규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①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성공한 결과를 추정에 의한 분석 결과보다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②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잡한 단어 유형보다는 단순한 단어 유형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관함의 가중치를 보관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?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다 높게 한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③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의 길이가 긴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④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의 길이가 긴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⑤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음소 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가 생략된 분석 결과에 대한 가중치를 낮춘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⑥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의 마지막 단어는 용언 분석 결과에 대한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⑦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용 빈도가 낮은 형태소가 포함된 분석 결과의 가중치를 낮춘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⑧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미등록어 추정 결과는 용언 분석 결과보다 체언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CC8-3867-4B92-9A2C-A2CF2C9B7C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류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석 모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언어 독립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언어 종속적 모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알고리즘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규칙 기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전 기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말뭉치 기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방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bottom-up parallel, top-down predi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 검색 방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좌우 분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우좌 분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양방향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결합 제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형성 규칙과 결합제약 규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속 정보에 의한 결합제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사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단위형태소 수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결합형태소 수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처리 단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소 단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단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056-8EC1-4B61-B06E-0A3817BBD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 기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Head-tail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구분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Tabular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파싱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양방향 최장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음절 단위 분석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사전 기반 형태소 분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두 단계 확장 모델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29D-5564-4344-9CEC-72EA85D2C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Head-tail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구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Head 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변형되지 않는 부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Tail 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변형이 일어나는 부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방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절 가능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tai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을 모두 찾아 테이블 구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Head-tai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결합관계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접속정보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Hea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에 대한 사전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A59-5735-46AC-9163-73E88A4B9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Tabular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파싱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자모 단위의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substring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에 대한 사전 탐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모든 가능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substring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추출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삼각 테이블 구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삼각 테이블의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substring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에 대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CYK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알고리즘 적용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입력 문자열 구성쌍 발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형태소 결합 제약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접속 정보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4FB-CD43-4174-991B-445871920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양방향 최장일치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최장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최단 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형태소 분석을 철자검사에 적용하는 방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입력 문자열에 대한 첫 분석 결과만 확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Longest morphe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을 우선적으로 선택하여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Tabular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파싱법의 효율 개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양방향 최장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절의 양쪽 끝에서 양방향으로 최장 형태소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좌방향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우방향 최장일치하는 위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&amp; overlap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55F-A483-4897-801D-30792E58D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음절 단위 분석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절 분석 단위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음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후보 생성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후보 선택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strate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조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어미 분리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가능한 후보 생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조사 분리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체언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용언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명사 및 독립언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단일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어휘부 분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접미사 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사전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음절 특성을 이용한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prun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03B-5879-4045-B9D9-D361F330AE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사전 기반 형태소 분석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관련 정보를 주로 사전에 기술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론적 변형 정보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아름답’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정칙 활용 어미와 결합 제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아름다우’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’ 불규칙 활용 어미와 결합제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사전을 이용한 방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고빈도 어절의 분석 결과를 사전에 수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3EB-B281-460A-92DC-18C9FD9D1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두 단계 확장 모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형태소 분석 단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기본 기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모든 응용 분야에 공통적인 기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형 인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중심의 형태소 분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형태론적 변형 처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사전 탐색 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확장 기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일부 응용 분야에 해당되는 기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형태소 유형의 세분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세분화된 품사 체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체언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/P/X/M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용언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/J/X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복합어 분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사전 유형 구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기본 사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확장 사전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복합어 분해 사전 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3B5-F46E-49D2-8402-3CA3A908E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1:03:50Z</dcterms:modified>
  <cp:revision>24</cp:revision>
  <dc:subject/>
  <dc:title>한국어 정보처리 개요</dc:title>
</cp:coreProperties>
</file>