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339-7F9E-44EB-87C3-54A0BAD9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3F2-3048-443C-A055-BE9DCDFA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805-8E85-4F3C-B9E1-3946DE60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E07-B9AA-473C-A3FD-69290178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1BB5-B718-41DF-A85B-E2CB87E2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C50D-8EC1-4ADB-B39A-4BAE63E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A8D0-DC07-4AF8-B11F-EFA4BC64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C4C2-7041-450F-BC66-4C342F7B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50E7-811E-45D9-B06C-1783E2B1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802C-D656-4C22-8BE6-9D209F71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A547-EF16-4BDB-8E25-5F95E02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3BB-33CB-4DAE-8858-95D6465B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5586-B3C5-416A-BDB1-6702B73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9CF6-56C0-4DF1-8714-AECF479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B6BC-C99B-42F0-BA96-1C37830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BC1D-CCAD-464A-9B20-B0F4FD8F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E03D-91F2-4AD6-B6F0-DABBB3C0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754-F69D-4034-82E8-A97A4151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F0A-F607-409A-9B62-4BB393F0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775-A6FA-48D7-ACD5-8F526D7D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361-3544-4F79-9668-1A83B1F2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200-A993-48FC-9606-E7A21354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E94-4715-492E-8D4C-F4B45BBC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746-09B5-4741-BF28-BB3C975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7024-16D0-4839-B1C0-C2124E046BCA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434B-4CCA-4DF3-A09C-EA47EA21C3C3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한국어 정보처리 개요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연언어와 인공언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자연언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한국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영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일본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인공언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에스페란토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로봇 제어에 사용되는 언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질의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웹 검색 질의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프로그래밍 언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프로그래밍 언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기계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어셈블리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급 언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CC5-52DA-4C15-A497-9C0861C1E9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NLP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와 기계번역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1930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년대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번역기계 연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1950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년대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: MIT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기계번역 학회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(1952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최초의 컴퓨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IAC : 19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1966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ALPAC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보고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기계번역 연구의 실현 가능성이 부정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하드웨어 환경 문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 CPU,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실용적인 수준의 문장 분석 기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기계번역 기법의 한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ime flies like an a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spirit is willing, but the flesh is w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1AC-C5A3-41F6-BDB4-3510A4C5B0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ko-KR" sz="3600" spc="-1" strike="noStrike">
              <a:solidFill>
                <a:srgbClr val="cd0355"/>
              </a:solidFill>
              <a:latin typeface="Arial"/>
              <a:ea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1980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대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유사 언어간 번역의 가능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언어 분석 기법의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GPSG, HPSG, LFG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프로그래밍 언어의 발전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: LISP, PROL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EUROTRA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럽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세대 컴퓨터 프로젝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일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한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한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일 기계번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1990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대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언어분석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기계번역 기술 발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구문분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의미분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의성 해결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Example-based M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3AF-2B8C-4991-ACE2-4ACB8FDF81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기초 기술과 응용 기술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-325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초 기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연언어 분석 기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8480" indent="-2160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전자 사전 구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8480" indent="-2160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형태소 분석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품사 태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8480" indent="-2160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구문 분석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의미 분석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담화 분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8480" indent="-2160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중의성 해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연언어 생성 기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응용 기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기계 번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보 검색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색인어 추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맞춤법 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문법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연언어 인터페이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식 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식정보 서비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문서 분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클러스터링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동 요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질의 응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보추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C2E-4DA8-49B5-A820-95BC4A08A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전산언어학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문법 체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확장 구구조 문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AP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일반 구구조 문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GP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중심어 주도 구구조 문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HP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어휘 기능 문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LF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TAG(Tree Adjoining Gramm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구문 분석 기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확장 전이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AT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chart pa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Tomita parsing : LR pa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통합 기반 문법 기술 도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985-E77D-4A70-8D12-7A92CA7721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정보처리 연구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18600" indent="-3186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언어 자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전 구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용도에 따라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형태소 사전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, wordnet,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한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-x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변환 사전 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말뭉치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80000"/>
              </a:lnSpc>
              <a:spcBef>
                <a:spcPts val="93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언어 현상 연구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통계 조사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음절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어절 등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문법 규칙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형태소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품사 태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맞춤법 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동 띄어쓰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복합명사 분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구문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기본 구 인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chun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구조 중의성 해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미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미 중의성 해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한국어 생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CA3-F011-471E-A16C-133CF68636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정보처리 관련 분야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-325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한글 문자 체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코드 변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K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완성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조합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uni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코딩 기법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UTF-8, base64, QP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핸드폰 한글 입력 방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 검색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지식 관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동 색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문서 분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클러스터링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동 요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스팸 메일 판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용자 요구에 적합한 문서 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자연언어 인터페이스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문장 검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문자 인식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음성 인식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음성 합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문자 인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음성 인식 후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음성 합성 후처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rhythm, pau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708-A5E5-4444-8196-7E0297E6AD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2T02:00:35Z</dcterms:modified>
  <cp:revision>12</cp:revision>
  <dc:subject/>
  <dc:title>한국어 정보처리 개요</dc:title>
</cp:coreProperties>
</file>