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F8B-F8B5-4E13-BC76-AC4016B5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58E-397B-4546-9326-CFD51CD3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5DC-9BCA-4782-9BA3-525E42A4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6B0-95D5-4C62-974C-C0F81D84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EEED-98C3-4BC3-8012-EF60994A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D21B-2E9C-4786-9ADF-B96E62C2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AFDB-C3C7-49D7-A761-E5D3E348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17F2-370E-4B80-9AA9-2AB9E9C9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D1CF-D608-4115-8C77-382DFB38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A342-A936-4D00-87DC-0575C08E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CC0F-AE8A-4FB0-AA9C-33583055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87C-7202-441B-9245-A5E3B55F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7CAA-2F57-4B41-A290-6B2CA3B6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4CF8-D793-4F61-B38F-C83A1727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6AE9-2335-44A5-BE9E-75D9F028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B304-FE39-4220-904C-FD9255CD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6574-959B-4816-B235-C55E5734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906-E508-4DC9-8329-F74DDBAE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ECE-F1E5-4AEF-90E9-9A51264B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800-6DE2-40AE-9F4D-FA070B2E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39F-A86F-433C-A91F-62DA2EC5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B31-5F58-4233-85CB-7B0C5D4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F52-D823-48A1-B310-A83D865F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2B5-9A36-4205-B863-42F68138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7C75-5BA1-445B-87DD-4016024814D4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B0FD-98EF-47E6-AECC-4604ECEF997A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4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조사</a:t>
            </a: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/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어미의 음절 특성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조사와 어말어미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2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국어사전에 수록된 것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사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150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여 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복합조사 포함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2,000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여 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말어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500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여 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복합어미 포함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2,000 ~ 3,000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여 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복합조사와 복합어미를 포함한 조사와 어말어미는 미등록어가 거의 없다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조사와 어말어미는 사용 빈도에 따라 고빈도어와 저빈도어로 구분이 된다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13A-B248-45E3-AEDB-853C1AA1DD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조사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,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말어미의 출현 빈도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70% :  9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90% : 20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95% : 32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99% : 69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어말어미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70% :  10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90% :  33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95% :  54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99% : 117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C7D-D2A4-4F12-8FC2-5E20751FE7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조사의 누적 빈도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79640" y="1447920"/>
          <a:ext cx="698796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447920"/>
                    <a:ext cx="69879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8DB-6534-45CF-8081-08A994DF5C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말어미의 누적 빈도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1447920"/>
          <a:ext cx="8001000" cy="449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0100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7E6-8840-418D-92A7-0830CD6DB8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체언과 조사의 결합 제약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자음으로 끝나는 체언에만 결합되는 조사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이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은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을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모음으로 끝나는 체언에만 결합되는 조사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고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든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랑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며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고유명사와 결합할 때 조음소 ‘이’ 삽입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와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자음으로 끝나는 체언과 결합할 때 ‘이’ 삽입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든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랑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며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260-24E5-40F6-B5F9-401AC9952A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말어미의 결합 제약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은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는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를’이 모음으로 끝나는 어간과 결합할 때 ‘ㄴ’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’로 축약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ㄴ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ㄹ’로 끝나는 어절을 분석할 때 항상 ‘ㄴ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ㄹ’이 축약 어미일 가능성이 있으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는’으로 끝나는 단어는 ‘ㄴ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ㄹ’이 어미일 가능성이 없음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으’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느’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을’로 끝나는 용언은 소수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예외 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느’로 끝나는 용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감쪼으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그러모으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근사모으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긁어모으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모으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그느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까무느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꼬느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노느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더느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무느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을’로 끝나는 용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개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그을다’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‘그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ㄹ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르’로 끝나는 용언은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208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개이며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예외 처리 곤란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66A-C201-4576-A33C-E6AED57B9E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3T12:32:51Z</dcterms:modified>
  <cp:revision>36</cp:revision>
  <dc:subject/>
  <dc:title>한국어 정보처리 개요</dc:title>
</cp:coreProperties>
</file>