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8897-0653-46BF-84A8-B6613EEB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EA60-8714-4778-B4F7-50D43019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DD0-6098-4801-830E-826B6331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804-8C5D-4C07-A9F5-B8058A42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DAEE-EC0B-4E57-B314-EBE4A9C6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C994-2E7B-4F3A-95E2-E0D4B738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43E7-CD44-45DA-AFEF-32436C4A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9FC4-BC71-42E3-9859-5A335F70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BE67-E693-49C0-B87C-E4A6D18B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AAD9-BDC0-4A7D-AD4B-40BC4DED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237D-9BC8-47C9-BABF-2B6B0BA3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392-4079-41BF-928E-6566FED8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A8D2-1D6D-499C-8D23-4E400FC6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FEA2-4066-4917-B3BF-9003548B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9D52-56D6-44B7-A7B7-6D462096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DBED-46D3-48B9-B42D-E224A746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3901-F62C-4CC9-82D6-FBCE9142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541-B80C-43EF-97C0-245DA895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2186-2CDC-4E24-948C-3826EBAA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6CCE-E401-45A6-816F-807D094E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51B-5853-44F6-9055-6C03EEEB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7BE8-9B2C-4091-9000-A92CFE2B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985-20C9-41F3-9769-E3EFCE88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5B5-E2B6-4175-AEE2-C0C0F5ED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DBDE-649E-48F5-807E-8F506AF22AD0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2294-0A68-47F7-95E6-A712E4131830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13. 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과 후보 생성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⑤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단일형태소 분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조사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 분리되지 않거나 단일형태소 가능 어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벨기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충무로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부사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관형사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감탄사 확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명사 확인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명사 접미사 ‘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적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화’ 등 분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⑥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복합어 추정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체언 추정 형태소가 사전에 수록되지 않은 경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4~7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음절의 복합명사 패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⑦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준말처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키로’ 등 적용 범위가 넓은 것과 좁은 것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⑧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미등록어 추정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조사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 분리 결과 및 어절 형성 규칙에 따라 추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⑨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후처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응용 분야에 적합한 출력 결과 생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조사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의 변이체 ‘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ㅆ’ 출력 형태 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249-7891-42C6-BAD2-0E1ED3E49B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분석 후보 생성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문법형태소 분리에 의한 후보 생성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형태론적 변형에 의한 후보 생성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단일 명사 혹은 독립언 분석 후보 생성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①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는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단일 명사 또는 독립언 후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②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는’  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체언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조사 후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③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는’  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용언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 후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④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갈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는’  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‘ㄹ’ 탈락 후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⑤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느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ㄴ’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용언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 후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⑥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늘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ㄴ’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‘ㄹ’ 탈락 후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⑦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늫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ㄴ’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‘ㅎ’ 변형 후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635-709F-42A6-ACBD-2E8AD54764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단일어 후보 제약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단일어 후보 제약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1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2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음절 이상의 문법 형태소가 분리된 어절은 단일어로 분석될 가능성이 매우 낮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단일어 후보 제약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2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는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를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에’로 끝나는 어절은 단일어 혹은 독립언으로 분석될 가능성이 거의 없으며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은’으로 끝나는 어절은 단일어 혹은 독립언으로 분석될 가능성이 매우 낮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예외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고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노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마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빌어먹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젠장맞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누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멍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성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벨기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오보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마로니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샹들리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아틀리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의’로 끝나는 어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4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음절 이상은 ‘주의’로 끝나는 것만 단일어 후보 생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CD0-461C-4739-878A-169C960B9C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문법 형태소 분리 제약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문법 형태소 분리 제약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1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2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음절 이상의 조사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가 분리된 어절은 어미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조사가 분리될 가능성이 없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예외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김치라면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문법 형태소 분리 제약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2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최장 문법 형태소가 분리된 분석 후보와 최장 문법 형태소보다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1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음절 짧은 문법 형태소에 대한 후보만 생성한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①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학교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에서만은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②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학교에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서만은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③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학교에서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만은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후보생성 안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④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학교에서만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은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후보생성 안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B62A-95C1-4153-8EC3-0F525A0DF9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</a:rPr>
              <a:t>‘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아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/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어’의 변이체 유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아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어’가 탈락되는 경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어’가 ‘러’로 바뀌는 경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어’가 ‘여’로 바뀌는 경우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(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여’ 불규칙에서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명령형 어미 ‘어라’가 ‘거라’ 혹은 ‘너라’로 바뀌는 경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어’가 어간의 말음 ‘ㅗ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ㅜ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ㅚ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ㅣ’와 결합하여 ‘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ㅝ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ㅕ’로 축약되는 경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5638-7B8F-434A-8F3E-D7A52F2886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미 분리 조건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미 분리조건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1]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규칙 용언과 규칙 어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규칙 용언과 어간만 변하는 불규칙 용언의 어미부가 문법 형태소 사전에 어미로 등록되어 있으면 이를 어미로 추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미 분리조건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2]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ㄴ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ㄹ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ㅁ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ㅂ’으로 시작되는 어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간부가 받침 ‘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ㄹ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ㅁ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ㅂ’으로 끝나고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ㄹ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ㅁ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ㅂ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 문법 형태소 사전에 어미로 등록되어 있으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(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ㄹ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ㅁ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ㅂ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를 어미로 추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미 분리조건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3]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하여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거라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너라’ 불규칙 어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간부의 마지막 음절과 어미부의 첫 부분이 각각 ‘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와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여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와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거라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와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너라’이면 어미부를 어미로 추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583-E96B-4510-9349-EA6044B703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미 분리조건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4]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가 탈락되는 어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간부 끝 음절이 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가 아니고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 문법 형태소 사전에 어미로 등록되어 있으면 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가 생략된 어미로 추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미 분리조건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5]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로 시작되는 어미의 변이체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간부 끝 음절의 중성이 ‘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ㅝ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ㅕ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ㅔ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ㅒ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ㅙ’이고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 문법 형태소 사전에 어미로 등록되어 있으면 ‘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’의 변이체 어미로 추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미 분리조건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6]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푸’ 불규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간부가 ‘퍼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이고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 문법 형태소 사전에 어미로 등록되어 있으면 ‘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’가 생략된 어미로 추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539-3CBD-484A-851A-6FBF2C9D58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말어미 결합 제약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동사에만 결합되는 어말어미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현재형 어미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는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현재형 어미 ‘는’은 예외적으로 형용사 ‘있다’ 또는 ‘없다’와 결합 가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청유형 어미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자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자고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자는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ㅂ시다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명령형 어미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세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세요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형용사에만 결합되는 어말어미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고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느니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는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마는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만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면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단다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답시고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디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1506-7FE5-4E5A-878B-8C94B1D8B9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서술격 조사 ‘이’와 결합되는 어말어미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동사 혹은 형용사에만 결합되는 어미를 제외한 모든 어말 어미와 결합 가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서술격 조사에만 결합되는 어말어미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라도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라서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라야만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라고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고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구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구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구먼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군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군요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라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’로 시작되는 어말어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0B9-079A-4E32-AEB1-0AD29899B3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전처리 기능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8000"/>
          </a:bodyPr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한글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 부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시스템이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숫자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한글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 1990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년도에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영문자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 system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을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instal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하다가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 부호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한글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 부호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한글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법교정기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 부호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영문자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 부호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한글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 KoCS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영문자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미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 부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 system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을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instal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했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한글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 부호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영문자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 부호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법교정기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KoCS)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한글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 부호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영문자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숫자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부호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부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시스템이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[Kang90]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EB3-8529-4399-8FF8-D158BD8D9E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언어별 형태소 분석 특성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언어별 형태소 분석 모델의 주요 관점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영어 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형태론적 변형 문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한국어 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형태소 분리 문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일본어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중국어 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단어 분리 문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EB05-EFCD-415D-A03F-8B4E6CC49D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 오류 유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맞틀 오류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옳은 어절을 분석하지 못하는 오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엉뚱 오류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옳은 어절을 엉뚱하게 잘못 분석하는 오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틀맞 오류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틀린 어절을 옳게 분석하는 오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9551-72A9-4CFB-95C6-FC606980F5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기의 세부 기능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1)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형태소 분리 기능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조사와 어말어미의 분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붙여쓰기가 허용되는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1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음절 체언과 보조 용언의 분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접두사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접미사의 분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문장부호의 분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2)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원형 복원 기능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불규칙 원형 복원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미 아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의 변이체 복원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생략된 서술격 조사 복원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D14-7DCC-47DB-A333-34EA8702CF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8000"/>
          </a:bodyPr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3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형태소간의 결합 관계 검사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미의 결합 관계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체언과 조사의 결합 관계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용언과 어미의 결합 관계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인명과 조사의 결합 관계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접미사의 결합 관계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매개모음이 삽입되는 조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미의 결합 관계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모음조화를 따르는 어미의 결합 관계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4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기타 필요한 기능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 부호와 숫자의 처리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복합어와 미등록어의 인식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복합명사 분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준말 처리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사전 탐색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DEC-1F1C-42FA-80D3-98DC3C1DF6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리 기준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조사와 어미를 분석하기 위한 기준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1.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조사는 통합형으로 분석한다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2.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선어말 어미는 통합형으로 분석한다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3.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말 어미와 조사의 결합을 통합형으로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접사를 분리하기 위한 기준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4.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접두사는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접두사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근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)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을 사전에 수록한다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접두사와 어근을 분리하기 위한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routine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제공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5.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접미사는 각 유형에 따라 처리한다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2B3-6C49-46BB-AC07-AE6BD74565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리 기준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붙여쓰기 허용되는 낱말들의 분리 기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6.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붙여쓰기 허용되는 단음절어의 결합형을 사전에 수록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7.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보조 용언은 유형에 따라 처리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불규칙 용언의 처리 기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8.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불규칙 용언은 어간과 불규칙 정보를 사전에 수록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미 변이체를 분리하기 위한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routine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제공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B19B-D856-4D8F-9382-8186706A17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다단계 모델에 의한 형태소 분석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①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전처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입력 문자열에서 어절 추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문장 부호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숫자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영문자와 같이 형태소 분석 대상이 되지 않는 문자들의 분리 혹은 제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문장부호는 별개의 어절로 분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불필요한 문자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제어문자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특수문자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Tag 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등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) 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제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한글 코드를 내부 코드로 변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조합형 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or 3 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바이트 코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②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문법형태소 분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절을 구성하는 각 형태소 분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절 형성 규칙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word-formation rule)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에 따라 조사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 분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가 분리된 경우는 선어말어미 분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휘형태소와 문법형태소간의 결합관계를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불규칙 활용 가능성 검사 및 원형 복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BC4-10ED-4A4E-A576-26EDECAB87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③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체언 분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조사 분리된 분석 후보에 대하여 체언 분석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휘 형태소 사전에서 체언 확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접미사 분리 후 사전 탐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명사형 전성어미 발견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용언 분석 단계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④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용언 분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 분리된 분석 후보에 대하여 용언 분석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휘형태소 사전에서 용언 확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용언화 접미사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스럽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키’ 등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서술격 조사 ‘이’ 발견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or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생략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체언 분석 단계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보조 용언 확인 및 본 용언 분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0AA-9A4E-42C1-833A-006D6B808C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7-23T12:05:21Z</dcterms:modified>
  <cp:revision>35</cp:revision>
  <dc:subject/>
  <dc:title>한국어 정보처리 개요</dc:title>
</cp:coreProperties>
</file>