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9FFE-5347-40E0-84D1-40982A5F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08F6-EF58-43B0-A935-6EBB5C26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4B7-CE24-4224-92B4-79370201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C8A-F603-49A2-A6AA-7299B93A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8F05-5BDA-49C8-8957-CFB8B183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B9C1-99F0-46CB-92B1-4D60EA83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06CD-54D5-4563-8D63-682C194F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C084-3FC0-4509-915E-CE58D694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D37F-1BD0-4B33-93E2-1A863EF6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3F69-699E-425E-B689-8299DEF6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32EE-760D-4AB4-98BE-7A539F80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76F-C37B-4F6D-BE85-34041B3E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E3AB-D286-47C4-A821-8261DDC8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A6E4-0A42-4A41-AEE4-20CCBB50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F4A1-75C8-4E90-80D9-82E4DB28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82AA-3317-4084-B2E5-BC04F396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3C8E-B114-4B4C-8AAC-4F5B19B3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5BAB-5B13-4C82-BCAA-BB5A3C16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695-7886-467C-AD68-C1C2B47A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9D4-EAB3-4228-8CE4-494021F7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C27-D30B-48D8-B4BC-2F0345EA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5AB2-E835-4A5F-B45C-C6655001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942-DD37-4025-BF29-1D3480E6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83C-7E08-4F97-AE12-85BEDC94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2DAE-3E5B-4250-A7A6-979D84A5E70C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7DDE-4F09-4E4D-B8EC-21D62B356FBC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3. 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한글 코드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7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월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 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영문 코드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EBCDIC : IB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정보 교환을 위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xtended BCD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코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ASCII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코드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영문자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5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대문자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0x41~0x5A,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소문자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0x61~0x7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숫자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0x31~0x3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특수문자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3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제어문자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0x00~0x1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8280-348B-4E5A-85F9-B7DE52C134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글 코드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N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바이트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, 3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바이트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상용 조합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KS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완성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2,35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UC-K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KS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완성형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+ AS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KS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완성형 한자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4,88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확장 한글 코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8,822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유니코드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840-9E6B-4456-95F2-75ED1C9054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N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바이트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, 3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바이트 코드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8000"/>
          </a:bodyPr>
          <a:p>
            <a:pPr marL="325080" indent="-325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N 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바이트 코드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0160" indent="-2127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4+5+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문 대문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[, \, ], ^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모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문 소문자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mapp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 음절에 대해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~5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바이트까지 가변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8480" indent="-2160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안녕’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^NWbDDjW^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3 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바이트 코드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0160" indent="-2127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복자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ㄳ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ㅀ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복모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ㅢ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자적인 코드를 부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모든 음절을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바이트로 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한글 앞뒤에 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SI, SO 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문자로 영문과 구분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0160" indent="-2127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I(shift-in) : ctrl-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O(shift-out) : ctrl-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DD4-5AF9-4E9C-BA73-C20EC4C607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상용 조합형 한글 코드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초성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중성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종성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각각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5 bits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코드 부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모든 음절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바이트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(1 + 15 bits)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로 조합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MSB 1 bit 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한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영 구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5 bits 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초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5 bits 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5 bits 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종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제 표준을 따르지 않음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F979-B390-48F8-BF60-340F251EE7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KS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완성형 한글 코드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11,172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굴림"/>
              </a:rPr>
              <a:t>자 중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2,350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굴림"/>
              </a:rPr>
              <a:t>자에 대한 코드 부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 ‘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굴림"/>
              </a:rPr>
              <a:t>가’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(0xB0A1) ~ ‘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굴림"/>
              </a:rPr>
              <a:t>힝’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(0xC8FE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상위 바이트 변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 0xB0 ~ 0xC8 (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가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하위 바이트 변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 0xA1 ~ 0xFE (9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가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굴림"/>
              </a:rPr>
              <a:t>자모 코드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자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 0xA4A1 ~ 0xA4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모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 0xA4BF ~ 0xA4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옛 한글 자모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 0xA4D5 ~ 0xA4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2 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굴림"/>
              </a:rPr>
              <a:t>바이트 특수 문자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상위 바이트 변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 0xA1 ~ 0x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하위 바이트 변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 0xA1 ~ 0xFE (9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가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D4F0-A2A3-4B6E-8023-DBD5D9C2BA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KS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완성형 한자 코드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2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한자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4,888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자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상위 바이트 변이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0xCA ~ 0xFD (52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가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하위 바이트 변이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0xA1 ~ 0xFE (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가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2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음가가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이상인 한자에 대해 별도 코드 부여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신명조"/>
                <a:ea typeface="신명조"/>
              </a:rPr>
              <a:t>更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신명조"/>
                <a:ea typeface="신명조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갱’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0xCBD6), 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’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0xCC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신명조"/>
                <a:ea typeface="신명조"/>
              </a:rPr>
              <a:t>樂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락’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0xD5A5), 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악’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0xE4C5), 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요’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0xE8F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한자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한글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--- 1:1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자동 변환 가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한글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한자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---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자동 변환은 안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03F-4414-451B-885C-36D0CF5E7E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유니코드 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2.0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한글 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11,172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자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서대로 코드 부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코드 범위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0xAC00) ~ 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힣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0xD7A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자모 코드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0x3131 ~ 0x314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모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0x314F ~ 0x31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채움 코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0x31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옛글 자모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0x3165 ~ 0x318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한자 코드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일 공통 한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코드 부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음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상인 한자에 하나의 코드만 부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3ED-5B6A-4B4D-9200-93089AB1EC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유니코드에서 초성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/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중성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/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종성 인식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5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초성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( (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코드값 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- 0xAC00 ) / 28 ) / 21 ) %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중성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( (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코드값 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- 0xAC00 ) / 28 ) %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종성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(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코드값 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- 0xAC00 ) %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5BA-D677-4E31-8FFE-94EF319023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0:06:18Z</dcterms:created>
  <dc:creator>강승식</dc:creator>
  <dc:description/>
  <dc:language>en-US</dc:language>
  <cp:lastModifiedBy>강승식</cp:lastModifiedBy>
  <dcterms:modified xsi:type="dcterms:W3CDTF">2002-07-23T10:16:18Z</dcterms:modified>
  <cp:revision>16</cp:revision>
  <dc:subject/>
  <dc:title>한국어 정보처리 개요</dc:title>
</cp:coreProperties>
</file>