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7B6-2F68-484C-8D1A-33AD79FA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51C-FF6A-450B-B4D2-AEEFD8A1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74E-BD7A-42DD-97BF-9ADA63B5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857-1A1C-49FD-94B9-19487819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0193-151B-41B4-B537-F77FE1D3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3E8E-5B46-4ED6-B5B7-5336E3B6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4E45-91A9-494A-A0FE-342A206B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21E8-76DE-4B6D-8655-F25F858C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6599-AA99-4734-A340-A08A458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909B-C875-4A42-9C20-CC670DC2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7424-4BCA-41ED-8BEC-DA952187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738-A627-45F5-905C-097FBFF7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F59-C019-4905-B431-DD3568B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5B59-2209-4053-9650-D7E42744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1C97-824E-42C5-ADB0-2D4885D2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093D-3E94-436E-AB9C-E6392629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B2A8-70B8-4160-B743-B6CB70A3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FE4-84CA-47A7-8CE3-97CF2204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A3B-2057-4BFB-B6E8-B941C390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7D7-99BC-4192-9F79-9B9E0F47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195-6767-4AA9-8266-B138FC8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794-1298-48A6-8CD6-B69CE3A9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192-EE5B-45AA-A839-75FB4B68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C9A-40D2-4549-A457-2E92FDF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7F63-BBD9-471E-8CD8-01598D8F4B64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36CA-B4B3-4C95-851F-04A70FF9C411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8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품사 표지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품사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9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품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명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대명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수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용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부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관형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감탄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23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논점</a:t>
            </a:r>
            <a:r>
              <a:rPr b="0" lang="en-US" sz="33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endParaRPr b="0" lang="en-US" sz="3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선어말어미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접두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접미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의존명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보조용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자동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타동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81A-1C58-4549-9072-8ADADA40F2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휘 형태소의 품사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3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휘 형태소의 품사 분류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--- 3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PXM  ‘N’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체언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명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수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의존명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VJXV  ‘V’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용언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동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AID   ‘Z’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기타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부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C78-0F4F-4E17-8B50-4DDE67EA6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휘 형태소의 품사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5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휘 형태소의 품사 분류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--- 5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PXM  ‘N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체언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명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수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의존명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VJXV  ‘V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용언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동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ADV   ‘B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부  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DET   ‘D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EXCL  ‘L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B3F-659D-4E70-A4BE-CE1EAE0B69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휘 형태소의 품사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10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휘 형태소의 품사 분류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- 10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분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OUN  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N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명  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PNOUN 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P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XNOUN 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U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의존명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UMER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M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수  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VER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V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동  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ADJ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J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XVER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W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AD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B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부  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DET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D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EXC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L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6BD-9C3A-4F89-8D4F-CD84C5A1B1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문법 형태소의 품사 분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을 위한 문법 형태소의 품사 분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JOSA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j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조  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COPULA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c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서술격 조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EOMI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e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말어미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PEOMI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f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어미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EOMI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n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명사형 어미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PREFIX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p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SFX_N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s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체언 접미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들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적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등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SFX_V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t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용언화 접미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하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되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시키‘ 등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644-2FE2-4334-B734-FCCDC97324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</a:rPr>
              <a:t>10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에 의한 품사 표지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-1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6880" y="1447560"/>
            <a:ext cx="39610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체언의 세부 표지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N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P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P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X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U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NUMER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M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용언의 세부 표지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VERB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V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XVERB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W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ADJ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J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XADJ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K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295280"/>
            <a:ext cx="3657600" cy="5081760"/>
          </a:xfrm>
          <a:prstGeom prst="rect">
            <a:avLst/>
          </a:prstGeom>
          <a:noFill/>
          <a:ln w="0">
            <a:solidFill>
              <a:srgbClr val="306994"/>
            </a:solidFill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부사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 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ADV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B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DET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D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EXCL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L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접사 등 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JOSA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j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CORP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c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EOMI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e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POMI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f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NSFX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s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VSFX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t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PUNC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q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SYMB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Q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CC0-29E1-4A8C-97AF-07553FD1D5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</a:rPr>
              <a:t>10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에 의한 품사 표지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-2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6880" y="1447560"/>
            <a:ext cx="39610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NN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P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NP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X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NX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NUMER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NU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VERB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VV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ADJ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VJ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f35b1b"/>
                </a:solidFill>
                <a:latin typeface="굴림체"/>
                <a:ea typeface="굴림체"/>
              </a:rPr>
              <a:t>#define KTAG_XVERB</a:t>
            </a:r>
            <a:r>
              <a:rPr b="0" lang="en-US" sz="1800" spc="-1" strike="noStrike">
                <a:solidFill>
                  <a:srgbClr val="f35b1b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f35b1b"/>
                </a:solidFill>
                <a:latin typeface="굴림체"/>
                <a:ea typeface="굴림체"/>
              </a:rPr>
              <a:t>"VX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447920"/>
            <a:ext cx="3657600" cy="4218840"/>
          </a:xfrm>
          <a:prstGeom prst="rect">
            <a:avLst/>
          </a:prstGeom>
          <a:noFill/>
          <a:ln w="0">
            <a:solidFill>
              <a:srgbClr val="306994"/>
            </a:solidFill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ADV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AD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DET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DT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EXCL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IJ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JOSA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JO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CORP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CP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EOMI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EM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POMI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EP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5b1b"/>
                </a:solidFill>
                <a:latin typeface="굴림체"/>
                <a:ea typeface="굴림체"/>
              </a:rPr>
              <a:t>#define KTAG_SFX</a:t>
            </a:r>
            <a:r>
              <a:rPr b="0" lang="en-US" sz="1600" spc="-1" strike="noStrike">
                <a:solidFill>
                  <a:srgbClr val="f35b1b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f35b1b"/>
                </a:solidFill>
                <a:latin typeface="굴림체"/>
                <a:ea typeface="굴림체"/>
              </a:rPr>
              <a:t>"SF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PUNC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SM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SYMB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SY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433-0CC3-4DEE-8E69-98D557C720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품사 표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</a:rPr>
              <a:t>ETRI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품사 표지 표준안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세종계획 품사 표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056-4837-4B01-8E05-F6B49AFC92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4:09:27Z</dcterms:modified>
  <cp:revision>27</cp:revision>
  <dc:subject/>
  <dc:title>한국어 정보처리 개요</dc:title>
</cp:coreProperties>
</file>