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41A6-254E-4AED-A5FF-77BAC5FD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AB9B-2C6F-4450-8448-91714E4D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DC36-5D7C-498E-B7BE-121E9F8AA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5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28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7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5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28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FC5E-AF6D-4337-9DFC-0C07EE298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0356-DEE4-46DD-81E1-BB2E3284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1840-A199-49F0-B8B0-739A531E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1D15-0E99-41A1-9F88-1BD7E22B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1BEF-EA8C-4807-87B3-49782573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361B-71CB-4654-B9A3-A4546289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91600"/>
            <a:ext cx="78487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99BD-6049-4A04-8EFF-B4BEADEE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933F-9618-4204-BFFA-06BC4DB4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3551-6B61-492E-8D7E-F47F5182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B214-7457-41C7-81AE-59E924EE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D86F-6741-41F7-BB1D-1DC915A5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08DA-2BF1-4619-A18B-FA50E960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0B13-AE77-42C5-9BD9-5946B52D8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5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28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7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5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28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9EDF-04D6-4CB6-8948-577B64D81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ED48-0FB2-475F-A93C-72D13A6A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1D38-397D-48A7-AF5A-18F7BC87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A12D-F1C5-4DE1-B80D-84D80519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91600"/>
            <a:ext cx="78487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4362-A8D1-482B-A12B-544118C1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5017-47E0-4B45-B1D7-29EED849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44D2-CD20-4BB1-A7D8-AEE605AD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367E-34B8-4B80-8FC1-324E551F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&lt;date/time&gt;</a:t>
            </a: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505050"/>
                </a:solidFill>
                <a:latin typeface="Arial"/>
              </a:rPr>
              <a:t>http://nlp.kookmin.ac.k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70AF-1304-4EE6-87E4-C5DAB808315C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998640" indent="-2206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279440" indent="-166680"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1560600" indent="-1666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1560600" indent="-166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1560600" indent="-166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06640"/>
            <a:ext cx="8001000" cy="64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" name="kookmin" descr=""/>
          <p:cNvPicPr/>
          <p:nvPr/>
        </p:nvPicPr>
        <p:blipFill>
          <a:blip r:embed="rId2"/>
          <a:stretch/>
        </p:blipFill>
        <p:spPr>
          <a:xfrm>
            <a:off x="304920" y="6324480"/>
            <a:ext cx="377640" cy="3812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95360" y="6238800"/>
            <a:ext cx="2209680" cy="2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C3DC-D497-430E-9ECF-8AA77F082FEF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pic>
        <p:nvPicPr>
          <p:cNvPr id="48" name="kookmin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679320" cy="685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440" indent="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501480" indent="0" algn="ctr">
              <a:spcBef>
                <a:spcPts val="901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5960" algn="ctr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27320" algn="ctr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70120" algn="ctr"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4000" spc="-1" strike="noStrike">
                <a:solidFill>
                  <a:srgbClr val="cd0355"/>
                </a:solidFill>
                <a:latin typeface="Arial"/>
                <a:ea typeface="굴림"/>
              </a:rPr>
              <a:t>19. </a:t>
            </a:r>
            <a:r>
              <a:rPr b="1" i="1" lang="zh-CN" sz="4000" spc="-1" strike="noStrike">
                <a:solidFill>
                  <a:srgbClr val="cd0355"/>
                </a:solidFill>
                <a:latin typeface="Arial"/>
                <a:ea typeface="굴림"/>
              </a:rPr>
              <a:t>형태소 분석기의 구현</a:t>
            </a:r>
            <a:endParaRPr b="1" i="1" lang="en-US" sz="40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7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월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국민대학교 컴퓨터학부 강승식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분석 알고리즘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: 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문장 수준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724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3000"/>
          </a:bodyPr>
          <a:p>
            <a:pPr marL="30852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void morph_anal(sent, sout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char *sent;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입력 문장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HAM_MORES *sout;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sent-level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분석 결과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char *aWord;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input word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int i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out-&gt;nword = sent2words(sent, sout, mode); /*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어절 분리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for (i = 0; i &lt; sout-&gt;nword; i++)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aWord = sout-&gt;word[i].phon;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분석 대상 어절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analyze 'aWord' &amp; result is saved in 'sout-&gt;word[i]'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sout-&gt;word[i].retcode = KMA(aWord, (sout-&gt;word)+i, mode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convert Josa/Eomi to base or original form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B3F3-0F19-4E87-B0C7-BF11F29105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분석 알고리즘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: 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어절 수준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724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8000"/>
          </a:bodyPr>
          <a:p>
            <a:pPr marL="32508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int KMA(word, wout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char *word;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입력 어절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HAM_WORD *wout;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word-level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분석 결과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int n;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분석 결과 개수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initialize(wout);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초기화 및 기분석 사전 탐색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n = tail_guess(word, wout); /*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조사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어미 분리 후보 생성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n = head_confirm(wout, n);  /*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어근부 인식 및 사전 탐색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if (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분석 실패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)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복합명사 인식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축약어 처리 등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n = postproc(word, wout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return n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31DC-530B-4166-8BAD-35186967D0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형태소 분석 결과의 생성 기법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110000"/>
              </a:lnSpc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원형 복원법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>
              <a:lnSpc>
                <a:spcPct val="11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가서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가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400" spc="-1" strike="noStrike" u="sng">
                <a:solidFill>
                  <a:srgbClr val="000000"/>
                </a:solidFill>
                <a:uFillTx/>
                <a:latin typeface="굴림체"/>
                <a:ea typeface="굴림체"/>
              </a:rPr>
              <a:t>어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서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왔다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오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400" spc="-1" strike="noStrike" u="sng">
                <a:solidFill>
                  <a:srgbClr val="000000"/>
                </a:solidFill>
                <a:uFillTx/>
                <a:latin typeface="굴림체"/>
                <a:ea typeface="굴림체"/>
              </a:rPr>
              <a:t>었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11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학교로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학교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400" spc="-1" strike="noStrike" u="sng">
                <a:solidFill>
                  <a:srgbClr val="000000"/>
                </a:solidFill>
                <a:uFillTx/>
                <a:latin typeface="굴림체"/>
                <a:ea typeface="굴림체"/>
              </a:rPr>
              <a:t>으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로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막았다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막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400" spc="-1" strike="noStrike" u="sng">
                <a:solidFill>
                  <a:srgbClr val="000000"/>
                </a:solidFill>
                <a:uFillTx/>
                <a:latin typeface="굴림체"/>
                <a:ea typeface="굴림체"/>
              </a:rPr>
              <a:t>었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10000"/>
              </a:lnSpc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원형 보존법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>
              <a:lnSpc>
                <a:spcPct val="11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가서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가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서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왔다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오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400" spc="-1" strike="noStrike" u="sng">
                <a:solidFill>
                  <a:srgbClr val="000000"/>
                </a:solidFill>
                <a:uFillTx/>
                <a:latin typeface="굴림체"/>
                <a:ea typeface="굴림체"/>
              </a:rPr>
              <a:t>0</a:t>
            </a:r>
            <a:r>
              <a:rPr b="0" lang="ko-KR" sz="2400" spc="-1" strike="noStrike" u="sng">
                <a:solidFill>
                  <a:srgbClr val="000000"/>
                </a:solidFill>
                <a:uFillTx/>
                <a:latin typeface="굴림체"/>
                <a:ea typeface="굴림체"/>
              </a:rPr>
              <a:t>았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11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학교로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학교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로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막았다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막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400" spc="-1" strike="noStrike" u="sng">
                <a:solidFill>
                  <a:srgbClr val="000000"/>
                </a:solidFill>
                <a:uFillTx/>
                <a:latin typeface="굴림체"/>
                <a:ea typeface="굴림체"/>
              </a:rPr>
              <a:t>았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10000"/>
              </a:lnSpc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자연스러운 출력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(</a:t>
            </a:r>
            <a:r>
              <a:rPr b="0" i="1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‘</a:t>
            </a:r>
            <a:r>
              <a:rPr b="0" i="1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아</a:t>
            </a:r>
            <a:r>
              <a:rPr b="0" i="1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i="1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’만 원형으로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>
              <a:lnSpc>
                <a:spcPct val="11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가서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가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400" spc="-1" strike="noStrike" u="sng">
                <a:solidFill>
                  <a:srgbClr val="000000"/>
                </a:solidFill>
                <a:uFillTx/>
                <a:latin typeface="굴림체"/>
                <a:ea typeface="굴림체"/>
              </a:rPr>
              <a:t>어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서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왔다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오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400" spc="-1" strike="noStrike" u="sng">
                <a:solidFill>
                  <a:srgbClr val="000000"/>
                </a:solidFill>
                <a:uFillTx/>
                <a:latin typeface="굴림체"/>
                <a:ea typeface="굴림체"/>
              </a:rPr>
              <a:t>었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11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학교로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학교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로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막았다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막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400" spc="-1" strike="noStrike" u="sng">
                <a:solidFill>
                  <a:srgbClr val="000000"/>
                </a:solidFill>
                <a:uFillTx/>
                <a:latin typeface="굴림체"/>
                <a:ea typeface="굴림체"/>
              </a:rPr>
              <a:t>었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2DC5-A54D-4BD2-A5FD-24581C0B17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형태소 분석 결과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: 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자료 구조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 algn="just">
              <a:lnSpc>
                <a:spcPct val="14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문장 구조체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 문장 수준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 algn="just">
              <a:lnSpc>
                <a:spcPct val="14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어절 구조체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 어절 수준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 algn="just">
              <a:lnSpc>
                <a:spcPct val="14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각 형태소 분석 결과에 대한 구조체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48C1-824E-4F76-A5B7-8C5ADA0B2E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분석 결과 구조체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: 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문장 수준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87000"/>
          </a:bodyPr>
          <a:p>
            <a:pPr marL="288720" indent="0" algn="just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                                                       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88720" indent="0" algn="just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    Sentence-level output structure of HAM             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88720" indent="0" algn="just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                                                       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88720" indent="0" algn="just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typedef struct senten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88720" indent="0" algn="just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HAM_UCHAR phon[SENTSIZE];     /* raw string of sentence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88720" indent="0" algn="just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HAM_SHORT type;               /* type of the sentence 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88720" indent="0" algn="just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HAM_SHORT nword;              /* num. of words in sent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88720" indent="0" algn="just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struct ham_word word[MAXWORDS]; /* array of each word 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88720" indent="0" algn="just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} HAM_MORES, *HAM_PMORES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A305-F43B-49F2-A989-6A5425AEA0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분석 결과 구조체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: 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어절 수준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87000"/>
          </a:bodyPr>
          <a:p>
            <a:pPr marL="288720" indent="0" algn="just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                                                       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88720" indent="0" algn="just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      Word-level output structure of HAM               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88720" indent="0" algn="just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                                                       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88720" indent="0" algn="just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typedef struct ham_wor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88720" indent="0" algn="just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HAM_UCHAR phon[WORDSIZE];   /* string of input word   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88720" indent="0" algn="just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HAM_SHORT retcode;          /* HAM return code        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88720" indent="0" algn="just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HAM_SHORT nresult;          /* number of HAM results  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88720" indent="0" algn="just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struct ham_result result[MAXRESULT];  /* HAM results  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88720" indent="0" algn="just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HAM_UCHAR gr[MAXRESULT+1];  /* grade index of 'result'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88720" indent="0" algn="just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       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gr[0] : recommended number of HAM candidates   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88720" indent="0" algn="just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       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gr[1], gr[2], ...: index of 1st, 2nd, ... grade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88720" indent="0" algn="just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} HAM_WORD, *HAM_PWORD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E0D7-D6C2-48C0-8DB6-CF20B98A7C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각 형태소 분석 결과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724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7000"/>
          </a:bodyPr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typedef struct ham_result {     /*   </a:t>
            </a: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형태소 분석 결과      </a:t>
            </a: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HAM_SHORT score;            /* score of this result    */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HAM_UCHAR patn;             /*     word pattern        */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HAM_UCHAR type;             /* type of input word      */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HAM_UCHAR stem[STEMSIZE];   /* stem of input word      */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HAM_UCHAR pos;              /* 3 simplified stem type  */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HAM_UCHAR pos2;             /* pos attr. for 'pos'     */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HAM_UCHAR dinf;             /* POS info. in Han-dic    */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HAM_UCHAR nsfx;             /* index of noun suffix    */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HAM_UCHAR vsfx;             /* index of verb suffix    */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HAM_UCHAR josa[JOSASIZE];   /*     Josa string         */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HAM_PUCHAR jlist;           /*  unit-Josa sequence     */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HAM_UCHAR eomi[EOMISIZE];   /*     Eomi string         */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HAM_PUCHAR elist;           /*  unit-Eomi sequence     */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HAM_UCHAR pomi;             /* encoded prefinal Eomi   */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HAM_UCHAR xverb[XVERBSIZ];  /*     xverb string        */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/* morphological attributes */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HAM_UCHAR vtype;            /* irregular verb type     */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struct jomi_variant jomi;   /* Josa/Eomi variant info. */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} HAM_RESULT, *HAM_PRESULT;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AD86-D8BE-45AC-AE4F-55FB2C1357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조사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/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어미 변이체 정보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0000"/>
          </a:bodyPr>
          <a:p>
            <a:pPr marL="29844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                                                       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9844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      Josa/Eomi/Pomi variant information               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9844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                                                       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9844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typedef struct jomi_variant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9844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HAM_UCHAR eomi;             /* Eomi 'A/O' variant type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9844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HAM_UCHAR pomi;             /* Pomi 'A/O' variant type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9844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9844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HAM_UCHAR xomitype;         /* Eomi before aux. verb  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9844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                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0: '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아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어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, 1: '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고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, 2: '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게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, 11: '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지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9844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HAM_UCHAR xomi;             /* Eomi 'A/O' variant type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9844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9844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HAM_UCHAR josa;             /* Josa variants type     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9844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HAM_UCHAR josaAgBg;         /* 'Ag/Bg/hbDtg' info.    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9844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                      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0: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에게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, 1:'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게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, 2:'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께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, 3:'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한테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9844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} HAM_JOMIVAR, *HAM_PJOMIVAR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FA1C-4229-4D54-9F71-286543423D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형태소 분석 결과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: 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조사 변이체 유형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9000"/>
          </a:bodyPr>
          <a:p>
            <a:pPr marL="328320" indent="0">
              <a:lnSpc>
                <a:spcPct val="125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JOSA_VAR_WiAb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은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는’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,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이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가’ 구분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8320" indent="0">
              <a:lnSpc>
                <a:spcPct val="125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JOSA_VAR_Wz_tal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로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으로’ 구분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8320" indent="0">
              <a:lnSpc>
                <a:spcPct val="125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JOSA_VAR_Wi_tal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고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이고’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,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라고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이라고’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8320" indent="0">
              <a:lnSpc>
                <a:spcPct val="125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JOSA_VAR_Wg_tal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조사 ‘에서’의 ‘에’ 탈락 정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8320" indent="0">
              <a:lnSpc>
                <a:spcPct val="125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JOSA_VAR_nameWi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인명 뒤에 조음소 ‘이’ 추가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8320" indent="0">
              <a:lnSpc>
                <a:spcPct val="125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JOSA_VAR_preWi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이다’ 앞에 오는 조사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8320" indent="0">
              <a:lnSpc>
                <a:spcPct val="125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(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예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)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에서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부터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에서부터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대로’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이’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다’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8320" indent="0">
              <a:lnSpc>
                <a:spcPct val="125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JOSA_VAR_preWi2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이’ 앞에 조사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&amp;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에’ 탈락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8320" indent="0">
              <a:lnSpc>
                <a:spcPct val="125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(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예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)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학교서다’ </a:t>
            </a:r>
            <a:r>
              <a:rPr b="0" lang="ko-KR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‘학교’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‘(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에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)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서’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‘(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이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)’+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다’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8320" indent="0">
              <a:lnSpc>
                <a:spcPct val="125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JOSA_VAR_Ag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에게’의 변이체 ‘게’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8320" indent="0">
              <a:lnSpc>
                <a:spcPct val="125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JOSA_VAR_Bg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에게’의 변이체 ‘께’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8320" indent="0">
              <a:lnSpc>
                <a:spcPct val="125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JOSA_VAR_hbDtg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에게’의 변이체 ‘한테’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DA2C-25AB-4380-AEFF-203CAFE33E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형태소 분석 결과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: 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어미 변이체 유형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7000"/>
          </a:bodyPr>
          <a:p>
            <a:pPr marL="321840"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EOMI_VAR_Wb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아’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EOMI_VAR_Wf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어’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EOMI_VAR_Wj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여’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: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여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거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너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러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라’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EOMI_VAR_Wb_tal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아’ 탈락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EOMI_VAR_Wf_tal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어’ 탈락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EOMI_VAR_b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ㅏ’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EOMI_VAR_f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ㅓ’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EOMI_VAR_j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ㅕ’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EOMI_VAR_c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ㅐ’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: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해서’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,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까매서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하얘서’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EOMI_VAR_lc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ㅙ’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: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되다’에만 적용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EOMI_VAR_If, Ib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러’ 불규칙인 경우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EOMI_VAR_Wz_tal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ㄴ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ㄹ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ㅁ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ㅂ’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,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ㄹ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ㅁ’시작어미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EOMI_VAR_Uz_tal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습니다’에서 ‘스’ 탈락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EOMI_VAR_xv_Wf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보조용언 앞 어미가 ‘아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어’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EOMI_VAR_xv_Al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보조용언 앞 어미가 ‘고’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EOMI_VAR_xv_Ag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보조용언 앞 어미가 ‘게’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EOMI_VAR_Wi_tal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무종성 용언 뒤 ‘이다’ 생략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6791-EA22-4DE5-A343-2D846271B3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형태소 분석 결과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: 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선어말어미 변이체 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POMI_VAR_WbV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았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POMI_VAR_WfV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었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POMI_VAR_WjV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였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POMI_VAR_V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ㅆ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POMI_VAR_bV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ㅏㅆ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POMI_VAR_fV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ㅓㅆ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POMI_VAR_jV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ㅕㅆ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POMI_VAR_cV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ㅐㅆ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&gt;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했다에만 적용됨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POMI_VAR_lcV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ㅙㅆ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&gt;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됐다에만 적용됨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POMI_VAR_IfV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렀’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&gt;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러’ 불규칙인 경우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POMI_VAR_WzUi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으시’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&amp;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었’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POMI_VAR_WzUjV--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으시’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&amp;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ㅕㅆ’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&gt;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으셨’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CD8E-E83A-4808-9B73-A645128989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5T00:06:18Z</dcterms:created>
  <dc:creator>강승식</dc:creator>
  <dc:description/>
  <dc:language>en-US</dc:language>
  <cp:lastModifiedBy>강승식</cp:lastModifiedBy>
  <dcterms:modified xsi:type="dcterms:W3CDTF">2002-07-23T14:27:40Z</dcterms:modified>
  <cp:revision>25</cp:revision>
  <dc:subject/>
  <dc:title>한국어 정보처리 개요</dc:title>
</cp:coreProperties>
</file>